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FA2AA-502E-4BC0-9A94-7F3EB11037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of pure substances for colle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– to separate and identify components of mix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ral different types - paper, thin layer, gas-liqu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use the principle of “partition” - affinity between two phases, to separate mixtures of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onary phase &amp;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with greatest affinity for mobile phase travel fur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chromatography need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material – stationary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vent (or carrier gas) – mobile ph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Rf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unds that have high affinity for mobile phase emerge first, (most volati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atogram charts recorder response against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component - separate pea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ention time – characteristic of the compound under given cond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retention t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ngth of colum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ing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w rate of carrie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of colum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ibration – known compounds are added to the column and conditions kept consta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ount of substance – area under peak / peak he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 proportions can be determ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0D5-547A-4ECA-AC46-F90736C4A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C734-297F-422C-A5FB-F5EC1AD4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043-FA43-4F81-A019-F2D56B53A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F20-7007-48AF-AF48-FFC80DDA3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FA8E-8501-4505-A80F-B3D7549C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F1C0-CC9A-4158-8F7E-86B88947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CEDA-8904-4028-BB8D-3E7A24AB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7B6C-8988-4FE5-A5F8-533909A6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49A-2C9F-49C9-A246-760F6335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8E31-D5C5-4B46-935F-73ACC39B8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3E97-870B-46D6-AB14-FD452D2A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4A95-759F-45E6-9A16-F8FA936B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98DE-8778-49C3-B3D9-5FEAF7CE08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emical Ideas 7.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hromatogra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Uses of G.l.c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ery sensitive - small quantities of substances detected, explosives, drugs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paration of </a:t>
            </a: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pu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ubstances for coll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be connected to mass spectrometer for direct identification of subst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9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4" dur="5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9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general principl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Use – to separate and identify components of mix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everal different types - paper, thin layer, gas-liqu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All use the principle of “partition” - affinity between two phases, to separate mixtures of substan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tationary phase &amp;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ompounds with greatest affinity for mobile phase travel fur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All chromatography needs</a:t>
            </a:r>
            <a:r>
              <a:rPr b="0" lang="en-GB" sz="36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Object 8"/>
          <p:cNvGraphicFramePr/>
          <p:nvPr/>
        </p:nvGraphicFramePr>
        <p:xfrm>
          <a:off x="838080" y="2944800"/>
          <a:ext cx="7696440" cy="3632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944800"/>
                    <a:ext cx="7696440" cy="36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upport material – stationary 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olvent (or </a:t>
            </a:r>
            <a:r>
              <a:rPr b="1" lang="en-GB" sz="2400" spc="-1" strike="noStrike">
                <a:solidFill>
                  <a:srgbClr val="0000ff"/>
                </a:solidFill>
                <a:latin typeface="Courier New"/>
              </a:rPr>
              <a:t>carrier ga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) – mobile ph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2" descr="thin layer"/>
          <p:cNvPicPr/>
          <p:nvPr/>
        </p:nvPicPr>
        <p:blipFill>
          <a:blip r:embed="rId1"/>
          <a:stretch/>
        </p:blipFill>
        <p:spPr>
          <a:xfrm>
            <a:off x="457200" y="2133720"/>
            <a:ext cx="4343400" cy="32320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Thin Layer Chromatography - t.l.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ries of spots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are samples in mixture with known substa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asure R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valu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loured compounds &amp; colourless compou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eparation and identificatio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5" descr="phases"/>
          <p:cNvPicPr/>
          <p:nvPr/>
        </p:nvPicPr>
        <p:blipFill>
          <a:blip r:embed="rId1"/>
          <a:stretch/>
        </p:blipFill>
        <p:spPr>
          <a:xfrm>
            <a:off x="609480" y="2057400"/>
            <a:ext cx="4191120" cy="351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rf value"/>
          <p:cNvPicPr/>
          <p:nvPr/>
        </p:nvPicPr>
        <p:blipFill>
          <a:blip r:embed="rId2"/>
          <a:stretch/>
        </p:blipFill>
        <p:spPr>
          <a:xfrm>
            <a:off x="4952880" y="2057400"/>
            <a:ext cx="37339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8" descr="glc"/>
          <p:cNvPicPr/>
          <p:nvPr/>
        </p:nvPicPr>
        <p:blipFill>
          <a:blip r:embed="rId1"/>
          <a:stretch/>
        </p:blipFill>
        <p:spPr>
          <a:xfrm>
            <a:off x="380880" y="2057400"/>
            <a:ext cx="4724640" cy="2690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Gas - Liquid Chromatography G.l.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Group 16"/>
          <p:cNvGrpSpPr/>
          <p:nvPr/>
        </p:nvGrpSpPr>
        <p:grpSpPr>
          <a:xfrm>
            <a:off x="4724280" y="1676520"/>
            <a:ext cx="4038840" cy="3787560"/>
            <a:chOff x="4724280" y="1676520"/>
            <a:chExt cx="4038840" cy="3787560"/>
          </a:xfrm>
        </p:grpSpPr>
        <p:sp>
          <p:nvSpPr>
            <p:cNvPr id="65" name="Text Box 8"/>
            <p:cNvSpPr/>
            <p:nvPr/>
          </p:nvSpPr>
          <p:spPr>
            <a:xfrm>
              <a:off x="4724280" y="1676520"/>
              <a:ext cx="3738600" cy="39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ff"/>
                  </a:solidFill>
                  <a:latin typeface="Courier New"/>
                </a:rPr>
                <a:t>Sample </a:t>
              </a:r>
              <a:r>
                <a:rPr b="0" lang="en-GB" sz="1600" spc="-1" strike="noStrike">
                  <a:solidFill>
                    <a:srgbClr val="000000"/>
                  </a:solidFill>
                  <a:latin typeface="Courier New"/>
                </a:rPr>
                <a:t>introduced by syring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9"/>
            <p:cNvSpPr/>
            <p:nvPr/>
          </p:nvSpPr>
          <p:spPr>
            <a:xfrm>
              <a:off x="4724280" y="2514600"/>
              <a:ext cx="403884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Column 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separates components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(Heated in ove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10"/>
            <p:cNvSpPr/>
            <p:nvPr/>
          </p:nvSpPr>
          <p:spPr>
            <a:xfrm>
              <a:off x="4724280" y="3505320"/>
              <a:ext cx="403884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Detecto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monitors compounds emerging from outlet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11"/>
            <p:cNvSpPr/>
            <p:nvPr/>
          </p:nvSpPr>
          <p:spPr>
            <a:xfrm>
              <a:off x="4876920" y="4800600"/>
              <a:ext cx="365760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ff"/>
                  </a:solidFill>
                  <a:latin typeface="Courier New"/>
                </a:rPr>
                <a:t>Recorder</a:t>
              </a:r>
              <a:r>
                <a:rPr b="0" lang="en-GB" sz="1800" spc="-1" strike="noStrike">
                  <a:solidFill>
                    <a:srgbClr val="000000"/>
                  </a:solidFill>
                  <a:latin typeface="Courier New"/>
                </a:rPr>
                <a:t> plots signals as a chromatogram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12"/>
            <p:cNvSpPr/>
            <p:nvPr/>
          </p:nvSpPr>
          <p:spPr>
            <a:xfrm>
              <a:off x="6318360" y="2075040"/>
              <a:ext cx="144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13"/>
            <p:cNvSpPr/>
            <p:nvPr/>
          </p:nvSpPr>
          <p:spPr>
            <a:xfrm>
              <a:off x="6324480" y="3200400"/>
              <a:ext cx="180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14"/>
            <p:cNvSpPr/>
            <p:nvPr/>
          </p:nvSpPr>
          <p:spPr>
            <a:xfrm>
              <a:off x="6324480" y="4343400"/>
              <a:ext cx="1800" cy="39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happens in practic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ompounds that have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high affinity for mobile phas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emerge first,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(most volatil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Chromatogram charts recorder response against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Each component - separate pea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ff"/>
                </a:solidFill>
                <a:latin typeface="Courier New"/>
              </a:rPr>
              <a:t>Retention time</a:t>
            </a: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 – characteristic of the compound under given condi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urier New"/>
              </a:rPr>
              <a:t>Factors affecting retention tim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length of colum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packing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8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008000"/>
                </a:solidFill>
                <a:latin typeface="Courier New"/>
              </a:rPr>
              <a:t>typ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3333cc"/>
                </a:solidFill>
                <a:latin typeface="Courier New"/>
              </a:rPr>
              <a:t>flow rate of carrier g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0000"/>
                </a:solidFill>
                <a:latin typeface="Courier New"/>
              </a:rPr>
              <a:t>temperature of colum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glc print"/>
          <p:cNvPicPr/>
          <p:nvPr/>
        </p:nvPicPr>
        <p:blipFill>
          <a:blip r:embed="rId1"/>
          <a:stretch/>
        </p:blipFill>
        <p:spPr>
          <a:xfrm>
            <a:off x="1066680" y="1143000"/>
            <a:ext cx="7391520" cy="2502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nterpreting the t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657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Calibration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– known compounds are added to the column and conditions kept cons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mount of substance – area under peak / peak h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ourier New"/>
              </a:rPr>
              <a:t>Relative proportion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can be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2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8:32:10Z</dcterms:created>
  <dc:creator>M Tyrrell</dc:creator>
  <dc:description/>
  <dc:language>en-US</dc:language>
  <cp:lastModifiedBy>RomaK</cp:lastModifiedBy>
  <cp:lastPrinted>2002-03-13T20:23:37Z</cp:lastPrinted>
  <dcterms:modified xsi:type="dcterms:W3CDTF">2015-09-01T16:21:39Z</dcterms:modified>
  <cp:revision>19</cp:revision>
  <dc:subject/>
  <dc:title>chromatography</dc:title>
</cp:coreProperties>
</file>