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7D91D-9E17-4419-925C-9709E112D35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force that pulls all objects toward the center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force that pulls all objects toward the center of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ll or a push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ull or a push on an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cy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ouncy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I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ll at the same rate of speed, but the marble has more mass (weight) and so gravity makes it fall harder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a stronger force on things with more ma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all at the same rate of speed, but the marble has more mass (weight) and so gravity makes it fall harder!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has a stronger force on things with more mas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was harder to thr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ne was harder to throw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2B5-F7C3-4BF4-B2BD-49AC93B2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7EBD-A6D9-4968-8BA0-212BCC6D2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FD84-3229-47C9-BB2D-1CAE6941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4283-A73B-4BC2-BF53-83799F1F6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7340-48FF-4A6D-A723-777EF9D8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D7C5-93FE-41BE-BE3D-8FA457B3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56C-45FB-4888-9CF2-B20E20E1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342D-20CD-4996-AC11-430701B8F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B64B-7431-4D81-ADB4-92E085CE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1FA4-A88A-4DF8-8055-EBBEE9A1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566F-6AC5-4B8B-8B65-6E019CCF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1CE1-D294-4DD2-AF64-7DA4D245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003b3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1463-25F1-4B4B-BE4B-3D4657C82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Bard"/>
              </a:rPr>
              <a:t>Gravity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28640" y="2361960"/>
            <a:ext cx="2438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ard"/>
              </a:rPr>
              <a:t>What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33287 L -3.33333E-006 -3.81415E-006 E">
                                      <p:cBhvr>
                                        <p:cTn id="11" dur="2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Boink LET"/>
              </a:rPr>
              <a:t>Gravity</a:t>
            </a:r>
            <a:r>
              <a:rPr b="0" lang="en-US" sz="4400" spc="-1" strike="noStrike">
                <a:solidFill>
                  <a:srgbClr val="000000"/>
                </a:solidFill>
                <a:latin typeface="Boink LET"/>
              </a:rPr>
              <a:t>  </a:t>
            </a:r>
            <a:r>
              <a:rPr b="0" lang="en-US" sz="6000" spc="-1" strike="noStrike">
                <a:solidFill>
                  <a:srgbClr val="000000"/>
                </a:solidFill>
                <a:latin typeface="Boink LET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Boink LET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Binner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innerD"/>
              </a:rPr>
              <a:t>A natural </a:t>
            </a:r>
            <a:r>
              <a:rPr b="0" lang="en-US" sz="2800" spc="-1" strike="noStrike">
                <a:solidFill>
                  <a:srgbClr val="ffffff"/>
                </a:solidFill>
                <a:latin typeface="BinnerD"/>
              </a:rPr>
              <a:t>force</a:t>
            </a:r>
            <a:r>
              <a:rPr b="0" lang="en-US" sz="2800" spc="-1" strike="noStrike">
                <a:solidFill>
                  <a:srgbClr val="000000"/>
                </a:solidFill>
                <a:latin typeface="BinnerD"/>
              </a:rPr>
              <a:t> that pulls all objects toward the center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j0219084"/>
          <p:cNvPicPr/>
          <p:nvPr/>
        </p:nvPicPr>
        <p:blipFill>
          <a:blip r:embed="rId1"/>
          <a:stretch/>
        </p:blipFill>
        <p:spPr>
          <a:xfrm>
            <a:off x="6019920" y="3581280"/>
            <a:ext cx="12031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Bard"/>
              </a:rPr>
              <a:t>WHAT IS A FORCE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HAS1335.WAV" descr=""/>
          <p:cNvPicPr/>
          <p:nvPr/>
        </p:nvPicPr>
        <p:blipFill>
          <a:blip r:embed="rId1"/>
          <a:stretch/>
        </p:blipFill>
        <p:spPr>
          <a:xfrm>
            <a:off x="38088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2133720" y="1523880"/>
            <a:ext cx="495288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EnviroD"/>
              </a:rPr>
              <a:t>A pull or a push on an objec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1002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ich do you think would fall fir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5812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u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4419720" y="2895480"/>
            <a:ext cx="3886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4030560" y="3429000"/>
            <a:ext cx="320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 a mar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371600" y="1905120"/>
            <a:ext cx="70102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99cc00"/>
                </a:solidFill>
                <a:latin typeface="Americana BT"/>
              </a:rPr>
              <a:t>Try It!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45" dur="2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87 E">
                                      <p:cBhvr>
                                        <p:cTn id="49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They fall at the same rate of speed, </a:t>
            </a: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but</a:t>
            </a: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 the marble has more mass (weight) and so gravity makes it fall harder!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9999ff"/>
                </a:solidFill>
                <a:latin typeface="Arial"/>
              </a:rPr>
              <a:t>Gravity has a stronger force on things with more ma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 takes a force to overcome gravit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447920" y="2057400"/>
            <a:ext cx="556236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w a bean bag in the ai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 the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ow a basketball in the ai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09480" y="4648320"/>
            <a:ext cx="8229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1981080" y="4648320"/>
            <a:ext cx="5105520" cy="22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riba Arriba LET"/>
              </a:rPr>
              <a:t>Which one was harder to throw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You had to use more force to throw the basketball because it has more mass (weight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324000" y="6000840"/>
          <a:ext cx="57132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6000840"/>
                    <a:ext cx="5713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verb" presetID="0">
                                  <p:stCondLst>
                                    <p:cond delay="500"/>
                                  </p:stCondLst>
                                  <p:childTnLst>
                                    <p:cmd type="call" cmd="">
                                      <p:cBhvr>
                                        <p:cTn id="85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00:01:11Z</dcterms:created>
  <dc:creator>Inst </dc:creator>
  <dc:description/>
  <dc:language>en-US</dc:language>
  <cp:lastModifiedBy>RomaK</cp:lastModifiedBy>
  <dcterms:modified xsi:type="dcterms:W3CDTF">2015-09-03T12:27:38Z</dcterms:modified>
  <cp:revision>10</cp:revision>
  <dc:subject/>
  <dc:title>Gravity</dc:title>
</cp:coreProperties>
</file>