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32B9-2872-43F3-B91F-1E83D0CC9B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atural force that pulls all objects toward the center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atural force that pulls all objects toward the center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FOR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ull or a push on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FOR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ull or a push on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do you think would fall fir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uncy 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 mar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do you think would fall fir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uncy 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 mar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all at the same rate of speed, but the marble has more mass (weight) and so gravity makes it fall harder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has a stronger force on things with more mas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all at the same rate of speed, but the marble has more mass (weight) and so gravity makes it fall harder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has a stronger force on things with more mas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a force to overcome grav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w a bean bag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w a basketball in the ai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ne was harder to throw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a force to overcome grav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w a bean bag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w a basketball in the ai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ne was harder to throw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d to use more force to throw the basketball because it has more mass (we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d to use more force to throw the basketball because it has more mass (we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B373-F132-4F01-8D1D-48F08BAAD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E85E-D8D2-408B-88EF-52FED7DF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2B3E-7C39-4332-8BED-DFCF873FB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1C74-E448-452B-AE34-19598DFA7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09E3-B137-48E9-A20F-8222F9DE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D2D4-306A-4655-B00B-C1F6434A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36F0-4266-46E1-A476-3C00A17A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F081-4B9C-4BED-9368-EF48F569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CFA6-76CF-41CA-9D16-1E612ACD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FCCB-8E0E-41C5-9D31-F21CEB14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5F54-15B9-43FD-B929-16F1ABC7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08AA-0207-4A50-84D8-BA6528FB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96B2-2656-4B6C-A1F1-CA5A79C0A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Bard"/>
              </a:rPr>
              <a:t>Gravity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28640" y="2361960"/>
            <a:ext cx="2438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rd"/>
              </a:rPr>
              <a:t>What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33287 L -3.33333E-006 -3.81415E-006 E">
                                      <p:cBhvr>
                                        <p:cTn id="11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ink LET"/>
              </a:rPr>
              <a:t>Gravity</a:t>
            </a:r>
            <a:r>
              <a:rPr b="0" lang="en-US" sz="4400" spc="-1" strike="noStrike">
                <a:solidFill>
                  <a:srgbClr val="000000"/>
                </a:solidFill>
                <a:latin typeface="Boink LET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Boink LET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Boink LET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nnerD"/>
              </a:rPr>
              <a:t>A natural </a:t>
            </a:r>
            <a:r>
              <a:rPr b="0" lang="en-US" sz="2800" spc="-1" strike="noStrike">
                <a:solidFill>
                  <a:srgbClr val="ffffff"/>
                </a:solidFill>
                <a:latin typeface="BinnerD"/>
              </a:rPr>
              <a:t>force</a:t>
            </a:r>
            <a:r>
              <a:rPr b="0" lang="en-US" sz="2800" spc="-1" strike="noStrike">
                <a:solidFill>
                  <a:srgbClr val="000000"/>
                </a:solidFill>
                <a:latin typeface="BinnerD"/>
              </a:rPr>
              <a:t> that pulls all objects toward the center of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j0219084"/>
          <p:cNvPicPr/>
          <p:nvPr/>
        </p:nvPicPr>
        <p:blipFill>
          <a:blip r:embed="rId1"/>
          <a:stretch/>
        </p:blipFill>
        <p:spPr>
          <a:xfrm>
            <a:off x="6019920" y="3581280"/>
            <a:ext cx="12031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Bard"/>
              </a:rPr>
              <a:t>WHAT IS A FORCE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HAS1335.WAV" descr=""/>
          <p:cNvPicPr/>
          <p:nvPr/>
        </p:nvPicPr>
        <p:blipFill>
          <a:blip r:embed="rId1"/>
          <a:stretch/>
        </p:blipFill>
        <p:spPr>
          <a:xfrm>
            <a:off x="38088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2133720" y="1523880"/>
            <a:ext cx="49528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EnviroD"/>
              </a:rPr>
              <a:t>A pull or a push on an objec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002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do you think would fall fir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581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un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419720" y="289548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030560" y="3429000"/>
            <a:ext cx="320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 a mar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1371600" y="1905120"/>
            <a:ext cx="70102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99cc00"/>
                </a:solidFill>
                <a:latin typeface="Americana BT"/>
              </a:rPr>
              <a:t>Try It!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87 E">
                                      <p:cBhvr>
                                        <p:cTn id="45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87 E">
                                      <p:cBhvr>
                                        <p:cTn id="49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ff"/>
                </a:solidFill>
                <a:latin typeface="Arial"/>
              </a:rPr>
              <a:t>They fall at the same rate of speed, 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but</a:t>
            </a:r>
            <a:r>
              <a:rPr b="0" lang="en-US" sz="4000" spc="-1" strike="noStrike">
                <a:solidFill>
                  <a:srgbClr val="9999ff"/>
                </a:solidFill>
                <a:latin typeface="Arial"/>
              </a:rPr>
              <a:t> the marble has more mass (weight) and so gravity makes it fall harder!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9999ff"/>
                </a:solidFill>
                <a:latin typeface="Arial"/>
              </a:rPr>
              <a:t>Gravity has a stronger force on things with more mas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takes a force to overcome gravit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1447920" y="2057400"/>
            <a:ext cx="556236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ow a bean bag in the ai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then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ow a basketball in the ai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609480" y="4648320"/>
            <a:ext cx="822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1981080" y="4648320"/>
            <a:ext cx="510552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riba Arriba LET"/>
              </a:rPr>
              <a:t>Which one was harder to throw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You had to use more force to throw the basketball because it has more mass (weight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324000" y="6000840"/>
          <a:ext cx="57132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6000840"/>
                    <a:ext cx="5713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verb" presetID="0">
                                  <p:stCondLst>
                                    <p:cond delay="500"/>
                                  </p:stCondLst>
                                  <p:childTnLst>
                                    <p:cmd type="call" cmd="">
                                      <p:cBhvr>
                                        <p:cTn id="85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00:01:11Z</dcterms:created>
  <dc:creator>Inst </dc:creator>
  <dc:description/>
  <dc:language>en-US</dc:language>
  <cp:lastModifiedBy>RomaK</cp:lastModifiedBy>
  <dcterms:modified xsi:type="dcterms:W3CDTF">2015-09-03T12:27:38Z</dcterms:modified>
  <cp:revision>10</cp:revision>
  <dc:subject/>
  <dc:title>Gravity</dc:title>
</cp:coreProperties>
</file>