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4F95-C7EC-4CC5-8F71-D16E4FF5C9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932-CEED-498E-8FE3-A569092F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C4E-CAF1-432D-9B65-BA2A99D9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7E6-A38B-4136-9D3A-E8FFEB8C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32C-6456-447B-B91E-E07E16A2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C65-5963-4C3B-89ED-26ED0294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BE2-E338-4EF1-AABB-B6F7756E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A7B-32F9-4378-9E19-81DF5795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922-9995-4466-8E97-737E2150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F1D-785B-49DD-8B80-EED5E844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256-7AB3-4964-A6C1-FF48266E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C55-1432-4767-ACD6-8E921A5C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D8E-1F61-414F-8BA4-0369EB55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ADCA-4CBD-4A4E-AC32-228A40996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Bard"/>
              </a:rPr>
              <a:t>Gravity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8640" y="236196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rd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33287 L -3.33333E-006 -3.81415E-006 E">
                                      <p:cBhvr>
                                        <p:cTn id="1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Gravity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A natural </a:t>
            </a:r>
            <a:r>
              <a:rPr b="0" lang="en-US" sz="2800" spc="-1" strike="noStrike">
                <a:solidFill>
                  <a:srgbClr val="ffffff"/>
                </a:solidFill>
                <a:latin typeface="BinnerD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 that pulls all objects toward the center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j0219084"/>
          <p:cNvPicPr/>
          <p:nvPr/>
        </p:nvPicPr>
        <p:blipFill>
          <a:blip r:embed="rId1"/>
          <a:stretch/>
        </p:blipFill>
        <p:spPr>
          <a:xfrm>
            <a:off x="6019920" y="3581280"/>
            <a:ext cx="1203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ard"/>
              </a:rPr>
              <a:t>WHAT IS A FORC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HAS1335.WAV" descr=""/>
          <p:cNvPicPr/>
          <p:nvPr/>
        </p:nvPicPr>
        <p:blipFill>
          <a:blip r:embed="rId1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133720" y="1523880"/>
            <a:ext cx="4952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EnviroD"/>
              </a:rPr>
              <a:t>A pull or a push on an obje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00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19720" y="2895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030560" y="3429000"/>
            <a:ext cx="32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371600" y="1905120"/>
            <a:ext cx="7010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99cc00"/>
                </a:solidFill>
                <a:latin typeface="Americana BT"/>
              </a:rPr>
              <a:t>Try It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They fall at the same rate of speed,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but</a:t>
            </a: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 the marble has more mass (weight) and so gravity makes it fall harder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Gravity has a stronger force on things with more ma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447920" y="2057400"/>
            <a:ext cx="556236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09480" y="464832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981080" y="4648320"/>
            <a:ext cx="51055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riba Arriba LET"/>
              </a:rPr>
              <a:t>Which one was harder to throw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324000" y="6000840"/>
          <a:ext cx="5713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000840"/>
                    <a:ext cx="571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verb" presetID="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8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0:01:11Z</dcterms:created>
  <dc:creator>Inst </dc:creator>
  <dc:description/>
  <dc:language>en-US</dc:language>
  <cp:lastModifiedBy>RomaK</cp:lastModifiedBy>
  <dcterms:modified xsi:type="dcterms:W3CDTF">2015-09-03T12:27:38Z</dcterms:modified>
  <cp:revision>10</cp:revision>
  <dc:subject/>
  <dc:title>Gravity</dc:title>
</cp:coreProperties>
</file>