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1F76-6C39-42F6-BB31-F3B2208D6C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estimate that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your best guess at figuring out the RED side in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out using a calculator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a piece of paper 1 to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your answers on a piece of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timate tha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your best guess at figuring out the RED side in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using a calculato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 piece of paper 1 to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your answers on a piece of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2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2.3 + 72.4 + 128.6+153.2 + 28.7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.3 + 72.4 + 128.6+153.2 + 28.7= 425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clos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.3 + 72.4 + 128.6+153.2 + 28.7= 42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the clos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up all your numbers  ignoring neg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up all your numbers  ignoring neg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8FC7-80F0-4805-B83A-5006498B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1867-49ED-499C-9CA4-B65A9E32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5F25-2DFA-4E8E-B051-E8803C79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751D-6D51-4ECF-86FC-55C81F97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684A-BD05-4061-97A3-D4FF3030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D69A-A772-41FE-B7FF-4AF49929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8FE-CE8A-4827-B5E2-F3859C26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0F12-531F-4A51-9B18-0F2FB0B6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3A00-825B-461D-ABC0-432BA25E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E02-8AC7-4BC6-B92C-2A0B32B5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E3C-B363-4471-88BC-87E31A26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E6D-FC60-46A3-B499-175A60BA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B0BE-A26E-46B9-948E-E2C978944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timate that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your best guess at figuring out the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de in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out using a calculator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a piece of paper 1 t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answers on a piece of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8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4648320" y="44197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3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6095880" y="190476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8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666880" y="2666880"/>
            <a:ext cx="23623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4343400" y="36576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343400" y="3581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9528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5715000" y="3505320"/>
            <a:ext cx="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3341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 + 72.4 + 128.6+153.2 + 28.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 + 72.4 + 128.6+153.2 + 28.7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2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 is the clos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5638680" y="182880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 flipH="1">
            <a:off x="2895480" y="373392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4648320" y="44197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 flipV="1">
            <a:off x="6095880" y="190476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666880" y="2666880"/>
            <a:ext cx="23623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4343400" y="36576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4343400" y="3581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9528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715000" y="3505320"/>
            <a:ext cx="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3341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up all your numbers  ignoring neg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V="1">
            <a:off x="5638680" y="182880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H="1">
            <a:off x="2895480" y="373392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7:29:32Z</dcterms:created>
  <dc:creator>administrator</dc:creator>
  <dc:description/>
  <dc:language>en-US</dc:language>
  <cp:lastModifiedBy>RomaK</cp:lastModifiedBy>
  <dcterms:modified xsi:type="dcterms:W3CDTF">2015-09-03T12:28:25Z</dcterms:modified>
  <cp:revision>5</cp:revision>
  <dc:subject/>
  <dc:title>Guestimate that side</dc:title>
</cp:coreProperties>
</file>