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09BE-04C7-4AA9-8D80-A0169D2CBA8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sit www.worldofteaching.com for more free power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urr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. Hot air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 Goes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3. Then dow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4. And acros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RA-RED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otter objects emit (give out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ull black surfaces loses energy more quickly – it is a 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bright shiny or white surface is a 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Key Word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mit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bsorb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nsf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and Temperatu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emperature of an object tells us how HOT i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easured in degrees Celsius - °C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NOT the same as heat energy although the two quantities are related.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 a beaker of water at 60 °C is hotter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an a bath of water at 40 °C BUT the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ath contains more joules of 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has become hotter,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means that it has gained heat energ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object cools down, it means it has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os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ing and Cooling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  HOT object                           COOLER object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.g.Cup of water at 20 °C in a room at 30°C - gains heat energy and heats up – its temperature ri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up of water at 20 °C in a room at 10°C loses heat energy and cools down – its temperature will fall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HEAT ENERG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cont…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appens best in solids-particles very close togeth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ulators/poor conduc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cold – reduces amount of heat conducted to inside from the warmer ro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7D63-1509-4541-A63B-BE76B2BBE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0451-9255-4FB3-B22C-DF4501245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4E78-86B5-45E2-A616-6845014A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C50B-6AF4-478D-AC43-D09F7CA4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32079-259A-4B9F-A5E3-ED4B367F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60C10-80E1-4595-B383-A904ACC3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9DFC-AC0D-49AE-9863-9FDD0816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702F-F305-4A18-857C-55B778C2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98C51-4367-47A1-93AE-6AAD3AAD7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A6DC-C26B-4F44-BD68-11910B82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229A-D0DD-4FDE-AFCA-D9A6E68A6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45EA-1F5D-4451-994B-F700E6272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E4C1-5AA5-4250-A967-FB475556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9A68-1491-425F-B58B-5ABFA7A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7B3F-B112-401A-9DF0-DBF3D39BB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5D654-945F-4D0D-A493-FDFC8F780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C073-5D94-45D5-AC03-16D38110B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4086-31C9-4E98-BB8D-B7EBE949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6C0-B224-4C4F-A6BA-056EF2BA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62C2-182E-4379-9431-4605F365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D54-F0A0-43DA-A853-2BC7183A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FC9A-2846-4666-B2A0-7FBB662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6191-B99F-4AF5-AAF8-2E1BC3E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20B9-E220-42B6-BBB3-BCD1F69A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50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2051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2052"/>
            <p:cNvSpPr/>
            <p:nvPr/>
          </p:nvSpPr>
          <p:spPr>
            <a:xfrm>
              <a:off x="-8405640" y="4680"/>
              <a:ext cx="16821000" cy="1369080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-1" y="9670"/>
                    <a:pt x="9670" y="0"/>
                    <a:pt x="21599" y="0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527B-4FB0-4DE9-A19F-0516E98DA9DA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7758000" y="1463760"/>
              <a:ext cx="13452480" cy="10794960"/>
            </a:xfrm>
            <a:custGeom>
              <a:avLst/>
              <a:gdLst/>
              <a:ahLst/>
              <a:rect l="l" t="t" r="r" b="b"/>
              <a:pathLst>
                <a:path fill="none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</a:path>
                <a:path stroke="0" w="43200" h="43200">
                  <a:moveTo>
                    <a:pt x="43200" y="21600"/>
                  </a:moveTo>
                  <a:cubicBezTo>
                    <a:pt x="43200" y="33529"/>
                    <a:pt x="33529" y="43200"/>
                    <a:pt x="21600" y="43200"/>
                  </a:cubicBezTo>
                  <a:cubicBezTo>
                    <a:pt x="9670" y="43200"/>
                    <a:pt x="0" y="3352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22731" y="-1"/>
                    <a:pt x="23861" y="88"/>
                    <a:pt x="24979" y="265"/>
                  </a:cubicBezTo>
                  <a:lnTo>
                    <a:pt x="21600" y="21600"/>
                  </a:lnTo>
                  <a:lnTo>
                    <a:pt x="43200" y="21600"/>
                  </a:lnTo>
                  <a:close/>
                </a:path>
              </a:pathLst>
            </a:custGeom>
            <a:noFill/>
            <a:ln cap="sq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C730-2F32-4142-B14B-176C6609D89F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1904760"/>
            <a:ext cx="7086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at is HEA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rm of energy and measured in JO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ticles move about more and take up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re room if heated – this is why things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pand if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is also why substances change from: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lids         liquids         gases 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when he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441972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6172200" y="4876920"/>
            <a:ext cx="457200" cy="304560"/>
          </a:xfrm>
          <a:prstGeom prst="rightArrow">
            <a:avLst>
              <a:gd name="adj1" fmla="val 50000"/>
              <a:gd name="adj2" fmla="val 37530"/>
            </a:avLst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akes place in material where particles can move around inside the material, i.e. liquid or g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eat is carried by the particles themselves moving               Convection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ur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 because an area with warm particles expands and becomes less dense than the cooler areas nearby. The warm area rises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particles fall into the space left by the warm particles and convection current is set 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2438280" y="327672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urr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256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t liquids and gases expand and rise while the cooler liquid or gas fal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3429000" y="3429000"/>
            <a:ext cx="2286000" cy="28195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553080" y="44956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6324480" y="4724280"/>
            <a:ext cx="2133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ir ris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Freeform 10"/>
          <p:cNvSpPr/>
          <p:nvPr/>
        </p:nvSpPr>
        <p:spPr>
          <a:xfrm>
            <a:off x="5559480" y="4368960"/>
            <a:ext cx="3240" cy="1422360"/>
          </a:xfrm>
          <a:custGeom>
            <a:avLst/>
            <a:gdLst/>
            <a:ahLst/>
            <a:rect l="l" t="t" r="r" b="b"/>
            <a:pathLst>
              <a:path w="2" h="896">
                <a:moveTo>
                  <a:pt x="2" y="896"/>
                </a:moveTo>
                <a:lnTo>
                  <a:pt x="0" y="0"/>
                </a:lnTo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11"/>
          <p:cNvSpPr/>
          <p:nvPr/>
        </p:nvSpPr>
        <p:spPr>
          <a:xfrm flipH="1">
            <a:off x="3809880" y="434340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Line 12"/>
          <p:cNvSpPr/>
          <p:nvPr/>
        </p:nvSpPr>
        <p:spPr>
          <a:xfrm>
            <a:off x="3733920" y="4368960"/>
            <a:ext cx="0" cy="142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885480" y="5791320"/>
            <a:ext cx="15238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505320" y="281952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Goes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990720" y="4343400"/>
            <a:ext cx="19047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 Then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1905120" y="6095880"/>
            <a:ext cx="2057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 And acro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ve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un can cause large convection currents  - WI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ring daytime the land warms up more than the sea.  The warm air rises over the land and cool air falls over the sea. So we feel a sea breez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Rising convection currents can be uses by glider pilots to keep their planes in the air and by birds to stay alof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Radi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ransfer of heat directly form the source to the object by a wave, travelling as ray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radiation is also known as 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objects that are hotter than their surroundings give out heat as 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transfer by radiation does not need particles to occur and is the only way energy can be transferred across empty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2133720" y="3048120"/>
            <a:ext cx="4709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INFRA-RED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bject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emi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(give out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ferent surfaces emit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dull black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s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ose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 more quickly – it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bright shiny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white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surface is a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rathon runners need to keep warm at the end of races, covering in shiny blankets reduces radiation and therefore heat lo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mitters of he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600200" y="2209680"/>
            <a:ext cx="1600200" cy="2133720"/>
          </a:xfrm>
          <a:prstGeom prst="can">
            <a:avLst>
              <a:gd name="adj" fmla="val 25000"/>
            </a:avLst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AutoShape 8"/>
          <p:cNvSpPr/>
          <p:nvPr/>
        </p:nvSpPr>
        <p:spPr>
          <a:xfrm>
            <a:off x="5765760" y="2209680"/>
            <a:ext cx="1473120" cy="221004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838080" y="48006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right shiny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029200" y="487692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5181480" y="4800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Radi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342900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AutoShape 16"/>
          <p:cNvSpPr/>
          <p:nvPr/>
        </p:nvSpPr>
        <p:spPr>
          <a:xfrm>
            <a:off x="3429000" y="3352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19"/>
          <p:cNvSpPr/>
          <p:nvPr/>
        </p:nvSpPr>
        <p:spPr>
          <a:xfrm>
            <a:off x="7391520" y="320040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AutoShape 20"/>
          <p:cNvSpPr/>
          <p:nvPr/>
        </p:nvSpPr>
        <p:spPr>
          <a:xfrm>
            <a:off x="7391520" y="3581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AutoShape 21"/>
          <p:cNvSpPr/>
          <p:nvPr/>
        </p:nvSpPr>
        <p:spPr>
          <a:xfrm>
            <a:off x="7391520" y="3962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AutoShape 22"/>
          <p:cNvSpPr/>
          <p:nvPr/>
        </p:nvSpPr>
        <p:spPr>
          <a:xfrm>
            <a:off x="7391520" y="28195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23"/>
          <p:cNvSpPr/>
          <p:nvPr/>
        </p:nvSpPr>
        <p:spPr>
          <a:xfrm>
            <a:off x="7391520" y="24382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AutoShape 24"/>
          <p:cNvSpPr/>
          <p:nvPr/>
        </p:nvSpPr>
        <p:spPr>
          <a:xfrm>
            <a:off x="10666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AutoShape 25"/>
          <p:cNvSpPr/>
          <p:nvPr/>
        </p:nvSpPr>
        <p:spPr>
          <a:xfrm>
            <a:off x="1066680" y="33526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AutoShape 26"/>
          <p:cNvSpPr/>
          <p:nvPr/>
        </p:nvSpPr>
        <p:spPr>
          <a:xfrm>
            <a:off x="5181480" y="2438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AutoShape 27"/>
          <p:cNvSpPr/>
          <p:nvPr/>
        </p:nvSpPr>
        <p:spPr>
          <a:xfrm>
            <a:off x="5181480" y="3962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28"/>
          <p:cNvSpPr/>
          <p:nvPr/>
        </p:nvSpPr>
        <p:spPr>
          <a:xfrm>
            <a:off x="5181480" y="281952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AutoShape 29"/>
          <p:cNvSpPr/>
          <p:nvPr/>
        </p:nvSpPr>
        <p:spPr>
          <a:xfrm>
            <a:off x="5181480" y="320040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AutoShape 30"/>
          <p:cNvSpPr/>
          <p:nvPr/>
        </p:nvSpPr>
        <p:spPr>
          <a:xfrm>
            <a:off x="5181480" y="3581280"/>
            <a:ext cx="381240" cy="228600"/>
          </a:xfrm>
          <a:prstGeom prst="leftArrow">
            <a:avLst>
              <a:gd name="adj1" fmla="val 50000"/>
              <a:gd name="adj2" fmla="val 41693"/>
            </a:avLst>
          </a:prstGeom>
          <a:solidFill>
            <a:srgbClr val="ffff00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609480" y="1523880"/>
            <a:ext cx="8077320" cy="53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oler objects absorb (take in)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bstances absorb heat at different spee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ull, black surfaces absorb heat quick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right, shiny surfaces absorb heat slow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hot countries, people wear bright white clothes and paint their houses white to reduce absorption of energy from the su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trol storage tanks sprayed silver to reflect sun’s r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bsorbe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76720" y="1066680"/>
            <a:ext cx="2133360" cy="182880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44792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3600" y="2819520"/>
            <a:ext cx="1295280" cy="243828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AutoShape 8"/>
          <p:cNvSpPr/>
          <p:nvPr/>
        </p:nvSpPr>
        <p:spPr>
          <a:xfrm>
            <a:off x="30481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AutoShape 9"/>
          <p:cNvSpPr/>
          <p:nvPr/>
        </p:nvSpPr>
        <p:spPr>
          <a:xfrm>
            <a:off x="838080" y="33526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AutoShape 10"/>
          <p:cNvSpPr/>
          <p:nvPr/>
        </p:nvSpPr>
        <p:spPr>
          <a:xfrm>
            <a:off x="838080" y="4267080"/>
            <a:ext cx="381240" cy="304920"/>
          </a:xfrm>
          <a:prstGeom prst="leftArrow">
            <a:avLst>
              <a:gd name="adj1" fmla="val 50000"/>
              <a:gd name="adj2" fmla="val 31257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AutoShape 11"/>
          <p:cNvSpPr/>
          <p:nvPr/>
        </p:nvSpPr>
        <p:spPr>
          <a:xfrm>
            <a:off x="5334120" y="4419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AutoShape 12"/>
          <p:cNvSpPr/>
          <p:nvPr/>
        </p:nvSpPr>
        <p:spPr>
          <a:xfrm>
            <a:off x="5334120" y="41148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AutoShape 13"/>
          <p:cNvSpPr/>
          <p:nvPr/>
        </p:nvSpPr>
        <p:spPr>
          <a:xfrm>
            <a:off x="5334120" y="37339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14"/>
          <p:cNvSpPr/>
          <p:nvPr/>
        </p:nvSpPr>
        <p:spPr>
          <a:xfrm>
            <a:off x="5334120" y="3276720"/>
            <a:ext cx="380880" cy="304560"/>
          </a:xfrm>
          <a:prstGeom prst="lef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15"/>
          <p:cNvSpPr/>
          <p:nvPr/>
        </p:nvSpPr>
        <p:spPr>
          <a:xfrm>
            <a:off x="5334120" y="480060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16"/>
          <p:cNvSpPr/>
          <p:nvPr/>
        </p:nvSpPr>
        <p:spPr>
          <a:xfrm>
            <a:off x="7391520" y="41148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17"/>
          <p:cNvSpPr/>
          <p:nvPr/>
        </p:nvSpPr>
        <p:spPr>
          <a:xfrm>
            <a:off x="7391520" y="3733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AutoShape 18"/>
          <p:cNvSpPr/>
          <p:nvPr/>
        </p:nvSpPr>
        <p:spPr>
          <a:xfrm>
            <a:off x="7391520" y="3352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AutoShape 19"/>
          <p:cNvSpPr/>
          <p:nvPr/>
        </p:nvSpPr>
        <p:spPr>
          <a:xfrm>
            <a:off x="3048120" y="434340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AutoShape 20"/>
          <p:cNvSpPr/>
          <p:nvPr/>
        </p:nvSpPr>
        <p:spPr>
          <a:xfrm>
            <a:off x="7391520" y="48769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AutoShape 21"/>
          <p:cNvSpPr/>
          <p:nvPr/>
        </p:nvSpPr>
        <p:spPr>
          <a:xfrm>
            <a:off x="7391520" y="4495680"/>
            <a:ext cx="380880" cy="304920"/>
          </a:xfrm>
          <a:prstGeom prst="rightArrow">
            <a:avLst>
              <a:gd name="adj1" fmla="val 50000"/>
              <a:gd name="adj2" fmla="val 3122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914400" y="54100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hiny, bright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or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5257800" y="579132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5334120" y="54100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ll black ca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Good 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Key Words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Oval 13"/>
          <p:cNvSpPr/>
          <p:nvPr/>
        </p:nvSpPr>
        <p:spPr>
          <a:xfrm>
            <a:off x="2057400" y="2819520"/>
            <a:ext cx="18288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Oval 14"/>
          <p:cNvSpPr/>
          <p:nvPr/>
        </p:nvSpPr>
        <p:spPr>
          <a:xfrm>
            <a:off x="5181480" y="2438280"/>
            <a:ext cx="182880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Oval 15"/>
          <p:cNvSpPr/>
          <p:nvPr/>
        </p:nvSpPr>
        <p:spPr>
          <a:xfrm>
            <a:off x="4495680" y="3784680"/>
            <a:ext cx="2438640" cy="1320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2133720" y="3048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H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334120" y="2666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4724280" y="4267080"/>
            <a:ext cx="18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990720" y="4572000"/>
            <a:ext cx="27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Oval 20"/>
          <p:cNvSpPr/>
          <p:nvPr/>
        </p:nvSpPr>
        <p:spPr>
          <a:xfrm>
            <a:off x="838080" y="4343400"/>
            <a:ext cx="2667240" cy="8380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3657600" y="1447920"/>
            <a:ext cx="20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l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Oval 22"/>
          <p:cNvSpPr/>
          <p:nvPr/>
        </p:nvSpPr>
        <p:spPr>
          <a:xfrm>
            <a:off x="4191120" y="838080"/>
            <a:ext cx="1066680" cy="17528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09480" y="220968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Insul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Oval 24"/>
          <p:cNvSpPr/>
          <p:nvPr/>
        </p:nvSpPr>
        <p:spPr>
          <a:xfrm>
            <a:off x="533520" y="1981080"/>
            <a:ext cx="228600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3200400" y="5562720"/>
            <a:ext cx="24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Condu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Oval 26"/>
          <p:cNvSpPr/>
          <p:nvPr/>
        </p:nvSpPr>
        <p:spPr>
          <a:xfrm>
            <a:off x="3276720" y="5334120"/>
            <a:ext cx="2057400" cy="990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Text Box 27"/>
          <p:cNvSpPr/>
          <p:nvPr/>
        </p:nvSpPr>
        <p:spPr>
          <a:xfrm>
            <a:off x="6324480" y="9144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Oval 28"/>
          <p:cNvSpPr/>
          <p:nvPr/>
        </p:nvSpPr>
        <p:spPr>
          <a:xfrm>
            <a:off x="6172200" y="533520"/>
            <a:ext cx="2286000" cy="12189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29"/>
          <p:cNvSpPr/>
          <p:nvPr/>
        </p:nvSpPr>
        <p:spPr>
          <a:xfrm>
            <a:off x="609480" y="5791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Emit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30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Absor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Oval 31"/>
          <p:cNvSpPr/>
          <p:nvPr/>
        </p:nvSpPr>
        <p:spPr>
          <a:xfrm>
            <a:off x="1066680" y="5638680"/>
            <a:ext cx="1295640" cy="9144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Oval 32"/>
          <p:cNvSpPr/>
          <p:nvPr/>
        </p:nvSpPr>
        <p:spPr>
          <a:xfrm>
            <a:off x="6400800" y="5410080"/>
            <a:ext cx="1676520" cy="99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Text Box 33"/>
          <p:cNvSpPr/>
          <p:nvPr/>
        </p:nvSpPr>
        <p:spPr>
          <a:xfrm>
            <a:off x="609480" y="3276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Transf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Oval 34"/>
          <p:cNvSpPr/>
          <p:nvPr/>
        </p:nvSpPr>
        <p:spPr>
          <a:xfrm>
            <a:off x="609480" y="2971800"/>
            <a:ext cx="1371600" cy="12952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and Temperatur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800424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temperature of an object tells us how </a:t>
            </a:r>
            <a:r>
              <a:rPr b="1" lang="en-GB" sz="3200" spc="-1" strike="noStrike">
                <a:solidFill>
                  <a:srgbClr val="f61b0a"/>
                </a:solidFill>
                <a:latin typeface="Times New Roman"/>
              </a:rPr>
              <a:t>H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easured in degrees Celsius -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NO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e same as heat energy although the two quantities are related.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.g. a beaker of water at 60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s hotter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an a bath of water at 40 °C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h contains more joules of heat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256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has become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hotte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means that it has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gaine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energ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object </a:t>
            </a: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cools down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, it means it has </a:t>
            </a:r>
            <a:br>
              <a:rPr sz="3200"/>
            </a:br>
            <a:r>
              <a:rPr b="0" lang="en-GB" sz="3200" spc="-1" strike="noStrike">
                <a:solidFill>
                  <a:srgbClr val="00ccff"/>
                </a:solidFill>
                <a:latin typeface="Times New Roman"/>
              </a:rPr>
              <a:t>lost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ing and Cooling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eat energy always moves from:</a:t>
            </a:r>
            <a:br>
              <a:rPr sz="2800"/>
            </a:b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GB" sz="2800" spc="-1" strike="noStrike">
                <a:solidFill>
                  <a:srgbClr val="ff0000"/>
                </a:solidFill>
                <a:latin typeface="Times New Roman"/>
              </a:rPr>
              <a:t>HOT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                           </a:t>
            </a:r>
            <a:r>
              <a:rPr b="0" lang="en-GB" sz="2800" spc="-1" strike="noStrike">
                <a:solidFill>
                  <a:srgbClr val="00ccff"/>
                </a:solidFill>
                <a:latin typeface="Times New Roman"/>
              </a:rPr>
              <a:t>COOLER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object</a:t>
            </a:r>
            <a:br>
              <a:rPr sz="2800"/>
            </a:b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.g.Cup of water at 20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C in a room at 30°C - gains heat energy and heats up – its temperature ri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p of water at 20 °C in a room at 10°C loses heat energy and cools down – its temperature will fa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809880" y="251460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HEAT ENERG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47560" y="2133360"/>
            <a:ext cx="563868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Energy transfer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du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Convection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Radi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eat is transferred through a material by being passed from one particle to the nex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rticles at the warm end move faster and this then causes the next particles to move faster and so 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is way heat in an object travels from:</a:t>
            </a:r>
            <a:br>
              <a:rPr sz="3200"/>
            </a:b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HOT end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cold 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AutoShape 6"/>
          <p:cNvSpPr/>
          <p:nvPr/>
        </p:nvSpPr>
        <p:spPr>
          <a:xfrm>
            <a:off x="3429000" y="5105520"/>
            <a:ext cx="1828800" cy="9144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ff0033"/>
              </a:gs>
              <a:gs pos="100000">
                <a:srgbClr val="0000ff"/>
              </a:gs>
            </a:gsLst>
            <a:lin ang="0"/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ion cont…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ccurs by the particles hitting each other and so energy is transferr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n happen in solids, liquids and gase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appens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best in solid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-particles very close toge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duction does not occur very quickly in liquids or ga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21000">
    <p:checker dir="horz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aterials that conduct heat quickly are called condu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ll metals are good conductors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pper is a very good conductor of he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ans for cooking are usually made with a copper or aluminium bottom and plastic hand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nsulators/poor conducto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aterials that conduct heat slowly or poorly are called ins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lass, wood, plastic and rubb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arly all liquids including water are poor conductors (good insulato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ases, including air are poor conductors,e.g., wool feels warm because it traps a lot of 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fridge has insulation material round it to keep it </a:t>
            </a: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cold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– reduces amount of heat conducted to inside from the warmer r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1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1T11:23:49Z</dcterms:created>
  <dc:creator>NINEuser</dc:creator>
  <dc:description/>
  <dc:language>en-US</dc:language>
  <cp:lastModifiedBy>RomaK</cp:lastModifiedBy>
  <dcterms:modified xsi:type="dcterms:W3CDTF">2015-09-03T12:29:26Z</dcterms:modified>
  <cp:revision>20</cp:revision>
  <dc:subject/>
  <dc:title>HEAT ENERGY</dc:title>
</cp:coreProperties>
</file>