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type.wav" ContentType="audio/x-wav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B612-0A15-4387-BA0D-CC4190F828B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Electricit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ing Electricity in the Ho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hold Wiring is in Parall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hold Wiring is in Parall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ing Current 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North America, the current alternates back and forth in what we call cycles per 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ycle/second = 1 Hert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frequency in North America = 60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ternating Current Frequenc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North America, the current alternates back and forth in what we call cycles per secon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 cycle/second = 1 Hertz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lectrical frequency in North America = 60 Hz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rvice Pan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service panel has black, red, and white wires, the total voltage is 120 + 120 = 240 vo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rvice panel usually contains circuit breakers.  The breakers have either a red or a black wire attached to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rvice panel provides electricity for the branch circu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ervice Pan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nce the service panel has black, red, and white wires, the total voltage is 120 + 120 = 240 volt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ervice panel usually contains circuit breakers.  The breakers have either a red or a black wire attached to the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ervice panel provides electricity for the branch circuit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ually 15 amp break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amps or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ually 15 amp break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0 amps or great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ful De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werful Devic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utral Wire (Whi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utral wire is the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s protect us from electroc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vice Panel has a ground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prong plug – the circular, bottom hole leads to the ground buried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Neutral Wire (Whit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neutral wire is the groun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s protect us from electrocu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rvice Panel has a ground wi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prong plug – the circular, bottom hole leads to the ground buried outsid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utral Wire (Whi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utral wire is 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s protect us from 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vice Panel has a 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prong plug – the circular, bottom hole ________________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Neutral Wire (Whit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neutral wire is 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s protect us from 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rvice Panel has a 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prong plug – the circular, bottom hole _________________________________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rong Pl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ree Prong Plu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Bre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breakers open the circuit when a current in a house wire exceeds the rated current for that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rcuit breaker protects people from being electrocuted to death and protects us from burning down the 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overloads cause the generation of 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ircuit Break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ircuit breakers open the circuit when a current in a house wire exceeds the rated current for that circui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ircuit breaker protects people from being electrocuted to death and protects us from burning down the hous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ircuit overloads cause the generation of hea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 = force (Newtons) X distance (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rder to do work a force must move through a dista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etic energy involves movement or 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energy means that it can be 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Earth we can convert our weight in kilograms to Newtons by multiplying by 10    i.e.. One kilogram becomes 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 = force (Newtons) X distance (m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order to do work a force must move through a distanc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inetic energy involves movement or u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tential energy means that it can be us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n Earth we can convert our weight in kilograms to Newtons by multiplying by 10    i.e.. One kilogram becomes 10 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breakers - Deta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dinary breakers are rated as 15 am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bigger breakers provided for such circuits that require 240 volts – e.g.. Dryers and water hea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 of circuit breakers some electrical devices have fuses.  Often electric stoves have f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ircuit breakers - Detai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dinary breakers are rated as 15 amp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re are bigger breakers provided for such circuits that require 240 volts – e.g.. Dryers and water heat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tead of circuit breakers some electrical devices have fuses.  Often electric stoves have fus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es are Older than Circuit of Bre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uses are Older than Circuit of Break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FCI – Ground Fault Circuit Interrup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cts current differences in the neutral and hot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 be 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ot, the internal breaker goes immediat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res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near water sources – where safety is conc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hroom, outdoor out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FCI – Ground Fault Circuit Interrupt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tects current differences in the neutral and hot wi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ould be sa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f not, the internal breaker goes immediatel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n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 near water sources – where safety is concer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throom, outdoor outle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 Hold Wi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 hold circuits are 120 volts and are alternating current.  Appliances are usually connected in parall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rcuits are polarized.  That is, the black wire is connected in a certain way and the neutral wire is connected in a certain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ized plugs reduce the risk of an electrical shock by forcing electricity to flow in one general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 Hold Wir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 hold circuits are 120 volts and are alternating current.  Appliances are usually connected in paralle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ircuits are polarized.  That is, the black wire is connected in a certain way and the neutral wire is connected in a certain wa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larized plugs reduce the risk of an electrical shock by forcing electricity to flow in one general dire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Plugs Used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er Plug or Stove Pl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roun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p Plug or Hair Dr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olariz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ypes of Plugs Used in the Ho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ier Plug or Stove Plu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Ground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mp Plug or Hair Dr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Polarized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rong Pl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ree Prong Plu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ronged pl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und prong is the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nger hole is connected to the white wire (neutral).  We need this wire to complete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horter hole is connected to the black wire.(hot – 120 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ounded plug is safer than a two pronged pl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ree pronged plu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ound prong is the groun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longer hole is connected to the white wire (neutral).  We need this wire to complete the circui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horter hole is connected to the black wire.(hot – 120 Volt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grounded plug is safer than a two pronged plug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ing the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rvice panel is connected to a long metal stake that buried outside the 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person is electrocuted most of the current will go to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uch older houses the wiring is grounded on the copper water pi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ing the Curr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ervice panel is connected to a long metal stake that buried outside the hous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f a person is electrocuted most of the current will go to groun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much older houses the wiring is grounded on the copper water pip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 Wi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= Voltage X Current X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nits for energy are joules (J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= energy /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= Voltage (v)  X Current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nergy = Voltage X Current X ti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units for energy are joules (J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wer = energy / ti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wer = Voltage (v)  X Current (I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perly Grounded Appliance with Short 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illiampere:    tingling sens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 milliamperes:   nerves and muscles overload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milliamperes:   potentially fatal; heart fibrill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0 -1000 milliamperes:  not necessarily fatal; heart will restart -- One ampere or more:  burn al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roperly Grounded Appliance with Short  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ne milliampere:    tingling sens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n milliamperes:   nerves and muscles overload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0 milliamperes:   potentially fatal; heart fibrill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00 -1000 milliamperes:  not necessarily fatal; heart will restart -- One ampere or more:  burn al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ed Applia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ed Applianc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Plugs Prevent You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oming the Shortest, Easiest Path to the Ground!!  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 Plugs Prevent You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coming the Shortest, Easiest Path to the Ground!!  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oid! Or.. Thou Shalt Not!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yed electrical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topus out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and electrical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g receptacles to protect small child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loading electrical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oid! Or.. Thou Shalt Not! …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rayed electrical wir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ctopus outle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ater and electrical wir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lug receptacles to protect small childr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ver loading electrical circui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 Hold Energy Consum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 bills are established by finding out how many kilowatt hours of electricity your household has used in a given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Wh = kilowatts X time (hou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Wh = 1 000 Watts X 1 h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Wh = 1 000 W X 3 600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 Hold Energy Consump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ydro bills are established by finding out how many kilowatt hours of electricity your household has used in a given tim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 kWh = kilowatts X time (hour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 kWh = 1 000 Watts X 1 hou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 kWh = 1 000 W X 3 600 seco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the Meter – always use the smallest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ading the Meter – always use the smallest numb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ading should be 8876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 reading should be 8876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fici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comparison of the amount of energy obtained as compared to the amount of energy put into the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ficiency = energy output / energy inp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onvert it to a percentage just multiply the answer by 10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 is a comparison of the amount of energy obtained as compared to the amount of energy put into the syst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fficiency = energy output / energy inpu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 convert it to a percentage just multiply the answer by 100 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 Hold Wi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ires coming into a house include a black, a red and a wh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lack and the red wires are “hot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hite wire is neutral – leading to a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lack is rated as being 120 v from the neu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d is rated as being 120 v from the neu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 Hold Wir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wires coming into a house include a black, a red and a whit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black and the red wires are “hot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white wire is neutral – leading to a groun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black is rated as being 120 v from the neutr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ed is rated as being 120 v from the neutr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Entering Your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= In at 120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= Out at 120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= 240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lectricity Entering Your Hou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d = In at 120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lack = Out at 120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tential difference = 240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24A6-77E7-4737-821F-E83B6A325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7E3B-AA2D-4B93-8FCB-F51FA119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5BEB-3792-440E-84AD-56D9E7B19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67F6-A5EB-46FD-8558-8A79495ED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6F9F-DB37-4C10-81B7-1F5B4F5E4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0C01-5108-4DEC-95E2-8A29A44F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1B18-752E-4900-99F0-27B28D52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E423-7960-4093-BFA0-F647B740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9CB4-78CB-4712-9A0B-3B03CF3E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A70C-A546-49E8-957F-40E80C64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2332-331B-4FE2-9917-9CB8085B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23CB-C1CE-42A6-9427-2365274D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1499-0A81-4762-9CD6-E19309FD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2472-41B5-4F83-9F24-0A9398B1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DD7A-CD23-416E-AFA4-98BCDF02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3A87-DD67-4813-9203-14126B4AC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88EA-4647-46C2-B08D-24E7B4078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A0A9-1C86-4BF2-844E-6195076B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3329-C26A-4FC3-915F-99688EF3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EEEE-2BCB-420A-8ECC-A9814285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F7C0-840E-414B-92EA-F8C8F237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4CB4-D662-478B-92F5-6CAF9BE8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6D1A-024E-440D-AFBC-34815B2E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F20D-1A41-4A72-9556-CA1D8F75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B209-DD93-4E9F-8761-EC1BD576C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026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1027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1028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1029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1030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1031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1032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1033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34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35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C023-4D6B-4719-80C0-8AF29967CBD0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thebarn.virtualave.net/ex/electrical/gfci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pter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sing Electricity in the Hom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5" descr="beetlejuice4-2"/>
          <p:cNvPicPr/>
          <p:nvPr/>
        </p:nvPicPr>
        <p:blipFill>
          <a:blip r:embed="rId1"/>
          <a:stretch/>
        </p:blipFill>
        <p:spPr>
          <a:xfrm>
            <a:off x="4800600" y="457200"/>
            <a:ext cx="2619360" cy="3438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hold Wiring is in Parall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52280" y="2149560"/>
          <a:ext cx="8839440" cy="4098960"/>
        </p:xfrm>
        <a:graphic>
          <a:graphicData uri="http://schemas.openxmlformats.org/drawingml/2006/table">
            <a:tbl>
              <a:tblPr/>
              <a:tblGrid>
                <a:gridCol w="3154320"/>
                <a:gridCol w="5685120"/>
              </a:tblGrid>
              <a:tr h="40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6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ich connecting wire, A, B, C,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D, or E, will be the first to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become dangerously hot  if too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many appliances are turned on?</a:t>
                      </a:r>
                      <a:br>
                        <a:rPr sz="2400"/>
                      </a:b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w can overheating be prevented,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en if all the appliances in th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use are turned 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" name="Picture 6" descr="housewiring"/>
          <p:cNvPicPr/>
          <p:nvPr/>
        </p:nvPicPr>
        <p:blipFill>
          <a:blip r:embed="rId1"/>
          <a:stretch/>
        </p:blipFill>
        <p:spPr>
          <a:xfrm>
            <a:off x="852480" y="2195640"/>
            <a:ext cx="2438280" cy="2666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nating Current Frequ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North America, the current alternates back and forth in what we call cycles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1 cycle/second = 1 Hert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 frequency in North America =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60 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ervice Pa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he service panel has black, red, and white wires, the total voltage is 120 + 120 = 240 vol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ervice panel usually contains circuit breakers.  The breakers have either a red or a black wire attached to th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ervice panel provides electricity for the branch circui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Line 5"/>
          <p:cNvSpPr/>
          <p:nvPr/>
        </p:nvSpPr>
        <p:spPr>
          <a:xfrm flipV="1">
            <a:off x="3505320" y="1447560"/>
            <a:ext cx="228600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5562720" y="11430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ually 15 amp brea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7"/>
          <p:cNvSpPr/>
          <p:nvPr/>
        </p:nvSpPr>
        <p:spPr>
          <a:xfrm flipV="1">
            <a:off x="3505320" y="3047760"/>
            <a:ext cx="228600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5715000" y="2666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0 amps or gre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werful Dev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1" name="Picture 5" descr="hot-tub-deck"/>
          <p:cNvPicPr/>
          <p:nvPr/>
        </p:nvPicPr>
        <p:blipFill>
          <a:blip r:embed="rId1"/>
          <a:stretch/>
        </p:blipFill>
        <p:spPr>
          <a:xfrm>
            <a:off x="304920" y="2438280"/>
            <a:ext cx="4495680" cy="3017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stove"/>
          <p:cNvPicPr/>
          <p:nvPr/>
        </p:nvPicPr>
        <p:blipFill>
          <a:blip r:embed="rId2"/>
          <a:stretch/>
        </p:blipFill>
        <p:spPr>
          <a:xfrm>
            <a:off x="5410080" y="1905120"/>
            <a:ext cx="295272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eutral Wire (Whit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neutral wire is the 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ounds protect us from electro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ce Panel has a ground w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prong plug – the circular, bottom hole leads to the ground buried outsi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eutral Wire (Whit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neutral wire is ___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ounds protect us from 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ce Panel has a ____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prong plug – the circular, bottom hole _________________________________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ree Prong Plu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8" name="Object 3"/>
          <p:cNvGraphicFramePr/>
          <p:nvPr/>
        </p:nvGraphicFramePr>
        <p:xfrm>
          <a:off x="2209680" y="2133720"/>
          <a:ext cx="4934160" cy="36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133720"/>
                    <a:ext cx="4934160" cy="36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service"/>
          <p:cNvPicPr/>
          <p:nvPr/>
        </p:nvPicPr>
        <p:blipFill>
          <a:blip r:embed="rId1"/>
          <a:stretch/>
        </p:blipFill>
        <p:spPr>
          <a:xfrm>
            <a:off x="2133720" y="0"/>
            <a:ext cx="519588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ircuit Break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breakers open the circuit when a current in a house wire exceeds the rated current for that circui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ircuit breaker protects people from being electrocuted to death and protects us from burning down the hou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overloads cause the generation of he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ork = force (Newtons) X distance (m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 to do work a force must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move through a dist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inetic energy involves movement or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energy means that it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Earth we can convert our weight in kilograms </a:t>
            </a:r>
            <a:r>
              <a:rPr b="0" lang="en-US" sz="2800" spc="-1" strike="noStrike">
                <a:solidFill>
                  <a:srgbClr val="990099"/>
                </a:solidFill>
                <a:latin typeface="Tahoma"/>
              </a:rPr>
              <a:t>to Newtons by multiplying by 1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i.e.. One kilogram becomes 10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thermc1"/>
          <p:cNvPicPr/>
          <p:nvPr/>
        </p:nvPicPr>
        <p:blipFill>
          <a:blip r:embed="rId1"/>
          <a:stretch/>
        </p:blipFill>
        <p:spPr>
          <a:xfrm>
            <a:off x="2432160" y="0"/>
            <a:ext cx="436392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7"/>
          <p:cNvSpPr/>
          <p:nvPr/>
        </p:nvSpPr>
        <p:spPr>
          <a:xfrm>
            <a:off x="2514600" y="4267080"/>
            <a:ext cx="1371600" cy="381240"/>
          </a:xfrm>
          <a:prstGeom prst="rightArrow">
            <a:avLst>
              <a:gd name="adj1" fmla="val 50000"/>
              <a:gd name="adj2" fmla="val 8994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ircuit breakers - Detai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dinary breakers are rated as </a:t>
            </a: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15 amp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bigger breakers provided for such circuits that require </a:t>
            </a: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240 volts – e.g.. Dryers and water heat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ead of circuit breakers some electrical devices have fuses.  Often electric stoves have </a:t>
            </a:r>
            <a:r>
              <a:rPr b="1" lang="en-US" sz="3200" spc="-1" strike="noStrike">
                <a:solidFill>
                  <a:srgbClr val="009900"/>
                </a:solidFill>
                <a:latin typeface="Tahoma"/>
              </a:rPr>
              <a:t>fu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8" descr="fuse"/>
          <p:cNvPicPr/>
          <p:nvPr/>
        </p:nvPicPr>
        <p:blipFill>
          <a:blip r:embed="rId1"/>
          <a:stretch/>
        </p:blipFill>
        <p:spPr>
          <a:xfrm>
            <a:off x="1828800" y="1981080"/>
            <a:ext cx="3076560" cy="26290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8105760" cy="153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ses are Older than Circuit of Break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33520" y="1828800"/>
          <a:ext cx="7391160" cy="5029200"/>
        </p:xfrm>
        <a:graphic>
          <a:graphicData uri="http://schemas.openxmlformats.org/drawingml/2006/table">
            <a:tbl>
              <a:tblPr/>
              <a:tblGrid>
                <a:gridCol w="7391160"/>
              </a:tblGrid>
              <a:tr h="502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6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</a:t>
                      </a:r>
                      <a:br>
                        <a:rPr sz="2400"/>
                      </a:br>
                      <a:br>
                        <a:rPr sz="2500"/>
                      </a:b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en ribbon carries too much current,</a:t>
                      </a:r>
                      <a:br>
                        <a:rPr sz="2500"/>
                      </a:b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 </a:t>
                      </a:r>
                      <a:r>
                        <a:rPr b="1" lang="en-US" sz="25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melts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interrupting the current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Rectangle 27"/>
          <p:cNvSpPr/>
          <p:nvPr/>
        </p:nvSpPr>
        <p:spPr>
          <a:xfrm>
            <a:off x="1788480" y="54932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GFCI – Ground Fault Circuit Interrupte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2" name="Picture 5" descr="gfc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0080" y="1905120"/>
            <a:ext cx="2337120" cy="4572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7"/>
          <p:cNvSpPr/>
          <p:nvPr/>
        </p:nvSpPr>
        <p:spPr>
          <a:xfrm>
            <a:off x="4572000" y="1905120"/>
            <a:ext cx="419112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s current differences in the neutral and hot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s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the internal breaker goes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re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near water sources – where safety is conc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hroom, outdoor outl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9328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 Hold Wi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 hold circuits are </a:t>
            </a:r>
            <a:r>
              <a:rPr b="1" lang="en-US" sz="2800" spc="-1" strike="noStrike">
                <a:solidFill>
                  <a:srgbClr val="990099"/>
                </a:solidFill>
                <a:latin typeface="Tahoma"/>
              </a:rPr>
              <a:t>120 vol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re </a:t>
            </a: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alternating 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Appliances are usually connected in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rall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ircuits are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Tahoma"/>
              </a:rPr>
              <a:t>polariz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That is, the black wire is connected in a certain way and the neutral wire is connected in a certain wa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ized plugs reduce the risk of an electrical shock by forcing electricity to flow in one general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a_408_1_1"/>
          <p:cNvPicPr/>
          <p:nvPr/>
        </p:nvPicPr>
        <p:blipFill>
          <a:blip r:embed="rId1"/>
          <a:stretch/>
        </p:blipFill>
        <p:spPr>
          <a:xfrm>
            <a:off x="0" y="0"/>
            <a:ext cx="567072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5867280" y="38088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Types of Plugs Used in the Ho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8"/>
          <p:cNvSpPr/>
          <p:nvPr/>
        </p:nvSpPr>
        <p:spPr>
          <a:xfrm flipV="1">
            <a:off x="2133720" y="3809880"/>
            <a:ext cx="4572000" cy="1067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6629400" y="350532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Drier Plug or Stove Plu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6324480" y="205740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Lamp Plug or Hair Dr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(Polariz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Line 11"/>
          <p:cNvSpPr/>
          <p:nvPr/>
        </p:nvSpPr>
        <p:spPr>
          <a:xfrm>
            <a:off x="3352680" y="1523880"/>
            <a:ext cx="2971800" cy="685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ree Prong Plu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3" name="Object 4"/>
          <p:cNvGraphicFramePr/>
          <p:nvPr/>
        </p:nvGraphicFramePr>
        <p:xfrm>
          <a:off x="2209680" y="2133720"/>
          <a:ext cx="4934160" cy="36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133720"/>
                    <a:ext cx="4934160" cy="36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ree pronged plu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2017440"/>
            <a:ext cx="842148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ound prong is the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Tahoma"/>
              </a:rPr>
              <a:t>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onger hole is connected to 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whi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ire (neutral).  We need this wire to complete the circu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horter hole is connected to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lac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ire.(hot – </a:t>
            </a: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120 Vol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grounded plug is safer than a two pronged plu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ounding the Curr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2017440"/>
            <a:ext cx="857412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ervice panel is connected to a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ong metal stake that buried outside the hou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person is electrocuted most of the current will go to grou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uch older houses the wiring is grounded on the </a:t>
            </a: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copper water pip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9"/>
          <p:cNvGraphicFramePr/>
          <p:nvPr/>
        </p:nvGraphicFramePr>
        <p:xfrm>
          <a:off x="1295280" y="0"/>
          <a:ext cx="58215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0"/>
                    <a:ext cx="58215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Line 12"/>
          <p:cNvSpPr/>
          <p:nvPr/>
        </p:nvSpPr>
        <p:spPr>
          <a:xfrm>
            <a:off x="4648320" y="5410080"/>
            <a:ext cx="38088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AutoShape 13"/>
          <p:cNvSpPr/>
          <p:nvPr/>
        </p:nvSpPr>
        <p:spPr>
          <a:xfrm rot="19368000">
            <a:off x="5486400" y="3276360"/>
            <a:ext cx="3124080" cy="990360"/>
          </a:xfrm>
          <a:prstGeom prst="leftArrow">
            <a:avLst>
              <a:gd name="adj1" fmla="val 50000"/>
              <a:gd name="adj2" fmla="val 7886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4952880" y="5181480"/>
            <a:ext cx="2438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Ground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ergy = Voltage X Current X ti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units for energy are joules (J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Power = energy /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Power = Voltage (v)  X Current (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386640" y="151560"/>
            <a:ext cx="769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roperly Grounded Appliance with Sh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 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Picture 6" descr="washerwithshort"/>
          <p:cNvPicPr/>
          <p:nvPr/>
        </p:nvPicPr>
        <p:blipFill>
          <a:blip r:embed="rId1"/>
          <a:stretch/>
        </p:blipFill>
        <p:spPr>
          <a:xfrm>
            <a:off x="0" y="762120"/>
            <a:ext cx="8839080" cy="38145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21"/>
          <p:cNvSpPr/>
          <p:nvPr/>
        </p:nvSpPr>
        <p:spPr>
          <a:xfrm>
            <a:off x="0" y="4419720"/>
            <a:ext cx="9144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e milliampere:    tingling sensation</a:t>
            </a:r>
            <a:br>
              <a:rPr sz="2400"/>
            </a:br>
            <a:r>
              <a:rPr b="1" lang="en-US" sz="2400" spc="-1" strike="noStrike">
                <a:solidFill>
                  <a:srgbClr val="990099"/>
                </a:solidFill>
                <a:latin typeface="Tahoma"/>
              </a:rPr>
              <a:t>Ten milliamperes:   nerves and muscles overloaded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00 milliamperes:   potentially fatal; heart fibrillation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500 -1000 milliamperes:  not necessarily fatal; heart will restart -- One ampere or more: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 burn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gfci-figure2"/>
          <p:cNvPicPr/>
          <p:nvPr/>
        </p:nvPicPr>
        <p:blipFill>
          <a:blip r:embed="rId1"/>
          <a:stretch/>
        </p:blipFill>
        <p:spPr>
          <a:xfrm>
            <a:off x="1219320" y="0"/>
            <a:ext cx="647676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"/>
          <p:cNvSpPr/>
          <p:nvPr/>
        </p:nvSpPr>
        <p:spPr>
          <a:xfrm>
            <a:off x="1143000" y="1112040"/>
            <a:ext cx="439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rounded Appli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698480" y="2119320"/>
          <a:ext cx="5747040" cy="3078000"/>
        </p:xfrm>
        <a:graphic>
          <a:graphicData uri="http://schemas.openxmlformats.org/drawingml/2006/table">
            <a:tbl>
              <a:tblPr/>
              <a:tblGrid>
                <a:gridCol w="5747040"/>
              </a:tblGrid>
              <a:tr h="34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1" name="Picture 6" descr="washerwithground"/>
          <p:cNvPicPr/>
          <p:nvPr/>
        </p:nvPicPr>
        <p:blipFill>
          <a:blip r:embed="rId1"/>
          <a:stretch/>
        </p:blipFill>
        <p:spPr>
          <a:xfrm>
            <a:off x="152280" y="1828800"/>
            <a:ext cx="8991720" cy="4543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15600" cy="145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Ground Plugs Prevent You from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ecoming the Shortest, Easiest Path to the Ground!!  </a:t>
            </a:r>
            <a:r>
              <a:rPr b="1" lang="en-US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3" name="Picture 5" descr="washerwithoutshort"/>
          <p:cNvPicPr/>
          <p:nvPr/>
        </p:nvPicPr>
        <p:blipFill>
          <a:blip r:embed="rId1"/>
          <a:stretch/>
        </p:blipFill>
        <p:spPr>
          <a:xfrm>
            <a:off x="0" y="1852560"/>
            <a:ext cx="9144000" cy="462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void! Or.. Thou Shalt Not!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yed electrical w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ctopus outl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 and electrical w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ug receptacles to protect small child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 loading electrical circu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 Hold Energy Consum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dro bills are established by finding out how many kilowatt hours of electricity your household has used in a given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 kWh = kilowatts X time (hou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 kWh = 1 000 Watts X 1 ho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 kWh = 1 000 W X 3 600 seco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ading the Meter – always use the smallest numb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47520" y="2743200"/>
            <a:ext cx="9096480" cy="1925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reading should be </a:t>
            </a:r>
            <a:r>
              <a:rPr b="0" lang="en-US" sz="4400" spc="-1" strike="noStrike">
                <a:solidFill>
                  <a:srgbClr val="cc3300"/>
                </a:solidFill>
                <a:latin typeface="Tahoma"/>
              </a:rPr>
              <a:t>8876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7800840" cy="1650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fici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a comparison of the amount of energy obtained as compared to the amount of energy put into th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Efficiency = energy output / energy in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convert it to a percentage just multiply the answer by 100 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 Hold Wi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ires coming into a house include a black, a red and a whi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lac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res are “</a:t>
            </a:r>
            <a:r>
              <a:rPr b="0" lang="en-US" sz="2800" spc="-1" strike="noStrike">
                <a:solidFill>
                  <a:srgbClr val="990099"/>
                </a:solidFill>
                <a:latin typeface="Tahoma"/>
              </a:rPr>
              <a:t>h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hite wire is neutral – leading to a g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black is rated as being 120 v from the neut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d is rated as being 120 v from the neut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4"/>
          <p:cNvGraphicFramePr/>
          <p:nvPr/>
        </p:nvGraphicFramePr>
        <p:xfrm>
          <a:off x="152280" y="685800"/>
          <a:ext cx="9144000" cy="632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5800"/>
                    <a:ext cx="9144000" cy="632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61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lectricity Entering Your Hous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029200" y="8380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4800600" y="838080"/>
            <a:ext cx="43434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Red = In at 120V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lack = Out at 120V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Potential difference = 240V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04:02:24Z</dcterms:created>
  <dc:creator>William  Irwin</dc:creator>
  <dc:description/>
  <dc:language>en-US</dc:language>
  <cp:lastModifiedBy>RomaK</cp:lastModifiedBy>
  <dcterms:modified xsi:type="dcterms:W3CDTF">2015-09-03T12:29:45Z</dcterms:modified>
  <cp:revision>69</cp:revision>
  <dc:subject/>
  <dc:title>Chapter 5</dc:title>
</cp:coreProperties>
</file>