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type.wav" ContentType="audio/x-wav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8F32-80CA-4285-8320-386CDDDD7C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30C-CCE3-45A4-8EDC-395BD753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704-992E-49B3-908D-08A72E28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335-818F-4F70-9252-377E8239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A56-A2F0-4852-B5B6-8E53A814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F4FB-9061-4020-8D14-FE1C830D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EC7B-283B-44BD-9AA1-89F50F26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473F-5E50-45B3-A42A-A73BF5CA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E703-BE62-4B8B-9406-4CC6487C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4CA2-9F98-4BD9-8D35-23DA3BD0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E567-119A-47BE-AEC4-3213B9FE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A68A-BD5F-415F-91E6-104FF7E4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A32C-F87D-454E-9244-807F9DEC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82F8-35AB-4D59-992A-4BF414B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1933-6615-4036-B311-6AA412F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3558-4075-4547-850E-30C53E41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9344-2943-4014-9F5A-CB5556B0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4D08-6C6F-4267-A49B-2BE9C9CF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BB4-347E-4A68-B54B-9E673CE7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377-19DD-4A86-B48B-A4DC7022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33F-322C-4D80-8CF9-E25EEEB5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E9C-116B-47B7-A516-284661F8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874-5127-4EE7-8D4D-44D596D1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875-C490-4F17-A553-797160F0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824-416B-4CB0-8D69-0752CFFB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0747-1BEA-4945-8A08-5F4523B54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E4DB-6A5D-4842-A2EC-BD08A428C29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hebarn.virtualave.net/ex/electrical/gfci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beetlejuice4-2"/>
          <p:cNvPicPr/>
          <p:nvPr/>
        </p:nvPicPr>
        <p:blipFill>
          <a:blip r:embed="rId1"/>
          <a:stretch/>
        </p:blipFill>
        <p:spPr>
          <a:xfrm>
            <a:off x="4800600" y="457200"/>
            <a:ext cx="2619360" cy="343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hold Wiring is in Parall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2149560"/>
          <a:ext cx="8839440" cy="4098960"/>
        </p:xfrm>
        <a:graphic>
          <a:graphicData uri="http://schemas.openxmlformats.org/drawingml/2006/table">
            <a:tbl>
              <a:tblPr/>
              <a:tblGrid>
                <a:gridCol w="3154320"/>
                <a:gridCol w="5685120"/>
              </a:tblGrid>
              <a:tr h="40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ch connecting wire, A, B, C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D, or E, will be the first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become dangerously hot  if to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many appliances are turned on?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overheating be prevented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 if all the appliances in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are turned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6" descr="housewiring"/>
          <p:cNvPicPr/>
          <p:nvPr/>
        </p:nvPicPr>
        <p:blipFill>
          <a:blip r:embed="rId1"/>
          <a:stretch/>
        </p:blipFill>
        <p:spPr>
          <a:xfrm>
            <a:off x="852480" y="219564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ng Current 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1 cycle/second = 1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 frequency in North America =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6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rvice 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Line 5"/>
          <p:cNvSpPr/>
          <p:nvPr/>
        </p:nvSpPr>
        <p:spPr>
          <a:xfrm flipV="1">
            <a:off x="3505320" y="14475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562720" y="11430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V="1">
            <a:off x="3505320" y="3047760"/>
            <a:ext cx="228600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7150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werful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hot-tub-deck"/>
          <p:cNvPicPr/>
          <p:nvPr/>
        </p:nvPicPr>
        <p:blipFill>
          <a:blip r:embed="rId1"/>
          <a:stretch/>
        </p:blipFill>
        <p:spPr>
          <a:xfrm>
            <a:off x="304920" y="2438280"/>
            <a:ext cx="4495680" cy="30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tove"/>
          <p:cNvPicPr/>
          <p:nvPr/>
        </p:nvPicPr>
        <p:blipFill>
          <a:blip r:embed="rId2"/>
          <a:stretch/>
        </p:blipFill>
        <p:spPr>
          <a:xfrm>
            <a:off x="5410080" y="19051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ervice"/>
          <p:cNvPicPr/>
          <p:nvPr/>
        </p:nvPicPr>
        <p:blipFill>
          <a:blip r:embed="rId1"/>
          <a:stretch/>
        </p:blipFill>
        <p:spPr>
          <a:xfrm>
            <a:off x="2133720" y="0"/>
            <a:ext cx="51958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rk = force (Newtons) X distance (m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 to do work a force must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move through a dist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Earth we can convert our weight in kilograms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o Newtons by multiplying by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i.e.. One kilogram becomes 10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thermc1"/>
          <p:cNvPicPr/>
          <p:nvPr/>
        </p:nvPicPr>
        <p:blipFill>
          <a:blip r:embed="rId1"/>
          <a:stretch/>
        </p:blipFill>
        <p:spPr>
          <a:xfrm>
            <a:off x="2432160" y="0"/>
            <a:ext cx="43639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7"/>
          <p:cNvSpPr/>
          <p:nvPr/>
        </p:nvSpPr>
        <p:spPr>
          <a:xfrm>
            <a:off x="2514600" y="426708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 -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inary breakers are rated as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5 am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240 volts – e.g.. Dryers and water hea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fu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fuse"/>
          <p:cNvPicPr/>
          <p:nvPr/>
        </p:nvPicPr>
        <p:blipFill>
          <a:blip r:embed="rId1"/>
          <a:stretch/>
        </p:blipFill>
        <p:spPr>
          <a:xfrm>
            <a:off x="1828800" y="1981080"/>
            <a:ext cx="3076560" cy="2629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05760" cy="15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ses are Older than Circuit of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1828800"/>
          <a:ext cx="7391160" cy="502920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</a:t>
                      </a:r>
                      <a:br>
                        <a:rPr sz="2400"/>
                      </a:b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n ribbon carries too much current,</a:t>
                      </a: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elts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interrupting the current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7"/>
          <p:cNvSpPr/>
          <p:nvPr/>
        </p:nvSpPr>
        <p:spPr>
          <a:xfrm>
            <a:off x="1788480" y="5493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GFCI – Ground Fault Circuit Interrupt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5" descr="gfc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0080" y="1905120"/>
            <a:ext cx="2337120" cy="4572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4572000" y="1905120"/>
            <a:ext cx="41911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932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hold circuits are 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re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alternating 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Appliances are usually connected i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s ar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ahoma"/>
              </a:rPr>
              <a:t>polar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That is, the black wire is connected in a certain way and the neutral wire is connected in a certain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a_408_1_1"/>
          <p:cNvPicPr/>
          <p:nvPr/>
        </p:nvPicPr>
        <p:blipFill>
          <a:blip r:embed="rId1"/>
          <a:stretch/>
        </p:blipFill>
        <p:spPr>
          <a:xfrm>
            <a:off x="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5867280" y="3808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es of Plugs Used in the 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2133720" y="3809880"/>
            <a:ext cx="457200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629400" y="35053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rier Plug or Stove Plu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324480" y="205740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mp Plug or Hair Dr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Polariz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3352680" y="1523880"/>
            <a:ext cx="297180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ed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ound prong is th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nger hole is connected to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 (neutral).  We need this wire to complete the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orter hole is connected 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.(hot –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nding the Curr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 panel is connected to a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ng metal stake that buried outside the ho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uch older houses the wiring is grounded on th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opper water pip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9"/>
          <p:cNvGraphicFramePr/>
          <p:nvPr/>
        </p:nvGraphicFramePr>
        <p:xfrm>
          <a:off x="1295280" y="0"/>
          <a:ext cx="5821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5821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2"/>
          <p:cNvSpPr/>
          <p:nvPr/>
        </p:nvSpPr>
        <p:spPr>
          <a:xfrm>
            <a:off x="4648320" y="541008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3"/>
          <p:cNvSpPr/>
          <p:nvPr/>
        </p:nvSpPr>
        <p:spPr>
          <a:xfrm rot="19368000">
            <a:off x="5486400" y="3276360"/>
            <a:ext cx="3124080" cy="990360"/>
          </a:xfrm>
          <a:prstGeom prst="leftArrow">
            <a:avLst>
              <a:gd name="adj1" fmla="val 50000"/>
              <a:gd name="adj2" fmla="val 7886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952880" y="518148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Ground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 = Voltage X Current X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Power = energy /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Power = Voltage (v)  X Current 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86640" y="151560"/>
            <a:ext cx="76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perly Grounded Appliance with 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6" descr="washerwithshort"/>
          <p:cNvPicPr/>
          <p:nvPr/>
        </p:nvPicPr>
        <p:blipFill>
          <a:blip r:embed="rId1"/>
          <a:stretch/>
        </p:blipFill>
        <p:spPr>
          <a:xfrm>
            <a:off x="0" y="762120"/>
            <a:ext cx="8839080" cy="3814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0" y="4419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Ten milliamperes:   nerves and muscles overload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00 milliamperes:   potentially fatal; heart fibrillation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500 -1000 milliamperes:  not necessarily fatal; heart will restart -- One ampere or more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 burn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gfci-figure2"/>
          <p:cNvPicPr/>
          <p:nvPr/>
        </p:nvPicPr>
        <p:blipFill>
          <a:blip r:embed="rId1"/>
          <a:stretch/>
        </p:blipFill>
        <p:spPr>
          <a:xfrm>
            <a:off x="12193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1143000" y="1112040"/>
            <a:ext cx="43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ounded Appli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98480" y="2119320"/>
          <a:ext cx="5747040" cy="3078000"/>
        </p:xfrm>
        <a:graphic>
          <a:graphicData uri="http://schemas.openxmlformats.org/drawingml/2006/table">
            <a:tbl>
              <a:tblPr/>
              <a:tblGrid>
                <a:gridCol w="5747040"/>
              </a:tblGrid>
              <a:tr h="34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6" descr="washerwithground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454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15600" cy="14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Ground Plugs Prevent You from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ecoming the Shortest, Easiest Path to the Ground!! 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washerwithoutshort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62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oid! Or.. Thou Shalt Not!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Energy Consum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ing the Meter – always use the smallest numb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7520" y="2743200"/>
            <a:ext cx="9096480" cy="192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reading should be </a:t>
            </a: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887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800840" cy="165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ici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Efficiency = energy output / energy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res are “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h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52280" y="685800"/>
          <a:ext cx="9144000" cy="63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9144000" cy="63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lectricity Entering Your Hou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0292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800600" y="838080"/>
            <a:ext cx="43434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Red = In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Potential difference = 24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4:02:24Z</dcterms:created>
  <dc:creator>William  Irwin</dc:creator>
  <dc:description/>
  <dc:language>en-US</dc:language>
  <cp:lastModifiedBy>RomaK</cp:lastModifiedBy>
  <dcterms:modified xsi:type="dcterms:W3CDTF">2015-09-03T12:29:45Z</dcterms:modified>
  <cp:revision>69</cp:revision>
  <dc:subject/>
  <dc:title>Chapter 5</dc:title>
</cp:coreProperties>
</file>