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type.wav" ContentType="audio/x-wav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7D9C-8316-4F35-B467-380745374A8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i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ing Electricity in the H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hold Wiring is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hold Wiring is in Parall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ng Current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orth America, the current alternates back and forth in what we call cycles per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/second = 1 Hert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frequency in North America = 6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ternating Current Frequenc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North America, the current alternates back and forth in what we call cycles per seco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cycle/second = 1 Hert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al frequency in North America = 60 H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ervice panel has black, red, and white wires, the total voltage is 120 + 120 = 240 vo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usually contains circuit breakers.  The breakers have either a red or a black wire attached to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provides electricity for the branch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the service panel has black, red, and white wires, the total voltage is 120 + 120 = 240 vol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usually contains circuit breakers.  The breakers have either a red or a black wire attached to th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provides electricity for the branch circui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15 amp break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amps or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ually 15 amp break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0 amps or grea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ful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ful Devi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is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s protect us from electro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Panel has a ground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prong plug – the circular, bottom hole leads to the ground burie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is the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s protect us from electrocu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rvice Panel has a ground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prong plug – the circular, bottom hole leads to the ground buried outsid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is 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s protect us from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Panel has a 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prong plug – the circular, bottom hole 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is 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s protect us from 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rvice Panel has a 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prong plug – the circular, bottom hole _________________________________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 open the circuit when a current in a house wire exceeds the rated current for that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it breaker protects people from being electrocuted to death and protects us from burning down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overloads cause the generation of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 open the circuit when a current in a house wire exceeds the rated current for that circui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ircuit breaker protects people from being electrocuted to death and protects us from burning down the hou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overloads cause the generation of hea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= force (Newtons) X distanc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do work a force must move through a dista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involves movement or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energy means that it can be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 we can convert our weight in kilograms to Newtons by multiplying by 10    i.e.. One kilogram becomes 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 = force (Newtons) X distance (m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do work a force must move through a distanc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inetic energy involves movement or 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energy means that it can be us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 Earth we can convert our weight in kilograms to Newtons by multiplying by 10    i.e.. One kilogram becomes 10 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 - De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inary breakers are rated as 15 a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bigger breakers provided for such circuits that require 240 volts – e.g.. Dryers and water hea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of circuit breakers some electrical devices have fuses.  Often electric stoves have 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 - De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dinary breakers are rated as 15 amp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are bigger breakers provided for such circuits that require 240 volts – e.g.. Dryers and water heat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tead of circuit breakers some electrical devices have fuses.  Often electric stoves have fus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 are Older than Circuit of Br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uses are Older than Circuit of Break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FCI – Ground Fault Circuit Interrup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s current differences in the neutral and hot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b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he internal breaker goes immedia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near water sources – where safety is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hroom, outdoor out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FCI – Ground Fault Circuit Interrup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tects current differences in the neutral and hot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ould be sa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 not, the internal breaker goes immediatel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near water sources – where safety is concer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throom, outdoor out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circuits are 120 volts and are alternating current.  Appliances are usually connected in parall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its are polarized.  That is, the black wire is connected in a certain way and the neutral wire is connected in a certain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ed plugs reduce the risk of an electrical shock by forcing electricity to flow in one general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circuits are 120 volts and are alternating current.  Appliances are usually connected in parall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ircuits are polarized.  That is, the black wire is connected in a certain way and the neutral wire is connected in a certain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larized plugs reduce the risk of an electrical shock by forcing electricity to flow in one general dir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Plugs Used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er Plug or Stove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ou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 Plug or Hair Dr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olariz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ypes of Plugs Used in the H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ier Plug or Stove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Groun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mp Plug or Hair Dr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Polarize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ed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und prong is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hole is connected to the white wire (neutral).  We need this wire to 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orter hole is connected to the black wire.(hot – 120 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nded plug is safer than a two pronged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ed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und prong is the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longer hole is connected to the white wire (neutral).  We need this wire to complete the circui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horter hole is connected to the black wire.(hot – 120 Volt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grounded plug is safer than a two pronged plu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ing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is connected to a long metal stake that buried outside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erson is electrocuted most of the current will go to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uch older houses the wiring is grounded on the copper water pi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ing the Curr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is connected to a long metal stake that buried outside the hou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 a person is electrocuted most of the current will go to groun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much older houses the wiring is grounded on the copper water pip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= Voltage X Current X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ts for energy are joules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= energy /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= Voltage (v)  X Current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ergy = Voltage X Current X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units for energy are joules (J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 = energy /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 = Voltage (v)  X Current (I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perly Grounded Appliance with Short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illiampere:    tingling sens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milliamperes:   nerves and muscles overloa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milliamperes:   potentially fatal; heart fibril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 -1000 milliamperes:  not necessarily fatal; heart will restart -- One ampere or more:  burn a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roperly Grounded Appliance with Short  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illiampere:    tingling sens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n milliamperes:   nerves and muscles overloa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 milliamperes:   potentially fatal; heart fibril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00 -1000 milliamperes:  not necessarily fatal; heart will restart -- One ampere or more:  burn al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ed Appl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ed Applianc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Plugs Prevent You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the Shortest, Easiest Path to the Ground!!  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 Plugs Prevent You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coming the Shortest, Easiest Path to the Ground!!  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oid! Or.. Thou Shalt Not!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yed electrical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opus out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and electrical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receptacles to protect small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loading 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oid! Or.. Thou Shalt Not! 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ayed electrical wi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ctopus out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ater and electrical wi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lug receptacles to protect small childr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ver loading electrical circu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Energy Consum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 bills are established by finding out how many kilowatt hours of electricity your household has used in a given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kilowatts X time (hou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1 000 Watts X 1 h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1 000 W X 3 600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Energy Consump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dro bills are established by finding out how many kilowatt hours of electricity your household has used in a given ti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kilowatts X time (hour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1 000 Watts X 1 hou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1 000 W X 3 600 seco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the Meter – always use the smallest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ing the Meter – always use the smallest numb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ading should be 887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reading should be 8876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comparison of the amount of energy obtained as compared to the amount of energy put into th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iciency = energy output / energy in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vert it to a percentage just multiply the answer by 10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a comparison of the amount of energy obtained as compared to the amount of energy put into the syst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iciency = energy output / energy inpu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 convert it to a percentage just multiply the answer by 100 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coming into a house include a black, a red and a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ack and the red wires are “hot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wire is neutral – leading to a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ack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d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wires coming into a house include a black, a red and a whit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black and the red wires are “hot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white wire is neutral – leading to a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black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d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Entering You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= In at 12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= Out at 12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= 24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ity Entering Your Ho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d = In at 12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lack = Out at 12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difference = 24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0F2-CAE4-43E0-A304-1A785B07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E675-F1DD-4544-AD38-2960817F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874-0B68-43A3-BC54-B5C886C8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B22-4AD6-4AC0-B0D4-58ED07F7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D9C9-1577-4819-9F49-0DEB423E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C769-2F29-4278-BB77-081A5B2C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B990-9375-422E-AFEB-234388EE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A316-1F12-4368-B53C-9F8EE401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513D-D599-4565-ABE7-A257BC43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4D82-3A16-4E3F-AB19-59A47768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B194-A55F-4ADA-B3F2-36BAC1AE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A96-D5C8-4DE2-8377-CF19F391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4D3E-1371-4151-BA77-2D5776AC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8B73-E397-4F46-B12D-A22C7053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7B5E-4C70-4673-A356-FC98EB3A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0D54-8AD1-49D8-9C17-5FBA868A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BC03-87DC-492C-9019-0AFCEA3C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23E-13C5-48F1-B66C-13450E0F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74CE-0079-47F2-9D0D-E171F0D6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95B-5FA6-40FD-8CB7-773E552E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64F7-618A-4050-87A4-D998E7BB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81A-9796-44A4-B00F-46DAD065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F31-947E-4DC4-9B2B-3A1EF617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8BC-636A-453E-B0DE-1C50211A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9E1A-7232-4953-A6D8-5499F5A33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3E87-70FD-4BE0-813E-1AEE2C312D1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thebarn.virtualave.net/ex/electrical/gfci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pter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ing Electricity in the Ho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beetlejuice4-2"/>
          <p:cNvPicPr/>
          <p:nvPr/>
        </p:nvPicPr>
        <p:blipFill>
          <a:blip r:embed="rId1"/>
          <a:stretch/>
        </p:blipFill>
        <p:spPr>
          <a:xfrm>
            <a:off x="4800600" y="457200"/>
            <a:ext cx="2619360" cy="343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hold Wiring is in Parall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280" y="2149560"/>
          <a:ext cx="8839440" cy="4098960"/>
        </p:xfrm>
        <a:graphic>
          <a:graphicData uri="http://schemas.openxmlformats.org/drawingml/2006/table">
            <a:tbl>
              <a:tblPr/>
              <a:tblGrid>
                <a:gridCol w="3154320"/>
                <a:gridCol w="5685120"/>
              </a:tblGrid>
              <a:tr h="40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ich connecting wire, A, B, C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D, or E, will be the first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become dangerously hot  if to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many appliances are turned on?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overheating be prevented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 if all the appliances in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e are turned 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6" descr="housewiring"/>
          <p:cNvPicPr/>
          <p:nvPr/>
        </p:nvPicPr>
        <p:blipFill>
          <a:blip r:embed="rId1"/>
          <a:stretch/>
        </p:blipFill>
        <p:spPr>
          <a:xfrm>
            <a:off x="852480" y="2195640"/>
            <a:ext cx="243828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ng Current 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North America, the current alternates back and forth in what we call cycles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1 cycle/second = 1 Her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 frequency in North America =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60 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rvice Pa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he service panel has black, red, and white wires, the total voltage is 120 + 120 = 240 vo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rvice panel usually contains circuit breakers.  The breakers have either a red or a black wire attached to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rvice panel provides electricity for the branch circu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Line 5"/>
          <p:cNvSpPr/>
          <p:nvPr/>
        </p:nvSpPr>
        <p:spPr>
          <a:xfrm flipV="1">
            <a:off x="3505320" y="1447560"/>
            <a:ext cx="228600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562720" y="11430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ually 15 amp brea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7"/>
          <p:cNvSpPr/>
          <p:nvPr/>
        </p:nvSpPr>
        <p:spPr>
          <a:xfrm flipV="1">
            <a:off x="3505320" y="3047760"/>
            <a:ext cx="228600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71500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0 amps or gre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werful De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Picture 5" descr="hot-tub-deck"/>
          <p:cNvPicPr/>
          <p:nvPr/>
        </p:nvPicPr>
        <p:blipFill>
          <a:blip r:embed="rId1"/>
          <a:stretch/>
        </p:blipFill>
        <p:spPr>
          <a:xfrm>
            <a:off x="304920" y="2438280"/>
            <a:ext cx="4495680" cy="3017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stove"/>
          <p:cNvPicPr/>
          <p:nvPr/>
        </p:nvPicPr>
        <p:blipFill>
          <a:blip r:embed="rId2"/>
          <a:stretch/>
        </p:blipFill>
        <p:spPr>
          <a:xfrm>
            <a:off x="5410080" y="190512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tral Wire (Wh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utral wire is the 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nds protect us from electro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anel has a ground w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prong plug – the circular, bottom hole leads to the ground buried outsi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tral Wire (Wh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utral wire is 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nds protect us from 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anel has a 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prong plug – the circular, bottom hole ________________________________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2209680" y="2133720"/>
          <a:ext cx="493416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93416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ervice"/>
          <p:cNvPicPr/>
          <p:nvPr/>
        </p:nvPicPr>
        <p:blipFill>
          <a:blip r:embed="rId1"/>
          <a:stretch/>
        </p:blipFill>
        <p:spPr>
          <a:xfrm>
            <a:off x="2133720" y="0"/>
            <a:ext cx="51958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it Br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breakers open the circuit when a current in a house wire exceeds the rated current for that circu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rcuit breaker protects people from being electrocuted to death and protects us from burning down the ho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overloads cause the generation of he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ork = force (Newtons) X distance (m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 to do work a force must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move through a dist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netic energy involves movement or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energy means that it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Earth we can convert our weight in kilograms 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to Newtons by multiplying by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i.e.. One kilogram becomes 10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thermc1"/>
          <p:cNvPicPr/>
          <p:nvPr/>
        </p:nvPicPr>
        <p:blipFill>
          <a:blip r:embed="rId1"/>
          <a:stretch/>
        </p:blipFill>
        <p:spPr>
          <a:xfrm>
            <a:off x="2432160" y="0"/>
            <a:ext cx="43639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7"/>
          <p:cNvSpPr/>
          <p:nvPr/>
        </p:nvSpPr>
        <p:spPr>
          <a:xfrm>
            <a:off x="2514600" y="426708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it breakers -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inary breakers are rated as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15 am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bigger breakers provided for such circuits that require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240 volts – e.g.. Dryers and water hea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ead of circuit breakers some electrical devices have fuses.  Often electric stoves have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fu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8" descr="fuse"/>
          <p:cNvPicPr/>
          <p:nvPr/>
        </p:nvPicPr>
        <p:blipFill>
          <a:blip r:embed="rId1"/>
          <a:stretch/>
        </p:blipFill>
        <p:spPr>
          <a:xfrm>
            <a:off x="1828800" y="1981080"/>
            <a:ext cx="3076560" cy="2629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05760" cy="153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ses are Older than Circuit of Br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3520" y="1828800"/>
          <a:ext cx="7391160" cy="502920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50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6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</a:t>
                      </a:r>
                      <a:br>
                        <a:rPr sz="2400"/>
                      </a:br>
                      <a:br>
                        <a:rPr sz="2500"/>
                      </a:b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n ribbon carries too much current,</a:t>
                      </a:r>
                      <a:br>
                        <a:rPr sz="2500"/>
                      </a:b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elts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interrupting the current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27"/>
          <p:cNvSpPr/>
          <p:nvPr/>
        </p:nvSpPr>
        <p:spPr>
          <a:xfrm>
            <a:off x="1788480" y="5493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GFCI – Ground Fault Circuit Interrupt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5" descr="gfc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0080" y="1905120"/>
            <a:ext cx="2337120" cy="4572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4572000" y="1905120"/>
            <a:ext cx="41911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s current differences in the neutral and hot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the internal breaker goes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near water sources – where safety is conc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hroom, outdoor outl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932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Wi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hold circuits are </a:t>
            </a:r>
            <a:r>
              <a:rPr b="1" lang="en-US" sz="2800" spc="-1" strike="noStrike">
                <a:solidFill>
                  <a:srgbClr val="990099"/>
                </a:solidFill>
                <a:latin typeface="Tahoma"/>
              </a:rPr>
              <a:t>120 vol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re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alternating 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Appliances are usually connected in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rcuits are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Tahoma"/>
              </a:rPr>
              <a:t>polariz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That is, the black wire is connected in a certain way and the neutral wire is connected in a certain w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ized plugs reduce the risk of an electrical shock by forcing electricity to flow in one general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a_408_1_1"/>
          <p:cNvPicPr/>
          <p:nvPr/>
        </p:nvPicPr>
        <p:blipFill>
          <a:blip r:embed="rId1"/>
          <a:stretch/>
        </p:blipFill>
        <p:spPr>
          <a:xfrm>
            <a:off x="0" y="0"/>
            <a:ext cx="56707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5867280" y="3808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es of Plugs Used in the H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8"/>
          <p:cNvSpPr/>
          <p:nvPr/>
        </p:nvSpPr>
        <p:spPr>
          <a:xfrm flipV="1">
            <a:off x="2133720" y="3809880"/>
            <a:ext cx="4572000" cy="106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629400" y="35053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rier Plug or Stove Plu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6324480" y="205740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mp Plug or Hair Dr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Polariz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3352680" y="1523880"/>
            <a:ext cx="2971800" cy="685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2209680" y="2133720"/>
          <a:ext cx="493416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93416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ed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ound prong is th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onger hole is connected to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re (neutral).  We need this wire to complete the circu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horter hole is connected to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ac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re.(hot –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120 Vol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grounded plug is safer than a two pronged plu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nding the Curr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ice panel is connected to a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ong metal stake that buried outside the ho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person is electrocuted most of the current will go to grou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uch older houses the wiring is grounded on the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copper water pip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9"/>
          <p:cNvGraphicFramePr/>
          <p:nvPr/>
        </p:nvGraphicFramePr>
        <p:xfrm>
          <a:off x="1295280" y="0"/>
          <a:ext cx="5821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0"/>
                    <a:ext cx="5821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12"/>
          <p:cNvSpPr/>
          <p:nvPr/>
        </p:nvSpPr>
        <p:spPr>
          <a:xfrm>
            <a:off x="4648320" y="5410080"/>
            <a:ext cx="38088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3"/>
          <p:cNvSpPr/>
          <p:nvPr/>
        </p:nvSpPr>
        <p:spPr>
          <a:xfrm rot="19368000">
            <a:off x="5486400" y="3276360"/>
            <a:ext cx="3124080" cy="990360"/>
          </a:xfrm>
          <a:prstGeom prst="leftArrow">
            <a:avLst>
              <a:gd name="adj1" fmla="val 50000"/>
              <a:gd name="adj2" fmla="val 7886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4952880" y="5181480"/>
            <a:ext cx="243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Ground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ergy = Voltage X Current X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nits for energy are joules (J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Power = energy /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Power = Voltage (v)  X Current (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386640" y="151560"/>
            <a:ext cx="76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perly Grounded Appliance with Sh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6" descr="washerwithshort"/>
          <p:cNvPicPr/>
          <p:nvPr/>
        </p:nvPicPr>
        <p:blipFill>
          <a:blip r:embed="rId1"/>
          <a:stretch/>
        </p:blipFill>
        <p:spPr>
          <a:xfrm>
            <a:off x="0" y="762120"/>
            <a:ext cx="8839080" cy="38145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1"/>
          <p:cNvSpPr/>
          <p:nvPr/>
        </p:nvSpPr>
        <p:spPr>
          <a:xfrm>
            <a:off x="0" y="44197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e milliampere:    tingling sensation</a:t>
            </a:r>
            <a:br>
              <a:rPr sz="2400"/>
            </a:br>
            <a:r>
              <a:rPr b="1" lang="en-US" sz="2400" spc="-1" strike="noStrike">
                <a:solidFill>
                  <a:srgbClr val="990099"/>
                </a:solidFill>
                <a:latin typeface="Tahoma"/>
              </a:rPr>
              <a:t>Ten milliamperes:   nerves and muscles overloaded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00 milliamperes:   potentially fatal; heart fibrillation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500 -1000 milliamperes:  not necessarily fatal; heart will restart -- One ampere or more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 burn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gfci-figure2"/>
          <p:cNvPicPr/>
          <p:nvPr/>
        </p:nvPicPr>
        <p:blipFill>
          <a:blip r:embed="rId1"/>
          <a:stretch/>
        </p:blipFill>
        <p:spPr>
          <a:xfrm>
            <a:off x="1219320" y="0"/>
            <a:ext cx="64767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1143000" y="1112040"/>
            <a:ext cx="43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ounded Appli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98480" y="2119320"/>
          <a:ext cx="5747040" cy="3078000"/>
        </p:xfrm>
        <a:graphic>
          <a:graphicData uri="http://schemas.openxmlformats.org/drawingml/2006/table">
            <a:tbl>
              <a:tblPr/>
              <a:tblGrid>
                <a:gridCol w="5747040"/>
              </a:tblGrid>
              <a:tr h="34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Picture 6" descr="washerwithground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454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15600" cy="145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Ground Plugs Prevent You from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ecoming the Shortest, Easiest Path to the Ground!!  </a:t>
            </a:r>
            <a:r>
              <a:rPr b="1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5" descr="washerwithoutshort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462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oid! Or.. Thou Shalt Not!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yed electrical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opus out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 and electrical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ug receptacles to protect small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 loading electrical circu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Energy Consum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dro bills are established by finding out how many kilowatt hours of electricity your household has used in a give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kilowatts X time (hou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1 000 Watts X 1 h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1 000 W X 3 600 sec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ing the Meter – always use the smallest numb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47520" y="2743200"/>
            <a:ext cx="9096480" cy="192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reading should be </a:t>
            </a: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8876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800840" cy="165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ici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 comparison of the amount of energy obtained as compared to the amount of energy put into th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Efficiency = energy output / energy 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onvert it to a percentage just multiply the answer by 100 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Wi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ires coming into a house include a black, a red and a wh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res are “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h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hite wire is neutral – leading to a 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lack is rated as being 120 v from the 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d is rated as being 120 v from the 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52280" y="685800"/>
          <a:ext cx="9144000" cy="63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9144000" cy="63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lectricity Entering Your Hous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029200" y="8380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800600" y="838080"/>
            <a:ext cx="43434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Red = In at 12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ack = Out at 12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Potential difference = 24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4:02:24Z</dcterms:created>
  <dc:creator>William  Irwin</dc:creator>
  <dc:description/>
  <dc:language>en-US</dc:language>
  <cp:lastModifiedBy>RomaK</cp:lastModifiedBy>
  <dcterms:modified xsi:type="dcterms:W3CDTF">2015-09-03T12:29:45Z</dcterms:modified>
  <cp:revision>69</cp:revision>
  <dc:subject/>
  <dc:title>Chapter 5</dc:title>
</cp:coreProperties>
</file>