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6B24-6B98-4A39-8AD9-0C9A58E4D6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57A-D222-4B70-9B65-3A6B9465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368-66E7-4CB7-A60E-D5E5F135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9D5-BD89-4FBF-B612-E28A1F2B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6C9-664C-4C8E-B1F0-30F74459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0E2-2D43-48F1-B1AF-54A86F44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9D5-67CE-4AB4-9C28-869BD115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EE2-C845-445E-8385-019171BD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210-B45C-4499-93C4-36E9AA4F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0DF-76C2-405B-AD8F-363CA89C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C50-DEAE-488E-B934-6E3875CC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126-6E39-4101-B360-2116718E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D43-D04D-44C9-A44A-2E12DDE6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0DC7-20DB-43EE-913E-594ABF5D5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a, Scott, and Ma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6 L 0.125 0 L 0.177 0 L 0.177 0.06924 L 0.213 0.1185 L 0.177 0.16644 L 0.177 0.23567 L 0.125 0.23567 L 0.089 0.28361 L 0.052 0.23567 L 0 0.23567 L 0 0.16644 L -0.037 0.1185 L 0 0.06924 L 0 0 Z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stars"/>
          <p:cNvPicPr/>
          <p:nvPr/>
        </p:nvPicPr>
        <p:blipFill>
          <a:blip r:embed="rId1"/>
          <a:stretch/>
        </p:blipFill>
        <p:spPr>
          <a:xfrm>
            <a:off x="5867280" y="1981080"/>
            <a:ext cx="2876760" cy="2376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5696280" y="4419720"/>
            <a:ext cx="344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arp220image"/>
          <p:cNvPicPr/>
          <p:nvPr/>
        </p:nvPicPr>
        <p:blipFill>
          <a:blip r:embed="rId2"/>
          <a:stretch/>
        </p:blipFill>
        <p:spPr>
          <a:xfrm>
            <a:off x="3200400" y="3962520"/>
            <a:ext cx="2317680" cy="2361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4883760" y="6400800"/>
            <a:ext cx="40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5" descr="M16WF2"/>
          <p:cNvPicPr/>
          <p:nvPr/>
        </p:nvPicPr>
        <p:blipFill>
          <a:blip r:embed="rId3"/>
          <a:stretch/>
        </p:blipFill>
        <p:spPr>
          <a:xfrm>
            <a:off x="380880" y="4343400"/>
            <a:ext cx="2286000" cy="2246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"/>
          <p:cNvSpPr/>
          <p:nvPr/>
        </p:nvSpPr>
        <p:spPr>
          <a:xfrm>
            <a:off x="5400" y="6583320"/>
            <a:ext cx="34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8" descr="crab_infrared_lg"/>
          <p:cNvPicPr/>
          <p:nvPr/>
        </p:nvPicPr>
        <p:blipFill>
          <a:blip r:embed="rId4"/>
          <a:stretch/>
        </p:blipFill>
        <p:spPr>
          <a:xfrm>
            <a:off x="5638680" y="152280"/>
            <a:ext cx="2514600" cy="14860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9"/>
          <p:cNvSpPr/>
          <p:nvPr/>
        </p:nvSpPr>
        <p:spPr>
          <a:xfrm>
            <a:off x="5115600" y="1676520"/>
            <a:ext cx="35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200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Galactic Center"/>
          <p:cNvPicPr/>
          <p:nvPr/>
        </p:nvPicPr>
        <p:blipFill>
          <a:blip r:embed="rId1"/>
          <a:stretch/>
        </p:blipFill>
        <p:spPr>
          <a:xfrm>
            <a:off x="3429000" y="8380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20040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09480" y="5105520"/>
            <a:ext cx="13716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57200" y="43434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redshift"/>
          <p:cNvPicPr/>
          <p:nvPr/>
        </p:nvPicPr>
        <p:blipFill>
          <a:blip r:embed="rId1"/>
          <a:stretch/>
        </p:blipFill>
        <p:spPr>
          <a:xfrm>
            <a:off x="609480" y="4343400"/>
            <a:ext cx="8153640" cy="1747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600200" y="63165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378468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1748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317484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4038840" cy="21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40388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19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19051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93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022640" cy="502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962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s from 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to 1000µ or .1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into near, mid, and far 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ep up on the light spectrum from visible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of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spectrum"/>
          <p:cNvPicPr/>
          <p:nvPr/>
        </p:nvPicPr>
        <p:blipFill>
          <a:blip r:embed="rId1"/>
          <a:stretch/>
        </p:blipFill>
        <p:spPr>
          <a:xfrm>
            <a:off x="457200" y="4114800"/>
            <a:ext cx="8458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ofia.arc.nasa.gov/Sofia/sofia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pitzer.caltech.edu/about/index.s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ITTT"/>
          <p:cNvPicPr/>
          <p:nvPr/>
        </p:nvPicPr>
        <p:blipFill>
          <a:blip r:embed="rId1"/>
          <a:stretch/>
        </p:blipFill>
        <p:spPr>
          <a:xfrm>
            <a:off x="4419720" y="1982880"/>
            <a:ext cx="4724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p57c"/>
          <p:cNvPicPr/>
          <p:nvPr/>
        </p:nvPicPr>
        <p:blipFill>
          <a:blip r:embed="rId1"/>
          <a:srcRect l="41941" t="20316" r="22579" b="0"/>
          <a:stretch/>
        </p:blipFill>
        <p:spPr>
          <a:xfrm>
            <a:off x="4648320" y="1523880"/>
            <a:ext cx="449568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16292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60199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cold2"/>
          <p:cNvPicPr/>
          <p:nvPr/>
        </p:nvPicPr>
        <p:blipFill>
          <a:blip r:embed="rId1"/>
          <a:stretch/>
        </p:blipFill>
        <p:spPr>
          <a:xfrm>
            <a:off x="4800600" y="1600200"/>
            <a:ext cx="358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psc_allsky"/>
          <p:cNvPicPr/>
          <p:nvPr/>
        </p:nvPicPr>
        <p:blipFill>
          <a:blip r:embed="rId1"/>
          <a:stretch/>
        </p:blipFill>
        <p:spPr>
          <a:xfrm>
            <a:off x="1371600" y="3276720"/>
            <a:ext cx="6019920" cy="2970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1447920" y="627696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ool states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orion"/>
          <p:cNvPicPr/>
          <p:nvPr/>
        </p:nvPicPr>
        <p:blipFill>
          <a:blip r:embed="rId2"/>
          <a:stretch/>
        </p:blipFill>
        <p:spPr>
          <a:xfrm>
            <a:off x="685800" y="2666880"/>
            <a:ext cx="7924680" cy="3434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18288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Latest Spitzer Images"/>
          <p:cNvPicPr/>
          <p:nvPr/>
        </p:nvPicPr>
        <p:blipFill>
          <a:blip r:embed="rId1"/>
          <a:stretch/>
        </p:blipFill>
        <p:spPr>
          <a:xfrm>
            <a:off x="4648320" y="1447920"/>
            <a:ext cx="378144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4658760" y="5410080"/>
            <a:ext cx="36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0:04Z</dcterms:modified>
  <cp:revision>18</cp:revision>
  <dc:subject/>
  <dc:title>PowerPoint Presentation</dc:title>
</cp:coreProperties>
</file>