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B118-41EF-4E85-BA35-01671E64E02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a, Scott, and Martí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a, Scott, and Martí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s of particles around st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bula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stellar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wtrekking.com/photo_gallery/images/stars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.tohoku.ac.jp/~tohru/AGgroup/arp220image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ContentMedia/M16WF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ras.ucalgary.ca/~volk/crab_infrared_lg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 of particles around st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bula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stella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wtrekking.com/photo_gallery/images/stars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.tohoku.ac.jp/~tohru/AGgroup/arp220image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ap.gsfc.nasa.gov/ContentMedia/M16WF2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iras.ucalgary.ca/~volk/crab_infrared_lg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s of Dust and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bodies of matter in space are hidden behind huge clouds of dust particles or ga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include the centers of galaxies and clouds containing forming stars and plane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 allow scientists to view these regions much more eas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bodies of matter in space are hidden behind huge clouds of dust particles or g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include the centers of galaxies and clouds containing forming stars and plan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 allow scientists to view these regions much more eas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arly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niverse is constantly expa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is, most of the radiation emitted from distant stars is in the infrared spectr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views of these distant bodies of matter in space actually show us how they looked a long, long time a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olcosmos.ipac.caltech.edu/cosmic_classroom/cosmic_reference/redshif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ly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 is constantly exp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this, most of the radiation emitted from distant stars is in the infrared spectr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views of these distant bodies of matter in space actually show us how they looked a long, long time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cosmic_reference/redshif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ain a greater knowledge about bodies of matter in space, we need information about all of the different forms of radiation that they em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ain a greater knowledge about bodies of matter in space, we need information about all of the different forms of radiation that they em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F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borne Observ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s Atmospheric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begin observing in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borne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Atmospheric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gin observing in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F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47SP Airc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meter ref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telescope put in an airc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47SP Airc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meter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telescope put in an airc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KI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-b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infrared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on Mauna Kea in Hawa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8 meter ref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t of atmospheric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I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frared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ed on 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8 meter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t of atmospheric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tzer Space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infrared telescope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atmospheric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85 m ref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ogenically cooled so not to interfere with sig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tzer Spac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frared telescope in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atmospheric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85 m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ogenically cooled so not to interfere with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tzer’s Cryos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s mostly heat waves, Spitzer is cool so its own heat does not interfere with sig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4 degrees kelv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tzer’s Cryos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is mostly heat waves, Spitzer is cool so its own heat does not interfere with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4 degrees kelv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tzer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tzer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…wait what?!?!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s a certain region in the light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s from .7µ to 1000µ or .1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ken into near, mid, and far 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tep up on the light spectrum from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of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…wait what?!?!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is a certain region in the light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s from .7µ to 1000µ or .1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into near, mid, and far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tep up on the light spectrum from 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ofia.arc.nasa.gov/Sofia/sofia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pitzer.caltech.edu/about/index.s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jach.hawaii.edu/JACpublic/UKIRT/home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ofia.arc.nasa.gov/Sofia/sofi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itzer.caltech.edu/about/index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jach.hawaii.edu/JACpublic/UKIRT/hom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 work much like visible light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hits parabolic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sent to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recorded by computer and translated into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 work much like visible light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its parabolic mi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sent to foca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recorded by computer and translated into 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ty years ago images were created by crude temperature readings and simple recording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80’s the military dedicated the first large sum of money towards infrared advancement (high background infrar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ntly scientists have changed the technology to focus on lower background heat and high sensitivity to fit the applications needed for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ty years ago images were created by crude temperature readings and simple recording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80’s the military dedicated the first large sum of money towards infrared advancement (high background infra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ntly scientists have changed the technology to focus on lower background heat and high sensitivity to fit the applications needed for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9% of infrared rays are absorbed by water in ou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se of airplanes, weather balloons, and space bound telescopes help to solve thes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9% of infrared rays are absorbed by water in our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airplanes, weather balloons, and space bound telescopes help to solve thes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Problem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n the universe above absolute zero radiates heat (infrar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the heat from the telescope may interfere with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s cooled to almost absolu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Probl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n the universe above absolute zero radiates heat (infra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e heat from the telescope may interfer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cooled to almost absolu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We Need Infrared Telescop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 allow astronomers to gain information about regions in space that might otherwise remain invisi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olcosmos.ipac.caltech.edu/cosmic_classroom/ir_tutorial/psc_allsky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We Need Infrared Telescop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 allow astronomers to gain information about regions in space that might otherwise remain invisi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ir_tutorial/psc_allsky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region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states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 obscured by clouds of dust or gas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olcosmos.ipac.caltech.edu/cosmic_classroom/ir_tutorial/animation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region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tates of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s obscured by clouds of dust or gas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ir_tutorial/animatio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States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solid bodies in space vary in temperature from 3 Kelvin’s to 1500 Kelvin'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that extremely cool objects undetectable to the human eye can be studied using infrared telescop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can includ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pitzer.caltech.edu/picturegallery/index.s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tates of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solid bodies in space vary in temperature from 3 Kelvin’s to 1500 Kelvin'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extremely cool objects undetectable to the human eye can be studied using infrared telescop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an includ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itzer.caltech.edu/picturegallery/index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F24F-4327-45CD-8785-050578FB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0E96-2659-4108-BA7E-40DF1F93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CA51-5906-4BE8-8ADC-B21AE5AB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8E1-B449-4326-AB0A-D02220B2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1AEA-CA32-4A8F-AA9C-11C2CCE8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C046-97A1-49DD-A969-69AF499E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0003-DA89-44E5-A10D-1D982EC0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B0D8-FFAA-43FE-A11A-5C99BB61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7124-71ED-4D90-91A7-4FC43796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3CA6-C5EC-4AB7-AC29-1D1D2B75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6ED0-101D-490C-8BA2-24FEB3B2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18A9-A096-4A0D-A214-AEC1B4B6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5636-3076-4226-9D1A-81CAED1A6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rared Tele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rea, Scott, and Ma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6 L 0.125 0 L 0.177 0 L 0.177 0.06924 L 0.213 0.1185 L 0.177 0.16644 L 0.177 0.23567 L 0.125 0.23567 L 0.089 0.28361 L 0.052 0.23567 L 0 0.23567 L 0 0.16644 L -0.037 0.1185 L 0 0.06924 L 0 0 Z"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990360" y="228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 galax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uds of particles around st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bula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stellar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wn dwar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stars"/>
          <p:cNvPicPr/>
          <p:nvPr/>
        </p:nvPicPr>
        <p:blipFill>
          <a:blip r:embed="rId1"/>
          <a:stretch/>
        </p:blipFill>
        <p:spPr>
          <a:xfrm>
            <a:off x="5867280" y="1981080"/>
            <a:ext cx="2876760" cy="23767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5696280" y="4419720"/>
            <a:ext cx="344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wtrekking.com/photo_gallery/images/stars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0" descr="arp220image"/>
          <p:cNvPicPr/>
          <p:nvPr/>
        </p:nvPicPr>
        <p:blipFill>
          <a:blip r:embed="rId2"/>
          <a:stretch/>
        </p:blipFill>
        <p:spPr>
          <a:xfrm>
            <a:off x="3200400" y="3962520"/>
            <a:ext cx="2317680" cy="23619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3"/>
          <p:cNvSpPr/>
          <p:nvPr/>
        </p:nvSpPr>
        <p:spPr>
          <a:xfrm>
            <a:off x="4883760" y="6400800"/>
            <a:ext cx="40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.tohoku.ac.jp/~tohru/AGgroup/arp220image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5" descr="M16WF2"/>
          <p:cNvPicPr/>
          <p:nvPr/>
        </p:nvPicPr>
        <p:blipFill>
          <a:blip r:embed="rId3"/>
          <a:stretch/>
        </p:blipFill>
        <p:spPr>
          <a:xfrm>
            <a:off x="380880" y="4343400"/>
            <a:ext cx="2286000" cy="2246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6"/>
          <p:cNvSpPr/>
          <p:nvPr/>
        </p:nvSpPr>
        <p:spPr>
          <a:xfrm>
            <a:off x="5400" y="6583320"/>
            <a:ext cx="34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ap.gsfc.nasa.gov/ContentMedia/M16WF2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8" descr="crab_infrared_lg"/>
          <p:cNvPicPr/>
          <p:nvPr/>
        </p:nvPicPr>
        <p:blipFill>
          <a:blip r:embed="rId4"/>
          <a:stretch/>
        </p:blipFill>
        <p:spPr>
          <a:xfrm>
            <a:off x="5638680" y="152280"/>
            <a:ext cx="2514600" cy="14860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9"/>
          <p:cNvSpPr/>
          <p:nvPr/>
        </p:nvSpPr>
        <p:spPr>
          <a:xfrm>
            <a:off x="5115600" y="1676520"/>
            <a:ext cx="352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iras.ucalgary.ca/~volk/crab_infrared_lg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uds of Dust and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3200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bodies of matter in space are hidden behind huge clouds of dust particles or g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Galactic Center"/>
          <p:cNvPicPr/>
          <p:nvPr/>
        </p:nvPicPr>
        <p:blipFill>
          <a:blip r:embed="rId1"/>
          <a:stretch/>
        </p:blipFill>
        <p:spPr>
          <a:xfrm>
            <a:off x="3429000" y="838080"/>
            <a:ext cx="5715000" cy="42865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3200400" y="53341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include the centers of galaxies and clouds containing forming stars and plane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09480" y="5105520"/>
            <a:ext cx="13716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457200" y="434340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red telescopes allow scientists to view these regions much more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arly Unive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niverse is constantly exp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this, most of the radiation emitted from distant stars is in the infrared spectru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views of these distant bodies of matter in space actually show us how they looked a long, long time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redshift"/>
          <p:cNvPicPr/>
          <p:nvPr/>
        </p:nvPicPr>
        <p:blipFill>
          <a:blip r:embed="rId1"/>
          <a:stretch/>
        </p:blipFill>
        <p:spPr>
          <a:xfrm>
            <a:off x="609480" y="4343400"/>
            <a:ext cx="8153640" cy="17478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1600200" y="631656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cosmic_reference/redshif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gain a greater knowledge about bodies of matter in space, we need information about all of the different forms of radiation that they emi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borne Observ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s Atmospheric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gin observing in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029200" y="4114800"/>
            <a:ext cx="3784680" cy="237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1748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I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47SP Air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5 meter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telescope put in an air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3174840" cy="2133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4724280" y="4267080"/>
            <a:ext cx="4038840" cy="2198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724280" y="1600200"/>
            <a:ext cx="403884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KI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-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infrared tele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ed on Mauna Kea in Hawa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8 meter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ot of atmospheric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4197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tzer Space Tele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st infrared telescope in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atmospheric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85 m ref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yogenically cooled so not to interfere with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095880" y="2133720"/>
            <a:ext cx="190512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tzer’s Cryost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rared is mostly heat waves, Spitzer is cool so its own heat does not interfere with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 degrees kelv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93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tzer Im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4022640" cy="5029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962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rared…wait what?!?!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red is a certain region in the light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s from .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 to 1000µ or .1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ken into near, mid, and far 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step up on the light spectrum from visible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 of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8" descr="spectrum"/>
          <p:cNvPicPr/>
          <p:nvPr/>
        </p:nvPicPr>
        <p:blipFill>
          <a:blip r:embed="rId1"/>
          <a:stretch/>
        </p:blipFill>
        <p:spPr>
          <a:xfrm>
            <a:off x="457200" y="4114800"/>
            <a:ext cx="84582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sofia.arc.nasa.gov/Sofia/sofia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spitzer.caltech.edu/about/index.s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jach.hawaii.edu/JACpublic/UKIRT/home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rared Tele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 telescopes work much like visible light telesc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 hits parabolic mi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 is sent to focal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 is recorded by computer and translated into visible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ITTT"/>
          <p:cNvPicPr/>
          <p:nvPr/>
        </p:nvPicPr>
        <p:blipFill>
          <a:blip r:embed="rId1"/>
          <a:stretch/>
        </p:blipFill>
        <p:spPr>
          <a:xfrm>
            <a:off x="4419720" y="1982880"/>
            <a:ext cx="47242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Infra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ty years ago images were created by crude temperature readings and simple recording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80’s the military dedicated the first large sum of money towards infrared advancement (high background infrar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ntly scientists have changed the technology to focus on lower background heat and high sensitivity to fit the applications needed for astr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 Infra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9% of infrared rays are absorbed by water in our atmo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se of airplanes, weather balloons, and space bound telescopes help to solve these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p57c"/>
          <p:cNvPicPr/>
          <p:nvPr/>
        </p:nvPicPr>
        <p:blipFill>
          <a:blip r:embed="rId1"/>
          <a:srcRect l="41941" t="20316" r="22579" b="0"/>
          <a:stretch/>
        </p:blipFill>
        <p:spPr>
          <a:xfrm>
            <a:off x="4648320" y="1523880"/>
            <a:ext cx="4495680" cy="5334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716292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8"/>
          <p:cNvSpPr/>
          <p:nvPr/>
        </p:nvSpPr>
        <p:spPr>
          <a:xfrm flipH="1">
            <a:off x="6019920" y="3886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Probl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in the universe above absolute zero radiates heat (infrar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e heat from the telescope may interfere with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is cooled to almost absolute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7" descr="cold2"/>
          <p:cNvPicPr/>
          <p:nvPr/>
        </p:nvPicPr>
        <p:blipFill>
          <a:blip r:embed="rId1"/>
          <a:stretch/>
        </p:blipFill>
        <p:spPr>
          <a:xfrm>
            <a:off x="4800600" y="1600200"/>
            <a:ext cx="3581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Do We Need Infrared Telescop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 telescopes allow astronomers to gain information about regions in space that might otherwise remain invisi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psc_allsky"/>
          <p:cNvPicPr/>
          <p:nvPr/>
        </p:nvPicPr>
        <p:blipFill>
          <a:blip r:embed="rId1"/>
          <a:stretch/>
        </p:blipFill>
        <p:spPr>
          <a:xfrm>
            <a:off x="1371600" y="3276720"/>
            <a:ext cx="6019920" cy="2970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1447920" y="627696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ir_tutorial/psc_allsky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regions includ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Cool states of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s obscured by clouds of dust or gas part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orion"/>
          <p:cNvPicPr/>
          <p:nvPr/>
        </p:nvPicPr>
        <p:blipFill>
          <a:blip r:embed="rId2"/>
          <a:stretch/>
        </p:blipFill>
        <p:spPr>
          <a:xfrm>
            <a:off x="685800" y="2666880"/>
            <a:ext cx="7924680" cy="34340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18288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ir_tutorial/animatio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l States of Ma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solid bodies in space vary in temperature from 3 Kelvin’s to 1500 Kelvin'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at extremely cool objects undetectable to the human eye can be studied using infrared telescop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an includ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Latest Spitzer Images"/>
          <p:cNvPicPr/>
          <p:nvPr/>
        </p:nvPicPr>
        <p:blipFill>
          <a:blip r:embed="rId1"/>
          <a:stretch/>
        </p:blipFill>
        <p:spPr>
          <a:xfrm>
            <a:off x="4648320" y="1447920"/>
            <a:ext cx="3781440" cy="3781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4658760" y="5410080"/>
            <a:ext cx="36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itzer.caltech.edu/picturegallery/index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3T12:30:04Z</dcterms:modified>
  <cp:revision>18</cp:revision>
  <dc:subject/>
  <dc:title>PowerPoint Presentation</dc:title>
</cp:coreProperties>
</file>