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6.jpeg" ContentType="image/jpeg"/>
  <Override PartName="/ppt/media/image5.jpeg" ContentType="image/jpe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C633-C7E0-4B80-ABED-96953874CC5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rea, Scott, and Martí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a, Scott, and Martí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galax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uds of particles around sta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bula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stellar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wn dwar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swtrekking.com/photo_gallery/images/stars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str.tohoku.ac.jp/~tohru/AGgroup/arp220image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ap.gsfc.nasa.gov/ContentMedia/M16WF2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ras.ucalgary.ca/~volk/crab_infrared_lg.g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galax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 of particles around st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bula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stellar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wn dwar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wtrekking.com/photo_gallery/images/stars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str.tohoku.ac.jp/~tohru/AGgroup/arp220image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map.gsfc.nasa.gov/ContentMedia/M16WF2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iras.ucalgary.ca/~volk/crab_infrared_lg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uds of Dust and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bodies of matter in space are hidden behind huge clouds of dust particles or ga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include the centers of galaxies and clouds containing forming stars and plane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telescopes allow scientists to view these regions much more easi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 of Dust and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bodies of matter in space are hidden behind huge clouds of dust particles or g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include the centers of galaxies and clouds containing forming stars and plane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telescopes allow scientists to view these regions much more eas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arly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niverse is constantly expan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this, most of the radiation emitted from distant stars is in the infrared spectru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views of these distant bodies of matter in space actually show us how they looked a long, long time ag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oolcosmos.ipac.caltech.edu/cosmic_classroom/cosmic_reference/redshift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rly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verse is constantly exp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of this, most of the radiation emitted from distant stars is in the infrared spectr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views of these distant bodies of matter in space actually show us how they looked a long, long time a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coolcosmos.ipac.caltech.edu/cosmic_classroom/cosmic_reference/redshift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ain a greater knowledge about bodies of matter in space, we need information about all of the different forms of radiation that they em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ain a greater knowledge about bodies of matter in space, we need information about all of the different forms of radiation that they emi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F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borne Observ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s Atmospheric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begin observing in 20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borne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s Atmospheric 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begin observing in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FI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47SP Aircra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 meter ref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st telescope put in an aircra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47SP Airc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 meter refl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telescope put in an airc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KI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-b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st infrared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ed on Mauna Kea in Hawa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8 meter ref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ot of atmospheric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KI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infrared tele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ed on Mauna Kea in Hawa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8 meter refl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t of atmospheric 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tzer Space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st infrared telescope in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atmospheric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85 m ref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ogenically cooled so not to interfere with sig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tzer Space Tele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infrared telescope in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atmospheric 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85 m refl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ogenically cooled so not to interfere with sig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tzer’s Cryost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is mostly heat waves, Spitzer is cool so its own heat does not interfere with sig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4 degrees kelv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tzer’s Cryos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is mostly heat waves, Spitzer is cool so its own heat does not interfere with sig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4 degrees kelv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tzer Im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tzer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…wait what?!?!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is a certain region in the light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s from .7µ to 1000µ or .1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ken into near, mid, and far infra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step up on the light spectrum from visibl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 of 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…wait what?!?!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is a certain region in the light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ges from .7µ to 1000µ or .1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ken into near, mid, and far 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tep up on the light spectrum from visibl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bliograp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ofia.arc.nasa.gov/Sofia/sofia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pitzer.caltech.edu/about/index.s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jach.hawaii.edu/JACpublic/UKIRT/home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bl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ofia.arc.nasa.gov/Sofia/sofia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pitzer.caltech.edu/about/index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jach.hawaii.edu/JACpublic/UKIRT/hom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telescopes work much like visible light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hits parabolic mirr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sent to foc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recorded by computer and translated into visibl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telescopes work much like visible light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hits parabolic mi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sent to focal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recorded by computer and translated into visibl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Infra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rty years ago images were created by crude temperature readings and simple recording de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980’s the military dedicated the first large sum of money towards infrared advancement (high background infrar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ently scientists have changed the technology to focus on lower background heat and high sensitivity to fit the applications needed for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ty years ago images were created by crude temperature readings and simple recording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80’s the military dedicated the first large sum of money towards infrared advancement (high background infrar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ntly scientists have changed the technology to focus on lower background heat and high sensitivity to fit the applications needed for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s with Infra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9% of infrared rays are absorbed by water in our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se of airplanes, weather balloons, and space bound telescopes help to solve thes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with 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9% of infrared rays are absorbed by water in our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airplanes, weather balloons, and space bound telescopes help to solve thes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Problem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in the universe above absolute zero radiates heat (infrar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ans the heat from the telescope may interfere with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is cooled to almost absolu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Proble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thing in the universe above absolute zero radiates heat (infrar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e heat from the telescope may interfer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thing is cooled to almost absolute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We Need Infrared Telescop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telescopes allow astronomers to gain information about regions in space that might otherwise remain invisib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oolcosmos.ipac.caltech.edu/cosmic_classroom/ir_tutorial/psc_allsky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We Need Infrared Telescop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telescopes allow astronomers to gain information about regions in space that might otherwise remain invisi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coolcosmos.ipac.caltech.edu/cosmic_classroom/ir_tutorial/psc_allsky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regions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 states of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s obscured by clouds of dust or gas p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oolcosmos.ipac.caltech.edu/cosmic_classroom/ir_tutorial/animation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regions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 states of 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s obscured by clouds of dust or gas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coolcosmos.ipac.caltech.edu/cosmic_classroom/ir_tutorial/animation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 States of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solid bodies in space vary in temperature from 3 Kelvin’s to 1500 Kelvin'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ans that extremely cool objects undetectable to the human eye can be studied using infrared telescop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can includ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pitzer.caltech.edu/picturegallery/index.s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 States of 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solid bodies in space vary in temperature from 3 Kelvin’s to 1500 Kelvin'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extremely cool objects undetectable to the human eye can be studied using infrared telescop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can includ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pitzer.caltech.edu/picturegallery/index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02FD-6786-44CD-A929-5E568D5AC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BF3F-82EC-45C8-8472-6346BCE9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EF36-51B2-48EB-938D-D1228C581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3EC1-3A1E-4BA3-A363-6D4C4D3BF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C40E-9D30-4897-8A81-43AD97FC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EF90-A5F6-4CBD-A8CB-AF5144E4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4DD6-ACC6-48FC-B3A6-58E0E846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8EBE-337E-4F3F-B9C8-EC6B4738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65D3-A96E-4922-A668-5B007408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32AF-0F81-4DA0-A52B-B6F1AF61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E98B-742B-46C6-8995-A43C734A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025B-4C94-4858-BBF0-2F7FEF61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53D3-3777-4BE0-8C9C-6799C5CE3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ictur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rared Telesco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rea, Scott, and Mar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1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52 0 L 0.089 -0.04926 L 0.125 0 L 0.177 0 L 0.177 0.06924 L 0.213 0.1185 L 0.177 0.16644 L 0.177 0.23567 L 0.125 0.23567 L 0.089 0.28361 L 0.052 0.23567 L 0 0.23567 L 0 0.16644 L -0.037 0.1185 L 0 0.06924 L 0 0 Z">
                                      <p:cBhvr>
                                        <p:cTn id="6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990360" y="228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rared galax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uds of particles around sta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bula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stellar molec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wn dwar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5" descr="stars"/>
          <p:cNvPicPr/>
          <p:nvPr/>
        </p:nvPicPr>
        <p:blipFill>
          <a:blip r:embed="rId1"/>
          <a:stretch/>
        </p:blipFill>
        <p:spPr>
          <a:xfrm>
            <a:off x="5867280" y="1981080"/>
            <a:ext cx="2876760" cy="23767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8"/>
          <p:cNvSpPr/>
          <p:nvPr/>
        </p:nvSpPr>
        <p:spPr>
          <a:xfrm>
            <a:off x="5696280" y="4419720"/>
            <a:ext cx="344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wtrekking.com/photo_gallery/images/stars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10" descr="arp220image"/>
          <p:cNvPicPr/>
          <p:nvPr/>
        </p:nvPicPr>
        <p:blipFill>
          <a:blip r:embed="rId2"/>
          <a:stretch/>
        </p:blipFill>
        <p:spPr>
          <a:xfrm>
            <a:off x="3200400" y="3962520"/>
            <a:ext cx="2317680" cy="23619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3"/>
          <p:cNvSpPr/>
          <p:nvPr/>
        </p:nvSpPr>
        <p:spPr>
          <a:xfrm>
            <a:off x="4883760" y="6400800"/>
            <a:ext cx="40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str.tohoku.ac.jp/~tohru/AGgroup/arp220image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5" descr="M16WF2"/>
          <p:cNvPicPr/>
          <p:nvPr/>
        </p:nvPicPr>
        <p:blipFill>
          <a:blip r:embed="rId3"/>
          <a:stretch/>
        </p:blipFill>
        <p:spPr>
          <a:xfrm>
            <a:off x="380880" y="4343400"/>
            <a:ext cx="2286000" cy="22464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6"/>
          <p:cNvSpPr/>
          <p:nvPr/>
        </p:nvSpPr>
        <p:spPr>
          <a:xfrm>
            <a:off x="5400" y="6583320"/>
            <a:ext cx="34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map.gsfc.nasa.gov/ContentMedia/M16WF2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18" descr="crab_infrared_lg"/>
          <p:cNvPicPr/>
          <p:nvPr/>
        </p:nvPicPr>
        <p:blipFill>
          <a:blip r:embed="rId4"/>
          <a:stretch/>
        </p:blipFill>
        <p:spPr>
          <a:xfrm>
            <a:off x="5638680" y="152280"/>
            <a:ext cx="2514600" cy="14860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9"/>
          <p:cNvSpPr/>
          <p:nvPr/>
        </p:nvSpPr>
        <p:spPr>
          <a:xfrm>
            <a:off x="5115600" y="1676520"/>
            <a:ext cx="352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iras.ucalgary.ca/~volk/crab_infrared_lg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uds of Dust and G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3200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bodies of matter in space are hidden behind huge clouds of dust particles or g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Galactic Center"/>
          <p:cNvPicPr/>
          <p:nvPr/>
        </p:nvPicPr>
        <p:blipFill>
          <a:blip r:embed="rId1"/>
          <a:stretch/>
        </p:blipFill>
        <p:spPr>
          <a:xfrm>
            <a:off x="3429000" y="838080"/>
            <a:ext cx="5715000" cy="42865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8"/>
          <p:cNvSpPr/>
          <p:nvPr/>
        </p:nvSpPr>
        <p:spPr>
          <a:xfrm>
            <a:off x="3200400" y="533412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include the centers of galaxies and clouds containing forming stars and plane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609480" y="5105520"/>
            <a:ext cx="137160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457200" y="4343400"/>
            <a:ext cx="251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rared telescopes allow scientists to view these regions much more eas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arly Univer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84872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niverse is constantly expa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of this, most of the radiation emitted from distant stars is in the infrared spectru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views of these distant bodies of matter in space actually show us how they looked a long, long time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redshift"/>
          <p:cNvPicPr/>
          <p:nvPr/>
        </p:nvPicPr>
        <p:blipFill>
          <a:blip r:embed="rId1"/>
          <a:stretch/>
        </p:blipFill>
        <p:spPr>
          <a:xfrm>
            <a:off x="609480" y="4343400"/>
            <a:ext cx="8153640" cy="17478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7"/>
          <p:cNvSpPr/>
          <p:nvPr/>
        </p:nvSpPr>
        <p:spPr>
          <a:xfrm>
            <a:off x="1600200" y="6316560"/>
            <a:ext cx="579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coolcosmos.ipac.caltech.edu/cosmic_classroom/cosmic_reference/redshift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gain a greater knowledge about bodies of matter in space, we need information about all of the different forms of radiation that they emi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borne Observa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s Atmospheric Inter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begin observing in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5029200" y="4114800"/>
            <a:ext cx="3784680" cy="2376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5029200" y="1523880"/>
            <a:ext cx="317484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I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47SP Airc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5 meter refl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st telescope put in an airc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1143000" y="4343400"/>
            <a:ext cx="3174840" cy="2133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4724280" y="4267080"/>
            <a:ext cx="4038840" cy="2198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4724280" y="1600200"/>
            <a:ext cx="403884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KI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th-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st infrared tele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ed on Mauna Kea in Hawa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8 meter refl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ot of atmospheric inter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4495680" y="1905120"/>
            <a:ext cx="441972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tzer Space Telesc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st infrared telescope in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atmospheric inter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85 m ref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yogenically cooled so not to interfere with sig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6095880" y="2133720"/>
            <a:ext cx="190512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tzer’s Cryost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rared is mostly heat waves, Spitzer is cool so its own heat does not interfere with sig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4 degrees kelv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29336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tzer Im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4022640" cy="5029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4876920" y="1600200"/>
            <a:ext cx="39621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rared…wait what?!?!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rared is a certain region in the light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es from .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 to 1000µ or .1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ken into near, mid, and far infr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step up on the light spectrum from visible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 of 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8" descr="spectrum"/>
          <p:cNvPicPr/>
          <p:nvPr/>
        </p:nvPicPr>
        <p:blipFill>
          <a:blip r:embed="rId1"/>
          <a:stretch/>
        </p:blipFill>
        <p:spPr>
          <a:xfrm>
            <a:off x="457200" y="4114800"/>
            <a:ext cx="845820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sofia.arc.nasa.gov/Sofia/sofia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spitzer.caltech.edu/about/index.s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jach.hawaii.edu/JACpublic/UKIRT/home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rared Telesco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rared telescopes work much like visible light telesc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ght hits parabolic mi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ght is sent to focal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ght is recorded by computer and translated into visible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7" descr="ITTT"/>
          <p:cNvPicPr/>
          <p:nvPr/>
        </p:nvPicPr>
        <p:blipFill>
          <a:blip r:embed="rId1"/>
          <a:stretch/>
        </p:blipFill>
        <p:spPr>
          <a:xfrm>
            <a:off x="4419720" y="1982880"/>
            <a:ext cx="472428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Infra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ty years ago images were created by crude temperature readings and simple recording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80’s the military dedicated the first large sum of money towards infrared advancement (high background infrar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ntly scientists have changed the technology to focus on lower background heat and high sensitivity to fit the applications needed for astr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 with Infra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9% of infrared rays are absorbed by water in our atmosp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se of airplanes, weather balloons, and space bound telescopes help to solve these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p57c"/>
          <p:cNvPicPr/>
          <p:nvPr/>
        </p:nvPicPr>
        <p:blipFill>
          <a:blip r:embed="rId1"/>
          <a:srcRect l="41941" t="20316" r="22579" b="0"/>
          <a:stretch/>
        </p:blipFill>
        <p:spPr>
          <a:xfrm>
            <a:off x="4648320" y="1523880"/>
            <a:ext cx="4495680" cy="53341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716292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8"/>
          <p:cNvSpPr/>
          <p:nvPr/>
        </p:nvSpPr>
        <p:spPr>
          <a:xfrm flipH="1">
            <a:off x="6019920" y="3886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Probl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thing in the universe above absolute zero radiates heat (infrar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eans the heat from the telescope may interfere with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thing is cooled to almost absolute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7" descr="cold2"/>
          <p:cNvPicPr/>
          <p:nvPr/>
        </p:nvPicPr>
        <p:blipFill>
          <a:blip r:embed="rId1"/>
          <a:stretch/>
        </p:blipFill>
        <p:spPr>
          <a:xfrm>
            <a:off x="4800600" y="1600200"/>
            <a:ext cx="3581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Do We Need Infrared Telescop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rared telescopes allow astronomers to gain information about regions in space that might otherwise remain invisib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psc_allsky"/>
          <p:cNvPicPr/>
          <p:nvPr/>
        </p:nvPicPr>
        <p:blipFill>
          <a:blip r:embed="rId1"/>
          <a:stretch/>
        </p:blipFill>
        <p:spPr>
          <a:xfrm>
            <a:off x="1371600" y="3276720"/>
            <a:ext cx="6019920" cy="2970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7"/>
          <p:cNvSpPr/>
          <p:nvPr/>
        </p:nvSpPr>
        <p:spPr>
          <a:xfrm>
            <a:off x="1447920" y="627696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coolcosmos.ipac.caltech.edu/cosmic_classroom/ir_tutorial/psc_allsky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se regions includ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8487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Cool states of ma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s obscured by clouds of dust or gas parti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orion"/>
          <p:cNvPicPr/>
          <p:nvPr/>
        </p:nvPicPr>
        <p:blipFill>
          <a:blip r:embed="rId2"/>
          <a:stretch/>
        </p:blipFill>
        <p:spPr>
          <a:xfrm>
            <a:off x="685800" y="2666880"/>
            <a:ext cx="7924680" cy="34340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7"/>
          <p:cNvSpPr/>
          <p:nvPr/>
        </p:nvSpPr>
        <p:spPr>
          <a:xfrm>
            <a:off x="1828800" y="62485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coolcosmos.ipac.caltech.edu/cosmic_classroom/ir_tutorial/animation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l States of Mat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solid bodies in space vary in temperature from 3 Kelvin’s to 1500 Kelvin'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eans that extremely cool objects undetectable to the human eye can be studied using infrared telescop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can includ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6" descr="Latest Spitzer Images"/>
          <p:cNvPicPr/>
          <p:nvPr/>
        </p:nvPicPr>
        <p:blipFill>
          <a:blip r:embed="rId1"/>
          <a:stretch/>
        </p:blipFill>
        <p:spPr>
          <a:xfrm>
            <a:off x="4648320" y="1447920"/>
            <a:ext cx="3781440" cy="37814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8"/>
          <p:cNvSpPr/>
          <p:nvPr/>
        </p:nvSpPr>
        <p:spPr>
          <a:xfrm>
            <a:off x="4658760" y="5410080"/>
            <a:ext cx="36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pitzer.caltech.edu/picturegallery/index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3T12:30:04Z</dcterms:modified>
  <cp:revision>18</cp:revision>
  <dc:subject/>
  <dc:title>PowerPoint Presentation</dc:title>
</cp:coreProperties>
</file>