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C99C-E19D-4918-B7F6-E62C8A8A4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061-ED94-452B-B05B-7E810585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9DA-4432-42F0-A3B5-4A6ABD39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6B6-EB9A-4539-B3F6-62E8B3CF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5E1-426A-4270-BCD2-E9BB5E15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75FD-9E8E-42B5-91EB-E7E2E279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957C-A0EB-4DBE-BD50-4C77F189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D915-05B1-4D59-8011-D7F82962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50C2-F229-4479-B25E-A98ECDDD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F29E-0CC0-4FEF-BE7E-AD7AC678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309E-CD16-4A2B-B8EA-8C8A6729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D5FC-CD2F-48DE-87F9-33772574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8EB-B645-4F74-83A3-7EEF8B2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FDE4-A7E0-426A-A9D1-1F934AD4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164A-A852-44CF-B975-313B6DE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0660-2085-4743-A4DC-B56BE5BC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577B-6641-4AF8-9086-920199AA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97E1-8B05-4E26-B367-5B619557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549-72D6-4347-8063-B7895084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086-B04E-467A-8A8C-8616D872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D6D-98B5-4CC9-86FC-D22DFCCA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B3C-250A-4808-A70B-9C1786D8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651-8293-46FA-98EE-36124BC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63E-B61B-4EE4-8DF8-089CA82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189-CC6F-49C9-893C-A07BF915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8F8D-25D6-4D6B-84E0-8ABA5CF824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9754-51AE-42DC-895E-679B2D3C88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vex lenses bring rays to a focus.The more curved the lens , the quicker the rays are focuss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cave lenses make rays spread out.The more curved the lens ,the more the rays spread o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ahoma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rectified by putting a convex lens in front of the ey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Short sighted people can only focus on nearby objects.The eye works normal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With nearby objects, the lens brings the rays to a focus before the retina.This is corrected by putting a concave lens in front of the ey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focal length of a lens is the length from the middle of the lens where the rays come to a foc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ibre optical cables are cold light sources because no heat energy is produced in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0:33Z</dcterms:modified>
  <cp:revision>30</cp:revision>
  <dc:subject/>
  <dc:title>lenses</dc:title>
</cp:coreProperties>
</file>