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1F41-3291-4084-8184-5D0D5AE775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x lenses bring rays to a focus.The more curved the lens , the quicker the rays are focus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ave lenses make rays spread out.The more curved the lens ,the more the rays sprea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vex lenses bring rays to a focus.The more curved the lens , the quicker the rays are focuss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ave lenses make rays spread out.The more curved the lens ,the more the rays spread ou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sighted people can only focus on far away objects.The eye behaves normally.When viewing nearby objects ,the lens brings the rays of light to a focus beyond the reti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g sighted people can only focus on far away objects.The eye behaves normally.When viewing nearby objects ,the lens brings the rays of light to a focus beyond the retina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rectified by putting a convex lens in front of the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rectified by putting a convex lens in front of the ey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 sighted people can only focus on nearby objects.The eye works norm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nearby objects, the lens brings the rays to a focus before the retina.This is corrected by putting a concave lens in front of the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rt sighted people can only focus on nearby objects.The eye works normall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nearby objects, the lens brings the rays to a focus before the retina.This is corrected by putting a concave lens in front of the ey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cal length of a lens is the length from the middle of the lens where the rays come to a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re optical cables are cold light sources because no heat energy is produced in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cal length of a lens is the length from the middle of the lens where the rays come to a focu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bre optical cables are cold light sources because no heat energy is produced in the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doscope consists of two bundles of optical fibres.The first takes light down inside a patients body to illuminate a source of concern.The second takes light to the surgeon`s eye via a lens and cam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endoscope consists of two bundles of optical fibres.The first takes light down inside a patients body to illuminate a source of concern.The second takes light to the surgeon`s eye via a lens and camera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EFBE-7744-4F8A-BA96-5D414C8D2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75E3-2460-42E0-82D5-3EECF6C8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92B1-238E-4D3A-ACEE-528465B7B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1203-A8FF-4AB6-9C0D-7E1473C6D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8B78-F921-444C-840E-4DF09EEAB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DCC8-A6D0-43C1-BBB1-7610C69D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0F5D-6DAA-4B66-95B3-BCF68346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E1FC-A193-45D8-8EF8-5E52D41C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6A04-2849-43CA-9B7F-D03CE880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2642-579C-4D3A-88AA-879FEBE6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64D9-85A8-4F17-AA83-B55E4D5E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3F42-5582-439C-803C-DBCC6DF3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1C71-81B7-43F7-AF6C-AA7B5E06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281C-D2CB-4086-8C45-853C85F6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6029-E95F-4906-A509-D0C64146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4ABA-8978-402B-AEEE-DD3E31EC0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B67C-B8D3-4424-9146-E4D7481E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D5CE-BC03-4493-83D3-DDB5CBD0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8C06-11AF-4E6E-B7FA-3A03C708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7EB3-DDFA-4744-9FA8-2EA9FC08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02BA-0982-44D1-B7F4-DC1F6E26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93E0-5CE2-4D7D-B30B-DADC707C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CC81-4698-4BAA-BB51-6BA3C0D1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B63E-AADF-44F0-B1C2-9DCBECDE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42E7-84CA-4DCA-AEC6-EF34EF90383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0489-5D59-484D-B825-29F84CD1B99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Convex lenses bring rays to a focus.The more curved the lens , the quicker the rays are focussed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Concave lenses make rays spread out.The more curved the lens ,the more the rays spread ou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Tahoma"/>
              </a:rPr>
              <a:t>Long sighted people can only focus on far away objects.The eye behaves normally.When viewing nearby objects ,the lens brings the rays of light to a focus beyond the retina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This is rectified by putting a convex lens in front of the eye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ff"/>
                </a:solidFill>
                <a:latin typeface="Tahoma"/>
              </a:rPr>
              <a:t>Short sighted people can only focus on nearby objects.The eye works normall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ff"/>
                </a:solidFill>
                <a:latin typeface="Tahoma"/>
              </a:rPr>
              <a:t>With nearby objects, the lens brings the rays to a focus before the retina.This is corrected by putting a concave lens in front of the ey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focal length of a lens is the length from the middle of the lens where the rays come to a focu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Fibre optical cables are cold light sources because no heat energy is produced in them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An endoscope consists of two bundles of optical fibres.The first takes light down inside a patients body to illuminate a source of concern.The second takes light to the surgeon`s eye via a lens and camera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RomaK</cp:lastModifiedBy>
  <dcterms:modified xsi:type="dcterms:W3CDTF">2015-09-03T12:30:33Z</dcterms:modified>
  <cp:revision>30</cp:revision>
  <dc:subject/>
  <dc:title>lenses</dc:title>
</cp:coreProperties>
</file>