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A38C-0B59-401F-8D0F-3982CD10C3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773-BD76-4426-B86D-3AC3A01E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48A-960A-465F-9CA3-ACC04906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909-E410-4AAA-BCD9-4CCDB4B1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DBE-D2BA-401C-9290-3D31D345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B0D4-AD0D-46AF-9BFB-6624C695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BF37-A116-4912-A7EA-58D209AF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33A2-05EA-46DD-824F-B6FA466D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97CA-5FF7-4B19-9A0D-CBB0138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226C-1A0E-4189-B192-8FF80B64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03F3-F001-451A-A940-1D38E801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80A5-E5FB-4CF8-8E76-EAA057A9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4D8-0EEA-43CC-A888-FDD2C157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5CD4-C382-4193-8A46-B397604C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0AF9-BC33-4BDB-93B2-4D909168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9465-3224-431B-8631-3111A75A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0EAB-0A42-4B39-AB1E-6F56A63B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3A1F-F513-4447-955A-3574DD9C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31B-FD19-474A-81D6-1B2D1AAD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271-3677-449F-BD2F-EFAB18E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91C-BFA2-47C0-A544-F020BBEB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2D9-99C1-45C1-8113-6CFE53DA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26D-38EC-4AB9-A3C1-C9EAB4E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919-5DEB-487B-81F7-D51CD4B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B04-4C0B-47C8-B719-21C54A17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6119-B364-498B-B7A1-77CD1762EB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6AC5-8F8A-4DFC-BB63-A034D73E45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vex lenses bring rays to a focus.The more curved the lens , the quicker the rays are focuss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cave lenses make rays spread out.The more curved the lens ,the more the rays spread o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ahoma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rectified by putting a convex lens in front of the ey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Short sighted people can only focus on nearby objects.The eye works normal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With nearby objects, the lens brings the rays to a focus before the retina.This is corrected by putting a concave lens in front of the ey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focal length of a lens is the length from the middle of the lens where the rays come to a foc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ibre optical cables are cold light sources because no heat energy is produced in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0:33Z</dcterms:modified>
  <cp:revision>30</cp:revision>
  <dc:subject/>
  <dc:title>lenses</dc:title>
</cp:coreProperties>
</file>