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42E8-6BC6-47B4-8D46-EB444B006C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bring rays to a focus.The more curved the lens , the quicker the rays are focu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ave lenses make rays spread out.The more curved the lens ,the more the rays sprea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lenses bring rays to a focus.The more curved the lens , the quicker the rays are focuss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lenses make rays spread out.The more curved the lens ,the more the rays spread o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sighted people can only focus on far away objects.The eye behaves normally.When viewing nearby objects ,the lens brings the rays of light to a focus beyond the ret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 sighted people can only focus on far away objects.The eye behaves normally.When viewing nearby objects ,the lens brings the rays of light to a focus beyond the retin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rectified by putting a convex lens in front of the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rectified by putting a convex lens in front of the ey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sighted people can only focus on nearby objects.The eye works norm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arby objects, the lens brings the rays to a focus before the retina.This is corrected by putting a concave lens in front of the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rt sighted people can only focus on nearby objects.The eye works normall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nearby objects, the lens brings the rays to a focus before the retina.This is corrected by putting a concave lens in front of the ey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cal length of a lens is the length from the middle of the lens where the rays come to a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e optical cables are cold light sources because no heat energy is produced 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cal length of a lens is the length from the middle of the lens where the rays come to a foc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bre optical cables are cold light sources because no heat energy is produced in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consists of two bundles of optical fibres.The first takes light down inside a patients body to illuminate a source of concern.The second takes light to the surgeon`s eye via a lens and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ndoscope consists of two bundles of optical fibres.The first takes light down inside a patients body to illuminate a source of concern.The second takes light to the surgeon`s eye via a lens and camer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F8E6-4298-46FE-97D1-6444091F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6E2F-D798-46F6-BFA4-8432C418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8B48-667A-40DE-9078-6A0DC479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4D35-B948-4B2F-8B8D-423C3A94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4012-EC6C-4E0C-BB7C-DB6C083C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8147-F178-4613-950E-AD6A6BD7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5FA5-A099-4261-8EF6-3F9824E6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CBE1-5785-4D31-860F-D802E3A1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052D-0721-4526-8924-8E6FE7E4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14AE-68A8-4B32-ABC3-14DDE1B7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F95D-3CC7-4142-A20F-DE877098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B084-22F4-4B4B-9C97-2D399947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3A30-28E4-45DE-9DD3-35858CD3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1B5B-3B54-47EA-9030-C04821E3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C0E1-2FE8-4484-BF5F-2AE45E91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229B-6D79-4D78-B2E5-0BC4077F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6145-947F-4243-8077-41B258B4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E099-5165-4CF1-9A96-63926F23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6563-A436-4D9C-B03F-C362B21A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7351-C1F8-472A-95C4-676C4B27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7DB-AB73-4121-A8D1-9D978DE3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FD4F-D658-407B-9D5D-F9833E41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7DAC-2B29-439C-B72E-C09BF8A6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30F5-15FB-49AB-B4DD-05A03854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39FC-C8B1-4A6C-B1C1-F1CE1E0B7F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9B0A-A0F6-4CBB-A8FC-1B1AD6F0903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Convex lenses bring rays to a focus.The more curved the lens , the quicker the rays are focussed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Concave lenses make rays spread out.The more curved the lens ,the more the rays spread ou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Tahoma"/>
              </a:rPr>
              <a:t>Long sighted people can only focus on far away objects.The eye behaves normally.When viewing nearby objects ,the lens brings the rays of light to a focus beyond the retina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is is rectified by putting a convex lens in front of the ey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ff"/>
                </a:solidFill>
                <a:latin typeface="Tahoma"/>
              </a:rPr>
              <a:t>Short sighted people can only focus on nearby objects.The eye works normall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ff"/>
                </a:solidFill>
                <a:latin typeface="Tahoma"/>
              </a:rPr>
              <a:t>With nearby objects, the lens brings the rays to a focus before the retina.This is corrected by putting a concave lens in front of the ey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focal length of a lens is the length from the middle of the lens where the rays come to a focu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ibre optical cables are cold light sources because no heat energy is produced in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An endoscope consists of two bundles of optical fibres.The first takes light down inside a patients body to illuminate a source of concern.The second takes light to the surgeon`s eye via a lens and camer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0:33Z</dcterms:modified>
  <cp:revision>30</cp:revision>
  <dc:subject/>
  <dc:title>lenses</dc:title>
</cp:coreProperties>
</file>