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B8094-3D3C-4247-802E-89EEC615B0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vex lenses bring rays to a focus.The more curved the lens , the quicker the rays are focus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cave lenses make rays spread out.The more curved the lens ,the more the rays spread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vex lenses bring rays to a focus.The more curved the lens , the quicker the rays are focuss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ncave lenses make rays spread out.The more curved the lens ,the more the rays spread ou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sighted people can only focus on far away objects.The eye behaves normally.When viewing nearby objects ,the lens brings the rays of light to a focus beyond the reti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ong sighted people can only focus on far away objects.The eye behaves normally.When viewing nearby objects ,the lens brings the rays of light to a focus beyond the retin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rectified by putting a convex lens in front of the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is rectified by putting a convex lens in front of the ey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sighted people can only focus on nearby objects.The eye works norma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 nearby objects, the lens brings the rays to a focus before the retina.This is corrected by putting a concave lens in front of the ey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ort sighted people can only focus on nearby objects.The eye works normall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th nearby objects, the lens brings the rays to a focus before the retina.This is corrected by putting a concave lens in front of the ey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ocal length of a lens is the length from the middle of the lens where the rays come to a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bre optical cables are cold light sources because no heat energy is produced in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focal length of a lens is the length from the middle of the lens where the rays come to a focu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ibre optical cables are cold light sources because no heat energy is produced in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 endoscope consists of two bundles of optical fibres.The first takes light down inside a patients body to illuminate a source of concern.The second takes light to the surgeon`s eye via a lens and cam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EALTH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 endoscope consists of two bundles of optical fibres.The first takes light down inside a patients body to illuminate a source of concern.The second takes light to the surgeon`s eye via a lens and camer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D3E7-D6E9-44C2-B065-43845D5A5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382A-D4F4-4B7E-9783-007801994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8441-F562-4387-98C8-20AADBFA81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4A025-2BA4-4892-A4DB-8F4C00FB5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EBC50-667E-4C06-A8A8-79B768B024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EB1B-C315-4A4D-AE2B-D4CAE1ADB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188451-333D-482E-9DF4-4434BAF67E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A1EA7-53F0-49AF-9488-5C96F12243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8E8F2-239B-46FB-9030-BE7ED5B2A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8B174-1959-42D9-AC94-F1C22A00B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A34B5-46B5-4030-8D6A-DD661FAFD6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EA1C-D10D-441D-84BE-A1C0A8FC3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4CB5A-0AB9-45B0-9E89-5AF1B55B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FE383-180A-4CA8-BB0E-9D2F95DB4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D663-AB59-4D85-8BDC-35A34B69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646A1-50CF-4072-8E15-EE4731E55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23DF4-6ACA-4B60-B069-B391F707D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3E8E4-3751-4624-99AD-53BD971BC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D59A-2598-4E0C-8CDF-EE46859CC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88C96-4516-4E62-8FA8-82ECBE937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BFE0-1F8B-452F-B02C-BCA0CDC4C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4D078-DB62-4A0A-A171-220678BED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44F53-6519-4087-BB7D-C7F0104B5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97DB-7C67-46AF-9979-9CEB7BAE7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73FEE-6B2E-45E6-B716-EB2DE3CB13A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5F251-B084-4047-A2A2-A0B65862B349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Convex lenses bring rays to a focus.The more curved the lens , the quicker the rays are focussed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Concave lenses make rays spread out.The more curved the lens ,the more the rays spread out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66ff"/>
                </a:solidFill>
                <a:latin typeface="Tahoma"/>
              </a:rPr>
              <a:t>Long sighted people can only focus on far away objects.The eye behaves normally.When viewing nearby objects ,the lens brings the rays of light to a focus beyond the retina.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This is rectified by putting a convex lens in front of the eye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ff"/>
                </a:solidFill>
                <a:latin typeface="Tahoma"/>
              </a:rPr>
              <a:t>Short sighted people can only focus on nearby objects.The eye works normally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66ff"/>
                </a:solidFill>
                <a:latin typeface="Tahoma"/>
              </a:rPr>
              <a:t>With nearby objects, the lens brings the rays to a focus before the retina.This is corrected by putting a concave lens in front of the eye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9" dur="5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focal length of a lens is the length from the middle of the lens where the rays come to a focu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Fibre optical cables are cold light sources because no heat energy is produced in th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HEALTH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An endoscope consists of two bundles of optical fibres.The first takes light down inside a patients body to illuminate a source of concern.The second takes light to the surgeon`s eye via a lens and camera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RomaK</cp:lastModifiedBy>
  <dcterms:modified xsi:type="dcterms:W3CDTF">2015-09-03T12:30:33Z</dcterms:modified>
  <cp:revision>30</cp:revision>
  <dc:subject/>
  <dc:title>lenses</dc:title>
</cp:coreProperties>
</file>