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FAF-5310-4AB2-A9EF-8F280E7ACD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0EF-0745-4331-8A02-5D961213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67F-5B44-4403-9FFF-59A85C36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267-DFEA-411C-A347-5ACCB383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040-D989-4DD5-876B-B0E36714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13A1-7CA5-4614-B902-9043162E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DA7-8775-4C26-B0D5-5B8AFE6D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FC57-0E8A-4D4B-BC4D-32F330AC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3634-3F7F-4E8A-AFE7-587E47C8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9819-8241-4E8E-A2B5-29C08B6B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6A5F-C8EA-4235-91E3-4584FF16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537A-C325-4F9A-98B9-FE47406C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3B9-C62A-46C4-AFDC-371B1B3F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8668-61A0-44C4-9B7F-FF3277E2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8FAF-A71A-4043-9E42-D686DCCE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4183-27E5-4F10-8E5A-0970AEC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26FA-B52E-4B12-9F95-7BE48EDE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3C6C-F1DB-436F-BBD3-5A477594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CBD-674E-4E17-AEAB-C5AD0C7E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907-12BB-40F1-B3EB-63F3D76D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28B-F4E4-42F1-9DA7-700E40A6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73E-6A4F-4B29-A1B7-7392AE58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CD1-EF12-4231-8A6C-55F5D6C9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929-F1EF-468B-9095-CE6209FD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3B1-0F74-47A0-A91E-2AD4049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1261-D063-458B-B0D1-E4F50A0420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E46D-CA99-40C0-AC84-F4BA6B33F1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vex lenses bring rays to a focus.The more curved the lens , the quicker the rays are focuss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cave lenses make rays spread out.The more curved the lens ,the more the rays spread o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Tahoma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rectified by putting a convex lens in front of the ey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Short sighted people can only focus on nearby objects.The eye works normal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With nearby objects, the lens brings the rays to a focus before the retina.This is corrected by putting a concave lens in front of the ey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focal length of a lens is the length from the middle of the lens where the rays come to a focu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ibre optical cables are cold light sources because no heat energy is produced in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0:33Z</dcterms:modified>
  <cp:revision>30</cp:revision>
  <dc:subject/>
  <dc:title>lenses</dc:title>
</cp:coreProperties>
</file>