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3.jpeg" ContentType="image/jpeg"/>
  <Override PartName="/ppt/media/image1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5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17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4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934E-FD24-4558-97A9-7051F9168EB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vaneh, Shelby &amp; Marlee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w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arvaneh, Shelby &amp; Marleen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icrowav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elescop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Microwaves used fo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ing, transmitting information, remote sens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er microwaves used for remote sens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ppler rad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e remote sensing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waves pierce through all cloud covering of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ellite im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rs.gsfc.nasa.gov/ems/micro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hat are Microwaves used for?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eating, transmitting information, remote sensin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horter microwaves used for remote sensin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oppler rada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ctive remote sensing syste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icrowaves pierce through all cloud covering of earth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atellite imag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imagers.gsfc.nasa.gov/ems/micro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he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loon Born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quality CMB data with unmatched sky cover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etitive results on CMB anisotropy measur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bed for data analysis to be used in PLAN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journal.archeops.org/First_results/index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rcheop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alloon Born Telescop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im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igh quality CMB data with unmatched sky coverag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mpetitive results on CMB anisotropy measurement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estbed for data analysis to be used in PLANCK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journal.archeops.org/First_results/index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omera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loon born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. 29, 1998 – Jan. 9, 19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5 days around antarct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0,000 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2 m primary mirr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d sky at 4 frequenc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0, 150, 240, 4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vered 1800 square degrees (3% of sk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mb.phys.cwru.edu/boomerang/press_images/cmbfacts/cmbfact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oomeran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alloon born telescop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ec. 29, 1998 – Jan. 9, 1999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0.5 days around antarctic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20,000 ft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.2 m primary mirro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asured sky at 4 frequenci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90, 150, 240, 400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vered 1800 square degrees (3% of sky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cmb.phys.cwru.edu/boomerang/press_images/cmbfacts/cmbfacts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mic background Im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telescope to study CMB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 the statistical properties on angular scales from 5 arc minutes to one 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 element interferome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eld of view – 44 arc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olution – 4.5-10 arc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s at foregrou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resolved sources measured by 40 m telescope in Owens Valley Radio Observ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stro.caltech.edu/~tjp/CBI/pictures/cbi-frontview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smic background Imag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radio telescope to study CMB radiatio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asure the statistical properties on angular scales from 5 arc minutes to one degre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3 element interferometer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ield of view – 44 arcmi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Resolution – 4.5-10 arcmi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Looks at foreground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nresolved sources measured by 40 m telescope in Owens Valley Radio Observatory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www.astro.caltech.edu/~tjp/CBI/pictures/cbi-frontview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S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astro.uchicago.edu/das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 Angular Scale Interfero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 elemental interfero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 temp and angular power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d over l range of 160-170 or .25-1.15 degr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unt includes rotation of aperture plane along line of s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ASI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astro.uchicago.edu/dasi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egree Angular Scale Interferomet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3 elemental interferomet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asure temp and angular power spectru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ampled over l range of 160-170 or .25-1.15 degre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ount includes rotation of aperture plane along line of sight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M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kinson Microwave Anisotropy Pr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unched 2001 to map CMB radiation with higher resolution, sensitivity, and accuracy than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ap.gsfc.nasa.gov/m_mm/sg_earlyuniv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MAP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ilkinson Microwave Anisotropy Prob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Launched 2001 to map CMB radiation with higher resolution, sensitivity, and accuracy than COB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map.gsfc.nasa.gov/m_mm/sg_earlyuniv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XI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osmology.berkeley.edu/group/cmb/image/maxima_map.g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limeter Anisotropy eXperiment Imaging Arra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ular power spectrum with a unique set of "acoustic peaks" between the angular scales of 2 degrees and 10'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provide precise estimates of cosmological consta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AXIM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cosmology.berkeley.edu/group/cmb/image/maxima_map.gif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illimeter Anisotropy eXperiment Imaging Array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ngular power spectrum with a unique set of "acoustic peaks" between the angular scales of 2 degrees and 10'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an provide precise estimates of cosmological constant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of the first European mission to study the “birth” of the Univer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ion to be finished in 20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unched in the same rocket with Herschel in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observe the Cosmic Microwave Background (left over radiation from the Big Ba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lank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art of the first European mission to study the “birth” of the Univers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nstruction to be finished in 2005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Launched in the same rocket with Herschel in 2007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ill observe the Cosmic Microwave Background (left over radiation from the Big Bang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sci.esa.int/science-e/www/object/index.cfm?fobjectid=348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dsri.dk/planck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spaceflightnow.com/news/n0006/13planck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LANK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sci.esa.int/science-e/www/object/index.cfm?fobjectid=34875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www.dsri.dk/planck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spaceflightnow.com/news/n0006/13planck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uth Pole Telescope (SP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8-meter precision submillimeter-wave telescop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ant galaxy clusters through detection of their Sunyaev-Zel’dovich effect (SZ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 Energy will be observed in great deta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000 Bolometers (heat detectors) measure the temperature differences up to 10 millionths of a degre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large areas of the sky will be very beneficial to modern astrono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South Pole Telescope (SPT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n 8-meter precision submillimeter-wave telescop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istant galaxy clusters through detection of their Sunyaev-Zel’dovich effect (SZE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ark Energy will be observed in great detai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,000 Bolometers (heat detectors) measure the temperature differences up to 10 millionths of a degre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apping large areas of the sky will be very beneficial to modern astronomer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omestic us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waves have wavelengths range from centimeters to those closer to a foot in leng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er are for heating foo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er waves Doppler rad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waves were first utilized by British the 1940s during WWI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r John Randall and Dr. H. A. Boot, invented a device called a magnetron (Radar) using microwaves to detect Nazi warpla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45, examining the magnetron, Percy Spencer’s candy bar mel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 was marketed, thank goodness Percy was a chocolate lov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abers.org/STELLA%20CANDY%20BAR.JP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iscovery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(domestic use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icrowaves have wavelengths range from centimeters to those closer to a foot in length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Longer are for heating food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horter waves Doppler rada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icrowaves were first utilized by British the 1940s during WWII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ir John Randall and Dr. H. A. Boot, invented a device called a magnetron (Radar) using microwaves to detect Nazi warplanes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945, examining the magnetron, Percy Spencer’s candy bar melted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roduct was marketed, thank goodness Percy was a chocolate lover!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abers.org/STELLA%20CANDY%20BAR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uth Pole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astro.uchicago.edu/spt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paceflightnow.com/news/n0301/29polescop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South Pole Telescop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astro.uchicago.edu/spt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www.spaceflightnow.com/news/n0301/29polescope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ry Small Array (VS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be built as an Inferometer, due to the changing weather patterns and the basic noise of the instruments that are experienc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radio signals received by each anten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ion finished in 1999 now in Tenerif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rao.cam.ac.uk/telescopes/vsa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Very Small Array (VSA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ill be built as an Inferometer, due to the changing weather patterns and the basic noise of the instruments that are experienced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ses radio signals received by each antenn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nstruction finished in 1999 now in Tenerif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www.mrao.cam.ac.uk/telescopes/vsa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Small Arra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jb.man.ac.uk/tech/ technology/array-top.jp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rao.cam.ac.uk/ telescopes/vsa/ext-array.jp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pifr-bonn.mpg.de/.../ teleskope/vsa_art1.jp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Very Small Array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jb.man.ac.uk/tech/ technology/array-top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mrao.cam.ac.uk/ telescopes/vsa/ext-array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mpifr-bonn.mpg.de/.../ teleskope/vsa_art1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bliograp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rcheops.or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mb.phys.cwru.edu/boomera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stro.caltech.edu/~tjp/CB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astro.uchicago.edu/das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ap.gsfc.nasa.gov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osmology.berkeley.edu/group/cmb/index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rs.gsfc.nasa.gov/ems/micro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ins &amp; Kaufmann III, Discovering the Universe; 20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aether.lbl.gov/www/projects/cobe/COBE_Home/DMR_Image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ap.gsfc.nasa.gov/m_uni/uni_101bbtest3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nacho.princeton.edu/fowler/Talks/Brazosport_2001/slide30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deafinder.com/history/inventions/story068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ibliography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www.archeops.org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cmb.phys.cwru.edu/boomerang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www.astro.caltech.edu/~tjp/CBI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astro.uchicago.edu/dasi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map.gsfc.nasa.gov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cosmology.berkeley.edu/group/cmb/index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imagers.gsfc.nasa.gov/ems/micro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mins &amp; Kaufmann III, Discovering the Universe; 2003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aether.lbl.gov/www/projects/cobe/COBE_Home/DMR_Images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map.gsfc.nasa.gov/m_uni/uni_101bbtest3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nacho.princeton.edu/fowler/Talks/Brazosport_2001/slide30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www.ideafinder.com/history/inventions/story068.ht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mic Microwave Background (CM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60's at scientists at Bell Laboratories detected background noise using a special “low noise” antenn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tatic noise came from every direction and did not vary in intens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ientists soon realized they had discovered the cosmic microwave background radi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adiation, which fills the entire Universe, is believed to be a clue to it's beginning, something known as the Big Bang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smic Microwave Background (CMB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960's at scientists at Bell Laboratories detected background noise using a special “low noise” antenna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is static noise came from every direction and did not vary in intensity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scientists soon realized they had discovered the cosmic microwave background radiation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is radiation, which fills the entire Universe, is believed to be a clue to it's beginning, something known as the Big Bang.”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Bang 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verse was once much smaller, hotter, and dens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ff of Einstein’s theory of general rela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ansion of the universe – 19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est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uterium, helium, lith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M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www.internet2.edu/apps/html/archive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ig Bang Mode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niverse was once much smaller, hotter, and dens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ased off of Einstein’s theory of general relativity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Expansion of the universe – 1929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Lightest element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euterium, helium, lithiu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MB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oldwww.internet2.edu/apps/html/archives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 CMB tells us about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eometry of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ther the universe will expand or colla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matter there is in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ount and nature of dark matter an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ansion rate of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 of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igins of galaxies and galaxy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hat the CMB tells us about the Univer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geometry of the univer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hether the universe will expand or collap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ow much matter there is in the univer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mount and nature of dark matter and energy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Expansion rate of the univer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ge of the univer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origins of galaxies and galaxy cluster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gins of the CM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verse cooled as expanded – became less de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variations affected temp. of ph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e regions = hot spots in CM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0,000 years – cooled enough to form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ns traveled through – form relic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collapse – 1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d galax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Origins of the CMB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niverse cooled as expanded – became less den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ensity variations affected temp. of photon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ense regions = hot spots in CMB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300,000 years – cooled enough to form atom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hotons traveled through – form relic radiatio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Gravitational collapse – 1 billion year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reated galaxi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ef History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smic microwave background radiation is a remnant of the Big Bang and the fluctuations are the imprint of density contrast in the early universe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BE (November 18, 1989- 1993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t observations were made over 6 mo.  periods for 4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BE (Diffuse InfraRed Experiment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AS (Far-InfaRed Absolute Spectrophotomete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MR (Differential Microwave Radiometer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MR Recei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rief History and COB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cosmic microwave background radiation is a remnant of the Big Bang and the fluctuations are the imprint of density contrast in the early universe.”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BE (November 18, 1989- 1993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requent observations were made over 6 mo.  periods for 4 years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IRBE (Diffuse InfraRed Experiment)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IRAS (Far-InfaRed Absolute Spectrophotometer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MR (Differential Microwave Radiometers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MR Receiver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Microwave Radio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tions in intensity of the cosmic microwave background, show the post-Big Bang matter and energy distrib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formity / Isotropic CMB (to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of CM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 body curve (midd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hot and cold spot in the sky coming from our Solar System's motion through the galax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Ripples (botto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ther contrast “with our local motion removed.” hot red stripe through the center marks the galactic plane and above and below are variations in microwaves of the CMB!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BE’s findings at different levels of contras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728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353 m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µ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ifferential Microwave Radiomet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Variations in intensity of the cosmic microwave background, show the post-Big Bang matter and energy distribution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niformity / Isotropic CMB (top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emperature of CMB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lack body curve (middle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One hot and cold spot in the sky coming from our Solar System's motion through the galaxy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ensity Ripples (bottom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urther contrast “with our local motion removed.” hot red stripe through the center marks the galactic plane and above and below are variations in microwaves of the CMB! </a:t>
            </a: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BE’s findings at different levels of contrast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2.728 K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3.353 mK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8µK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1002-0DF3-47CE-80CF-9F584D281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FE58-0A4D-4BFE-963F-B9E2A002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8076-64BD-4D75-B5E5-8CC42FC18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F511-A1B5-4804-8A4B-96AD82CEB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E369-8365-4AA8-B6FD-7895F42A1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9576-DFD3-4FD1-80DC-6255395C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5EF1-E62D-4921-AA50-2D251949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724A-BF16-454C-A30E-C673621C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40CB-71F5-4436-AAD8-2F00E6BC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105D-6A66-499C-A34E-6F0C9CD0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2966C-7C71-4996-B0BD-754FF656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35AD-766F-48F3-80C5-C9095F62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9D114-0149-4F76-8757-A101179D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FE605-C204-4142-B90E-B2982665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4E69-C194-41B9-8911-E75637C1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EC9F0-24F2-43EC-AB06-096F86C42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449D-6893-4F08-92EA-27E9D7A7D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F700-9EFE-49CD-A364-CF1CF318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B000-9D70-4167-9B35-7DF823BD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DB7C-C801-4C2C-98B0-2FC8CDBC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5327-2969-429E-8C4E-37D2CC88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D414-F1F9-4753-8639-86339D47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A38F-1352-47D6-B21F-D6BA1F92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66FE-014E-40DF-98C8-623D4B85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94B1-8A97-4EA1-BA40-28AD68ED471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EA41-EB8D-4794-80FA-C4AAAB44999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stro.caltech.edu/~tjp/CBI/pictures/cbi-frontview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stro.uchicago.edu/dasi/DasiSunDog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dsri.dk/planck/first-l2-27jun97.gif" TargetMode="External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mrao.cam.ac.uk/telescopes/vsa/ext-array.jpg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www.jb.man.ac.uk/tech/technology/array-top.jpg" TargetMode="External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archeops.org/" TargetMode="External"/><Relationship Id="rId2" Type="http://schemas.openxmlformats.org/officeDocument/2006/relationships/hyperlink" Target="http://cmb.phys.cwru.edu/boomerang/" TargetMode="External"/><Relationship Id="rId3" Type="http://schemas.openxmlformats.org/officeDocument/2006/relationships/hyperlink" Target="http://www.astro.caltech.edu/~tjp/CB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94920" y="5257440"/>
            <a:ext cx="7162920" cy="55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838c"/>
                </a:solidFill>
                <a:latin typeface="바탕"/>
              </a:rPr>
              <a:t>Parvaneh, Shelby &amp; Marlee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4572000" y="914400"/>
          <a:ext cx="4191120" cy="30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914400"/>
                    <a:ext cx="4191120" cy="30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 txBox="1"/>
          <p:nvPr/>
        </p:nvSpPr>
        <p:spPr>
          <a:xfrm>
            <a:off x="812160" y="1269360"/>
            <a:ext cx="37854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98b3f"/>
                </a:solidFill>
                <a:latin typeface="Arial"/>
              </a:rPr>
              <a:t>Microwave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4648320" y="1219320"/>
            <a:ext cx="4190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4724280" y="1523880"/>
            <a:ext cx="403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c4558"/>
                </a:solidFill>
                <a:latin typeface="Arial"/>
              </a:rPr>
              <a:t>Telescopes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are Microwaves used for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9436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ating, transmitting information, remote sens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rter microwaves used for remote sen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oppler rad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tive remote sensing syste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crowaves pierce through all cloud covering of eart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atellite imag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Picture 4" descr="Salt Lake City, Utah"/>
          <p:cNvPicPr/>
          <p:nvPr/>
        </p:nvPicPr>
        <p:blipFill>
          <a:blip r:embed="rId1"/>
          <a:stretch/>
        </p:blipFill>
        <p:spPr>
          <a:xfrm>
            <a:off x="6248520" y="3733920"/>
            <a:ext cx="2361960" cy="25146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3733920" y="5638680"/>
            <a:ext cx="266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5334120" y="632448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http://imagers.gsfc.nasa.gov/ems/micro.htm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rcheo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7" name="Picture 3" descr="nacelle"/>
          <p:cNvPicPr/>
          <p:nvPr/>
        </p:nvPicPr>
        <p:blipFill>
          <a:blip r:embed="rId1"/>
          <a:stretch/>
        </p:blipFill>
        <p:spPr>
          <a:xfrm>
            <a:off x="380880" y="2286000"/>
            <a:ext cx="2857680" cy="43909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428640" y="2438280"/>
            <a:ext cx="533412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lloon Born Telescop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i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igh quality CMB data with unmatched sky cover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etitive results on CMB anisotropy measureme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stbed for data analysis to be used in PLANC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52280" y="6324480"/>
            <a:ext cx="411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journal.archeops.org/First_results/index.htm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oomera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lloon born telescop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c. 29, 1998 – Jan. 9, 1999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0.5 days around antarctic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20,000 f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2 m primary mirr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easured sky at 4 frequenc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90, 150, 240, 40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vered 1800 square degrees (3% of sk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2" name="Picture 4" descr="track_final"/>
          <p:cNvPicPr/>
          <p:nvPr/>
        </p:nvPicPr>
        <p:blipFill>
          <a:blip r:embed="rId1"/>
          <a:stretch/>
        </p:blipFill>
        <p:spPr>
          <a:xfrm>
            <a:off x="6095880" y="1676520"/>
            <a:ext cx="2614680" cy="26668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6095880" y="4495680"/>
            <a:ext cx="2819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http://cmb.phys.cwru.edu/boomerang/press_images/cmbfacts/cmbfacts.html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cbi-frontvie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86200" y="2514600"/>
            <a:ext cx="5029200" cy="41529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smic background Imag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28240" y="2437920"/>
            <a:ext cx="51814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adio telescope to study CMB radi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easure the statistical properties on angular scales from 5 arc minutes to one degre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3 element interferometer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ield of view – 44 arcmi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solution – 4.5-10 arcmi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0" y="4648320"/>
            <a:ext cx="396252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ooks at foreground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resolved sources measured by 40 m telescope in Owens Valley Radio Observato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5257800" y="60199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astro.caltech.edu/~tjp/CBI/pictures/cbi-frontview.ht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AS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0" name="Picture 3" descr="DasiSunDog_sm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67080" y="2590920"/>
            <a:ext cx="4686480" cy="38862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5181480" y="28195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astro.uchicago.edu/dasi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304920" y="2666880"/>
            <a:ext cx="54864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gree Angular Scale Interferomet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3 elemental interferomet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easure temp and angular power spectr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304920" y="434340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ampled over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range of 160-170 or .25-1.15 degre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228600" y="5562720"/>
            <a:ext cx="44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unt includes rotation of aperture plane along line of sigh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MAP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lkinson Microwave Anisotropy Prob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unched 2001 to map CMB radiation with higher resolution, sensitivity, and accuracy than COB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7" name="Picture 4" descr="Cosmic Microwave Background Data from WMAP"/>
          <p:cNvPicPr/>
          <p:nvPr/>
        </p:nvPicPr>
        <p:blipFill>
          <a:blip r:embed="rId1"/>
          <a:stretch/>
        </p:blipFill>
        <p:spPr>
          <a:xfrm>
            <a:off x="3809880" y="3809880"/>
            <a:ext cx="4305600" cy="21528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4038480" y="6172200"/>
            <a:ext cx="464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http://map.gsfc.nasa.gov/m_mm/sg_earlyuniv.htm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XIM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0" name="Picture 3" descr="maxima_map"/>
          <p:cNvPicPr/>
          <p:nvPr/>
        </p:nvPicPr>
        <p:blipFill>
          <a:blip r:embed="rId1"/>
          <a:stretch/>
        </p:blipFill>
        <p:spPr>
          <a:xfrm>
            <a:off x="6095880" y="3657600"/>
            <a:ext cx="2743200" cy="23763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4"/>
          <p:cNvSpPr/>
          <p:nvPr/>
        </p:nvSpPr>
        <p:spPr>
          <a:xfrm>
            <a:off x="6172200" y="609588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cosmology.berkeley.edu/group/cmb/image/maxima_map.gif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04560" y="2666880"/>
            <a:ext cx="601956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llimet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isotropy e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iment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ging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ra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gular power spectrum with a unique set of "acoustic peaks" between the angular scales of 2 degrees and 10'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 provide precise estimates of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smological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stant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lan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t of the first European mission to study the “birth” of the Univers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truction to be finished in 200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unched in the same rocket with Herschel in 200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ll observe the Cosmic Microwave Background (left over radiation from the Big Ba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LAN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6" name="Picture 5" descr="The telescope frame mounted on the test fixture using thermally isolating struts. Image courtesy of and © 2004 Alcatel Space."/>
          <p:cNvPicPr/>
          <p:nvPr/>
        </p:nvPicPr>
        <p:blipFill>
          <a:blip r:embed="rId1"/>
          <a:stretch/>
        </p:blipFill>
        <p:spPr>
          <a:xfrm>
            <a:off x="457200" y="2362320"/>
            <a:ext cx="2892600" cy="3886200"/>
          </a:xfrm>
          <a:prstGeom prst="rect">
            <a:avLst/>
          </a:prstGeom>
          <a:ln w="22320">
            <a:solidFill>
              <a:srgbClr val="003366"/>
            </a:solidFill>
            <a:miter/>
          </a:ln>
        </p:spPr>
      </p:pic>
      <p:pic>
        <p:nvPicPr>
          <p:cNvPr id="177" name="Picture 6" descr="Click to get full image of FIRST/PLANC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24480" y="2286000"/>
            <a:ext cx="2495520" cy="4286160"/>
          </a:xfrm>
          <a:prstGeom prst="rect">
            <a:avLst/>
          </a:prstGeom>
          <a:ln w="22320">
            <a:solidFill>
              <a:srgbClr val="006666"/>
            </a:solidFill>
            <a:miter/>
          </a:ln>
        </p:spPr>
      </p:pic>
      <p:sp>
        <p:nvSpPr>
          <p:cNvPr id="178" name="Rectangle 8"/>
          <p:cNvSpPr/>
          <p:nvPr/>
        </p:nvSpPr>
        <p:spPr>
          <a:xfrm>
            <a:off x="304920" y="6172200"/>
            <a:ext cx="3733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http://sci.esa.int/science-e/www/object/index.cfm?fobjectid=34875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6393960" y="6172200"/>
            <a:ext cx="22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dsri.dk/planck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0" name="Picture 10" descr="Spacecraft"/>
          <p:cNvPicPr/>
          <p:nvPr/>
        </p:nvPicPr>
        <p:blipFill>
          <a:blip r:embed="rId4"/>
          <a:stretch/>
        </p:blipFill>
        <p:spPr>
          <a:xfrm>
            <a:off x="3352680" y="1828800"/>
            <a:ext cx="2982960" cy="277956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2"/>
          <p:cNvSpPr/>
          <p:nvPr/>
        </p:nvSpPr>
        <p:spPr>
          <a:xfrm>
            <a:off x="3429000" y="40384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spaceflightnow.com/news/n0006/13planck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80920" y="1109520"/>
            <a:ext cx="7457400" cy="59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66"/>
                </a:solidFill>
                <a:latin typeface="Arial"/>
              </a:rPr>
              <a:t>The South Pole Telescope (SPT)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 8-meter precision submillimeter-wave telescop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tant galaxy clusters through detection of their Sunyaev-Zel’dovich effect (SZE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ark Energy will be observed in great detai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,000 Bolometers (heat detectors) measure the temperature differences up to 10 millionths of a degre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pping large areas of the sky will be very beneficial to modern astronom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scovery</a:t>
            </a:r>
            <a:br>
              <a:rPr sz="36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(domestic use)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9" name="Picture 5" descr="The radio range showing the radar bands L,S,C,X,K (from L to R)."/>
          <p:cNvPicPr/>
          <p:nvPr/>
        </p:nvPicPr>
        <p:blipFill>
          <a:blip r:embed="rId1"/>
          <a:stretch/>
        </p:blipFill>
        <p:spPr>
          <a:xfrm>
            <a:off x="3505320" y="685800"/>
            <a:ext cx="5029200" cy="11509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3809880" y="2514600"/>
            <a:ext cx="502920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icrowaves have wavelengths range from centimeters to those closer to a foot in length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0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Longer are for heating food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0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horter waves Doppler rada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icrowaves were first utilized by British the 1940s during WWII.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0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ir John Randall and Dr. H. A. Boot, invented a device called a 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magnetron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Radar) using microwaves to detect Nazi warplane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0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945, examining the magnetron, Percy Spencer’s candy bar melte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0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roduct was marketed, thank goodness Percy was a chocolate lover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Picture 8" descr="2003-06-19_Hershey_candy_bar"/>
          <p:cNvPicPr/>
          <p:nvPr/>
        </p:nvPicPr>
        <p:blipFill>
          <a:blip r:embed="rId2"/>
          <a:stretch/>
        </p:blipFill>
        <p:spPr>
          <a:xfrm>
            <a:off x="1371600" y="2514600"/>
            <a:ext cx="2009880" cy="3724200"/>
          </a:xfrm>
          <a:prstGeom prst="rect">
            <a:avLst/>
          </a:prstGeom>
          <a:ln cap="rnd" w="19080">
            <a:solidFill>
              <a:srgbClr val="006666"/>
            </a:solidFill>
            <a:custDash>
              <a:ds d="100000" sp="1000"/>
            </a:custDash>
            <a:miter/>
          </a:ln>
        </p:spPr>
      </p:pic>
      <p:sp>
        <p:nvSpPr>
          <p:cNvPr id="112" name="Text Box 10"/>
          <p:cNvSpPr/>
          <p:nvPr/>
        </p:nvSpPr>
        <p:spPr>
          <a:xfrm>
            <a:off x="1066680" y="6248520"/>
            <a:ext cx="2667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Arial"/>
              </a:rPr>
              <a:t>www.sabers.org/STELLA%20CANDY%20BAR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6666"/>
                </a:solidFill>
                <a:latin typeface="Arial"/>
              </a:rPr>
              <a:t>The South Pole Telescope</a:t>
            </a:r>
            <a:endParaRPr b="1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5" name="Picture 4" descr="spt-shields"/>
          <p:cNvPicPr/>
          <p:nvPr/>
        </p:nvPicPr>
        <p:blipFill>
          <a:blip r:embed="rId1"/>
          <a:stretch/>
        </p:blipFill>
        <p:spPr>
          <a:xfrm>
            <a:off x="457200" y="2592360"/>
            <a:ext cx="3276720" cy="2513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southpole"/>
          <p:cNvPicPr/>
          <p:nvPr/>
        </p:nvPicPr>
        <p:blipFill>
          <a:blip r:embed="rId2"/>
          <a:stretch/>
        </p:blipFill>
        <p:spPr>
          <a:xfrm>
            <a:off x="3809880" y="2400480"/>
            <a:ext cx="5029200" cy="37764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6"/>
          <p:cNvSpPr/>
          <p:nvPr/>
        </p:nvSpPr>
        <p:spPr>
          <a:xfrm>
            <a:off x="690120" y="5181480"/>
            <a:ext cx="278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astro.uchicago.edu/spt/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3758040" y="6172200"/>
            <a:ext cx="53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www.spaceflightnow.com/news/n0301/29polescope/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Very Small Array (VSA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Will be built as an Inferometer, due to the changing weather patterns and the basic noise of the instruments that are experienced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Uses radio signals received by each antenna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onstruction finished in 1999</a:t>
            </a:r>
            <a:r>
              <a:rPr b="0" lang="en-US" sz="26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now in Tenerife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1" name="Picture 4" descr="pics2"/>
          <p:cNvPicPr/>
          <p:nvPr/>
        </p:nvPicPr>
        <p:blipFill>
          <a:blip r:embed="rId1"/>
          <a:stretch/>
        </p:blipFill>
        <p:spPr>
          <a:xfrm>
            <a:off x="1523880" y="3809880"/>
            <a:ext cx="5791320" cy="304812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5"/>
          <p:cNvSpPr/>
          <p:nvPr/>
        </p:nvSpPr>
        <p:spPr>
          <a:xfrm>
            <a:off x="7315200" y="51055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www.mrao.cam.ac.uk/telescopes/vsa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ery Small Array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4" name="Picture 4" descr="ext-array-sm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335268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Array top view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2666880"/>
            <a:ext cx="2800080" cy="37339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96" name="Picture 6" descr="vsa_art1"/>
          <p:cNvPicPr/>
          <p:nvPr/>
        </p:nvPicPr>
        <p:blipFill>
          <a:blip r:embed="rId5"/>
          <a:stretch/>
        </p:blipFill>
        <p:spPr>
          <a:xfrm>
            <a:off x="4876920" y="1143000"/>
            <a:ext cx="4267080" cy="29955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7"/>
          <p:cNvSpPr/>
          <p:nvPr/>
        </p:nvSpPr>
        <p:spPr>
          <a:xfrm>
            <a:off x="304920" y="4723560"/>
            <a:ext cx="2438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www.jb.man.ac.uk/tech/ technology/array-top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3733920" y="6247800"/>
            <a:ext cx="2361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Arial"/>
              </a:rPr>
              <a:t>www.mrao.cam.ac.uk/ telescopes/vsa/ext-array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6172200" y="4113720"/>
            <a:ext cx="350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www.mpifr-bonn.mpg.de/.../ teleskope/vsa_art1.jpg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bliograph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77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archeops.org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cmb.phys.cwru.edu/boomerang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http://www.astro.caltech.edu/~tjp/CBI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astro.uchicago.edu/dasi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map.gsfc.nasa.gov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cosmology.berkeley.edu/group/cmb/index.ht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imagers.gsfc.nasa.gov/ems/micro.ht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Unicode MS"/>
              </a:rPr>
              <a:t>Comins &amp; Kaufmann III,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 Unicode MS"/>
              </a:rPr>
              <a:t>Discovering the Universe</a:t>
            </a:r>
            <a:r>
              <a:rPr b="0" lang="en-US" sz="1800" spc="-1" strike="noStrike">
                <a:solidFill>
                  <a:srgbClr val="003366"/>
                </a:solidFill>
                <a:latin typeface="Arial Unicode MS"/>
              </a:rPr>
              <a:t>; 200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Unicode MS"/>
              </a:rPr>
              <a:t>http://aether.lbl.gov/www/projects/cobe/COBE_Home/DMR_Images.ht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Unicode MS"/>
              </a:rPr>
              <a:t>http://map.gsfc.nasa.gov/m_uni/uni_101bbtest3.ht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Unicode MS"/>
              </a:rPr>
              <a:t>http://nacho.princeton.edu/fowler/Talks/Brazosport_2001/slide30.ht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Unicode MS"/>
              </a:rPr>
              <a:t>http://www.ideafinder.com/history/inventions/story068.ht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C</a:t>
            </a:r>
            <a:r>
              <a:rPr b="1" lang="en-US" sz="3800" spc="-1" strike="noStrike">
                <a:solidFill>
                  <a:srgbClr val="006666"/>
                </a:solidFill>
                <a:latin typeface="Arial"/>
              </a:rPr>
              <a:t>osmic 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M</a:t>
            </a:r>
            <a:r>
              <a:rPr b="1" lang="en-US" sz="3800" spc="-1" strike="noStrike">
                <a:solidFill>
                  <a:srgbClr val="006666"/>
                </a:solidFill>
                <a:latin typeface="Arial"/>
              </a:rPr>
              <a:t>icrowave </a:t>
            </a: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B</a:t>
            </a:r>
            <a:r>
              <a:rPr b="1" lang="en-US" sz="3800" spc="-1" strike="noStrike">
                <a:solidFill>
                  <a:srgbClr val="006666"/>
                </a:solidFill>
                <a:latin typeface="Arial"/>
              </a:rPr>
              <a:t>ackground</a:t>
            </a:r>
            <a:r>
              <a:rPr b="1" lang="en-US" sz="3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6666"/>
                </a:solidFill>
                <a:latin typeface="Arial"/>
              </a:rPr>
              <a:t>(CMB)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990720" y="251460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10" descr="Flower-Power-1024"/>
          <p:cNvPicPr/>
          <p:nvPr/>
        </p:nvPicPr>
        <p:blipFill>
          <a:blip r:embed="rId1"/>
          <a:stretch/>
        </p:blipFill>
        <p:spPr>
          <a:xfrm>
            <a:off x="914400" y="2438280"/>
            <a:ext cx="7238880" cy="42418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16" name="Text Box 12"/>
          <p:cNvSpPr/>
          <p:nvPr/>
        </p:nvSpPr>
        <p:spPr>
          <a:xfrm>
            <a:off x="2057400" y="2743200"/>
            <a:ext cx="5486400" cy="43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1960's at scientists at Bell Laboratories detected background noise using a special “low noise” antenna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his static noise came from every direction and did not vary in intens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he scientists soon realized they had discovered the cosmic microwave background radiation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This radiation, which fills the entire Universe, is believed to be a clue to it's beginning, something known as the Big Bang.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g Bang Mod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14400" y="2361960"/>
            <a:ext cx="6019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niverse was once much smaller, hotter, and dens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sed off of Einstein’s theory of general relativ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xpansion of the universe – 1929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ghtest eleme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uterium, helium, lithiu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M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Picture 5" descr="runaway-universe"/>
          <p:cNvPicPr/>
          <p:nvPr/>
        </p:nvPicPr>
        <p:blipFill>
          <a:blip r:embed="rId1"/>
          <a:stretch/>
        </p:blipFill>
        <p:spPr>
          <a:xfrm>
            <a:off x="5410080" y="4648320"/>
            <a:ext cx="3429000" cy="20080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7"/>
          <p:cNvSpPr/>
          <p:nvPr/>
        </p:nvSpPr>
        <p:spPr>
          <a:xfrm>
            <a:off x="5334120" y="640080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ldwww.internet2.edu/apps/html/archives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the CMB tells us about the Univers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143000" y="26668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geometry of the unive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ether the universe will expand or collap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much matter there is in the unive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mount and nature of dark matter and energ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pansion rate of the unive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ge of the unive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origins of galaxies and galaxy clust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rigins of the CMB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14400" y="25905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iverse cooled as expanded – became less den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nsity variations affected temp. of phot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nse regions = hot spots in CM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00,000 years – cooled enough to form ato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hotons traveled through – form relic radi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avitational collapse – 1 billion yea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eated galax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rief History and COB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Picture 25" descr="COBE_26_DMRrec"/>
          <p:cNvPicPr/>
          <p:nvPr/>
        </p:nvPicPr>
        <p:blipFill>
          <a:blip r:embed="rId1">
            <a:lum contrast="24000"/>
          </a:blip>
          <a:srcRect l="10166" t="840" r="6264" b="0"/>
          <a:stretch/>
        </p:blipFill>
        <p:spPr>
          <a:xfrm>
            <a:off x="5562720" y="3352680"/>
            <a:ext cx="3276360" cy="27432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8"/>
          <p:cNvSpPr/>
          <p:nvPr/>
        </p:nvSpPr>
        <p:spPr>
          <a:xfrm>
            <a:off x="838080" y="2590920"/>
            <a:ext cx="4800600" cy="40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The cosmic microwave background radiation is a </a:t>
            </a: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remnant of the Big Bang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 and the fluctuations are the imprint of density contrast in the early universe.”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B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November 18, 1989- 1993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requent observations were made over 6 mo.  periods for 4 year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IRBE (</a:t>
            </a: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Diffuse InfraRed Experimen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RAS (</a:t>
            </a: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Far-InfaRed Absolute Spectrophotometer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DMR (</a:t>
            </a:r>
            <a:r>
              <a:rPr b="1" i="1" lang="en-US" sz="1400" spc="-1" strike="noStrike">
                <a:solidFill>
                  <a:srgbClr val="003366"/>
                </a:solidFill>
                <a:latin typeface="Arial"/>
              </a:rPr>
              <a:t>Differential Microwave Radiometers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Text Box 23"/>
          <p:cNvSpPr/>
          <p:nvPr/>
        </p:nvSpPr>
        <p:spPr>
          <a:xfrm>
            <a:off x="5867280" y="274320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MR Receiver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9" name="Object 29"/>
          <p:cNvGraphicFramePr/>
          <p:nvPr/>
        </p:nvGraphicFramePr>
        <p:xfrm>
          <a:off x="5638680" y="6248520"/>
          <a:ext cx="1752840" cy="160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Object 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8680" y="6248520"/>
                    <a:ext cx="175284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04078E-006 C 0.00226 0.00904 0.00452 0.01831 -0.02187 -0.01089 C -0.04826 -0.04008 -0.15312 -0.12025 -0.15885 -0.17539 C -0.16458 -0.23053 -0.09375 -0.31765 -0.05607 -0.34175 C -0.0184 -0.36584 0.04271 -0.28915 0.06719 -0.31997 C 0.09167 -0.35078 0.11511 -0.48262 0.09046 -0.52641 C 0.0658 -0.5702 -0.05156 -0.59406 -0.08073 -0.58317 C -0.10989 -0.57228 -0.10503 -0.48192 -0.08489 -0.46061 C -0.06475 -0.43929 0.01615 -0.42539 0.03976 -0.45528 C 0.06337 -0.48517 0.03889 -0.58688 0.05625 -0.63994 C 0.07362 -0.693 0.12535 -0.75208 0.14393 -0.7734 C 0.1625 -0.79471 0.16476 -0.78127 0.16719 -0.76784 E">
                                      <p:cBhvr>
                                        <p:cTn id="1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fferential Microwave Radiome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2" name="Object 21"/>
          <p:cNvGraphicFramePr/>
          <p:nvPr/>
        </p:nvGraphicFramePr>
        <p:xfrm>
          <a:off x="762120" y="2895480"/>
          <a:ext cx="226224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95480"/>
                    <a:ext cx="226224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Text Box 8"/>
          <p:cNvSpPr/>
          <p:nvPr/>
        </p:nvSpPr>
        <p:spPr>
          <a:xfrm>
            <a:off x="5715000" y="2514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2971800" y="2666880"/>
            <a:ext cx="6172200" cy="39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Variations in intensity of the cosmic microwave background, show the post-Big Bang matter and energy distribution.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niformity / Isotropic CMB (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top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emperature of CMB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lack body curve (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middl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One hot and cold spot in the sky coming from our Solar System's motion through the galaxy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nsity Ripples (bottom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urther contrast “with our local motion removed.” hot red stripe through the center marks the galactic plane and above and below are variations in microwaves of the CMB! 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Text Box 23"/>
          <p:cNvSpPr/>
          <p:nvPr/>
        </p:nvSpPr>
        <p:spPr>
          <a:xfrm>
            <a:off x="685800" y="2362320"/>
            <a:ext cx="259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COBE’s findings at different levels of contrast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Text Box 28"/>
          <p:cNvSpPr/>
          <p:nvPr/>
        </p:nvSpPr>
        <p:spPr>
          <a:xfrm>
            <a:off x="1219320" y="358128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728 K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Text Box 29"/>
          <p:cNvSpPr/>
          <p:nvPr/>
        </p:nvSpPr>
        <p:spPr>
          <a:xfrm>
            <a:off x="1143000" y="47242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.353 mK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Text Box 30"/>
          <p:cNvSpPr/>
          <p:nvPr/>
        </p:nvSpPr>
        <p:spPr>
          <a:xfrm>
            <a:off x="1219320" y="57913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µK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990015b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685800" y="304920"/>
            <a:ext cx="81532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19:50:09Z</dcterms:created>
  <dc:creator>Lakeside Loaner</dc:creator>
  <dc:description/>
  <dc:language>en-US</dc:language>
  <cp:lastModifiedBy>RomaK</cp:lastModifiedBy>
  <dcterms:modified xsi:type="dcterms:W3CDTF">2015-09-03T12:31:35Z</dcterms:modified>
  <cp:revision>22</cp:revision>
  <dc:subject/>
  <dc:title>Microwave Telescopes</dc:title>
</cp:coreProperties>
</file>