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2DFB-7DE9-47A0-8ABF-18D80BF1A7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vaneh, Shelby &amp; Marle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vaneh, Shelby &amp; Marlee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lescop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crowaves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, transmitting information,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microwaves used for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mote sensing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pierce through all cloud covering 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are Microwaves used for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e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quality CMB data with unmatched sky co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ve results on CMB anisotropy 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bed for data analysis to be used in PLAN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urnal.archeops.org/First_result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rcheop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journal.archeops.org/First_results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mer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. 29, 1998 – Jan. 9, 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5 days around antarc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0,000 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m primary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sky at 4 freque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, 150, 240, 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1800 square degrees (3% of sk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omera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background Im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 to study CMB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eld of view – 44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lution – 4.5-10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at fore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background Imag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Angular Scale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al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emp and angular power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d over l range of 160-170 or .25-1.15 deg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 includes rotation of aperture plane along line of s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SI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mpled over l range of 160-170 or .25-1.15 degre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kinson Microwave Anisotropy Pr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mm/sg_earlyuniv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MAP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mage/maxima_map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meter Anisotropy eXperiment Imaging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provide precise estimates of cosmological cons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XIM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llimeter Anisotropy eXperiment Imaging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an provide precise estimates of cosmological constant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to be finished in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the same rocket with Herschel in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sri.dk/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paceflightnow.com/news/n0006/13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dsri.dk/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 (SP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8-meter precision submillimeter-wave telescop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Energy will be observed in great de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 (SPT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mestic u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are for heating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waves 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abers.org/STELLA%20CANDY%20BAR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domestic us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sp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aceflightnow.com/news/n0301/29polescop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ry Small Array (V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radio signals received by each anten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finished in 1999 now in Tenerif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rao.cam.ac.uk/telescopes/vs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Very Small Array (VSA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finished in 1999 now in Tenerif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jb.man.ac.uk/tech/ technology/array-top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rao.cam.ac.uk/ telescopes/vsa/ext-array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pifr-bonn.mpg.de/.../ teleskope/vsa_art1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ery Small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rcheops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ins &amp; Kaufmann III, Discovering the Universe;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uni/uni_101bbtest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deafinder.com/history/inventions/story068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bliograph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rcheops.or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ins &amp; Kaufmann III, Discovering the Universe; 200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uni/uni_101bbtest3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ideafinder.com/history/inventions/story068.ht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 (CM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Microwave Background (CMB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was once much smaller, hotter, and den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ff of Einstein’s theory of general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 –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uterium, helium, lith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www.internet2.edu/apps/html/archiv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g Bang Mode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 CMB tells us about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ometry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ther the universe will expand or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tter there i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and nature of dark matter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rat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galaxies and galaxy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the CMB tells us about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s of the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cooled as expanded – became less 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variations affected temp.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 regions = hot spots in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years – cooled enough to for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traveled through – form relic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– 1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rigins of the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ef History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November 18, 1989- 199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BE (Diffuse InfraRed Experiment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AS (Far-InfaRed Absolute Spectrophotome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(Differential Microwave Radiometer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Recei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ief History and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 (November 18, 1989- 1993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BE (Diffuse InfraRed Experiment)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RAS (Far-InfaRed Absolute Spectrophotometer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(Differential Microwave Radiometers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Receiv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Microwave Radi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ity / Isotropic CMB (to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body curve (midd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Ripples (botto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’s findings at different levels of contra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28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53 m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µ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fferential Microwave Radi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formity / Isotropic CMB (top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lack body curve (middl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728 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353 m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8µ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B9D-1C53-4C24-91C1-2172D3E2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6F2-29EB-4E9C-9546-C13CEFE6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40A-A0D9-401F-B5A3-CBD864F3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E7A-4089-45BE-B7DE-1B925592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73E6-2E11-4C65-A680-4A328851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7E40-C363-40B6-8C19-58D2FCC0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8C09-20EC-49C6-84F9-A4B61164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AE76-CB14-40D4-89FD-18A35EC7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F504-6F9B-4594-B940-C8643D0D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15F7-B98C-4DE9-A702-B2BD4D63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6E79-45C2-4B03-9EF5-59E96875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BB8-B1EA-4E12-ABF9-6591DF25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95A3-2982-48F7-9E01-F5D223F3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2E43-83F0-4ED9-AEED-3517F9D8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F27E-2C03-4E4B-8D24-CE6560A5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89DA-03CB-4AE9-81BD-D6A119FA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40A7-5EA7-4B58-A677-51879619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6FE-F765-4B4B-A776-8BBDA8F4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A89-D0D0-4A6E-8322-9B26F324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272-1760-4BCE-8B68-15BB6791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CC4-A483-4984-8825-9DF8A236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C39-1777-49A4-84D0-65E2AAAC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262-B4B0-4A23-9B63-6D900B31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140-B029-41C9-BE6D-6B9B29DE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7D80-8843-464C-A661-717081C621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2A79-90BC-4BDB-BD1D-D06DB363FC9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tro.caltech.edu/~tjp/CBI/pictures/cbi-frontview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stro.uchicago.edu/dasi/DasiSunDog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dsri.dk/planck/first-l2-27jun97.gif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rao.cam.ac.uk/telescopes/vsa/ext-array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jb.man.ac.uk/tech/technology/array-top.jpg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rcheops.org/" TargetMode="External"/><Relationship Id="rId2" Type="http://schemas.openxmlformats.org/officeDocument/2006/relationships/hyperlink" Target="http://cmb.phys.cwru.edu/boomerang/" TargetMode="External"/><Relationship Id="rId3" Type="http://schemas.openxmlformats.org/officeDocument/2006/relationships/hyperlink" Target="http://www.astro.caltech.edu/~tjp/CB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94920" y="5257440"/>
            <a:ext cx="71629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838c"/>
                </a:solidFill>
                <a:latin typeface="바탕"/>
              </a:rPr>
              <a:t>Parvaneh, Shelby &amp; Marlee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4572000" y="914400"/>
          <a:ext cx="4191120" cy="30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914400"/>
                    <a:ext cx="419112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 txBox="1"/>
          <p:nvPr/>
        </p:nvSpPr>
        <p:spPr>
          <a:xfrm>
            <a:off x="812160" y="1269360"/>
            <a:ext cx="37854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8b3f"/>
                </a:solidFill>
                <a:latin typeface="Arial"/>
              </a:rPr>
              <a:t>Microwav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48320" y="12193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724280" y="15238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4558"/>
                </a:solidFill>
                <a:latin typeface="Arial"/>
              </a:rPr>
              <a:t>Telescopes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Microwaves used fo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43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4" descr="Salt Lake City, Utah"/>
          <p:cNvPicPr/>
          <p:nvPr/>
        </p:nvPicPr>
        <p:blipFill>
          <a:blip r:embed="rId1"/>
          <a:stretch/>
        </p:blipFill>
        <p:spPr>
          <a:xfrm>
            <a:off x="6248520" y="3733920"/>
            <a:ext cx="2361960" cy="2514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733920" y="5638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34120" y="63244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che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3" descr="nacelle"/>
          <p:cNvPicPr/>
          <p:nvPr/>
        </p:nvPicPr>
        <p:blipFill>
          <a:blip r:embed="rId1"/>
          <a:stretch/>
        </p:blipFill>
        <p:spPr>
          <a:xfrm>
            <a:off x="380880" y="2286000"/>
            <a:ext cx="2857680" cy="4390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428640" y="2438280"/>
            <a:ext cx="53341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32448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journal.archeops.org/First_results/index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omera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Picture 4" descr="track_final"/>
          <p:cNvPicPr/>
          <p:nvPr/>
        </p:nvPicPr>
        <p:blipFill>
          <a:blip r:embed="rId1"/>
          <a:stretch/>
        </p:blipFill>
        <p:spPr>
          <a:xfrm>
            <a:off x="6095880" y="1676520"/>
            <a:ext cx="2614680" cy="2666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095880" y="449568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bi-frontvi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2514600"/>
            <a:ext cx="5029200" cy="4152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smic background Imag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2437920"/>
            <a:ext cx="5181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0" y="4648320"/>
            <a:ext cx="39625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25780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stro.caltech.edu/~tjp/CBI/pictures/cbi-frontview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S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Picture 3" descr="DasiSunDog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590920"/>
            <a:ext cx="4686480" cy="3886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5181480" y="2819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04920" y="2666880"/>
            <a:ext cx="5486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04920" y="434340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pled over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ange of 160-170 or .25-1.15 degre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28600" y="55627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M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4" descr="Cosmic Microwave Background Data from WMAP"/>
          <p:cNvPicPr/>
          <p:nvPr/>
        </p:nvPicPr>
        <p:blipFill>
          <a:blip r:embed="rId1"/>
          <a:stretch/>
        </p:blipFill>
        <p:spPr>
          <a:xfrm>
            <a:off x="3809880" y="3809880"/>
            <a:ext cx="4305600" cy="2152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4038480" y="617220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XI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Picture 3" descr="maxima_map"/>
          <p:cNvPicPr/>
          <p:nvPr/>
        </p:nvPicPr>
        <p:blipFill>
          <a:blip r:embed="rId1"/>
          <a:stretch/>
        </p:blipFill>
        <p:spPr>
          <a:xfrm>
            <a:off x="6095880" y="3657600"/>
            <a:ext cx="2743200" cy="237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6172200" y="60958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666880"/>
            <a:ext cx="60195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limet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sotropy 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imen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ing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r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provide precise estimates of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mological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a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Picture 5" descr="The telescope frame mounted on the test fixture using thermally isolating struts. Image courtesy of and © 2004 Alcatel Space."/>
          <p:cNvPicPr/>
          <p:nvPr/>
        </p:nvPicPr>
        <p:blipFill>
          <a:blip r:embed="rId1"/>
          <a:stretch/>
        </p:blipFill>
        <p:spPr>
          <a:xfrm>
            <a:off x="457200" y="2362320"/>
            <a:ext cx="2892600" cy="3886200"/>
          </a:xfrm>
          <a:prstGeom prst="rect">
            <a:avLst/>
          </a:prstGeom>
          <a:ln w="22320">
            <a:solidFill>
              <a:srgbClr val="003366"/>
            </a:solidFill>
            <a:miter/>
          </a:ln>
        </p:spPr>
      </p:pic>
      <p:pic>
        <p:nvPicPr>
          <p:cNvPr id="177" name="Picture 6" descr="Click to get full image of FIRST/PLAN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2286000"/>
            <a:ext cx="2495520" cy="4286160"/>
          </a:xfrm>
          <a:prstGeom prst="rect">
            <a:avLst/>
          </a:prstGeom>
          <a:ln w="22320">
            <a:solidFill>
              <a:srgbClr val="006666"/>
            </a:solidFill>
            <a:miter/>
          </a:ln>
        </p:spPr>
      </p:pic>
      <p:sp>
        <p:nvSpPr>
          <p:cNvPr id="178" name="Rectangle 8"/>
          <p:cNvSpPr/>
          <p:nvPr/>
        </p:nvSpPr>
        <p:spPr>
          <a:xfrm>
            <a:off x="304920" y="6172200"/>
            <a:ext cx="373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393960" y="617220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dsri.dk/planck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10" descr="Spacecraft"/>
          <p:cNvPicPr/>
          <p:nvPr/>
        </p:nvPicPr>
        <p:blipFill>
          <a:blip r:embed="rId4"/>
          <a:stretch/>
        </p:blipFill>
        <p:spPr>
          <a:xfrm>
            <a:off x="3352680" y="1828800"/>
            <a:ext cx="2982960" cy="2779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2"/>
          <p:cNvSpPr/>
          <p:nvPr/>
        </p:nvSpPr>
        <p:spPr>
          <a:xfrm>
            <a:off x="3429000" y="40384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0920" y="1109520"/>
            <a:ext cx="74574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The South Pole Telescope (SPT)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overy</a:t>
            </a:r>
            <a:br>
              <a:rPr sz="36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(domestic use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5" descr="The radio range showing the radar bands L,S,C,X,K (from L to R)."/>
          <p:cNvPicPr/>
          <p:nvPr/>
        </p:nvPicPr>
        <p:blipFill>
          <a:blip r:embed="rId1"/>
          <a:stretch/>
        </p:blipFill>
        <p:spPr>
          <a:xfrm>
            <a:off x="3505320" y="685800"/>
            <a:ext cx="5029200" cy="1150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809880" y="2514600"/>
            <a:ext cx="50292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magnetro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Radar) using microwaves to detect Nazi warplan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8" descr="2003-06-19_Hershey_candy_bar"/>
          <p:cNvPicPr/>
          <p:nvPr/>
        </p:nvPicPr>
        <p:blipFill>
          <a:blip r:embed="rId2"/>
          <a:stretch/>
        </p:blipFill>
        <p:spPr>
          <a:xfrm>
            <a:off x="1371600" y="2514600"/>
            <a:ext cx="2009880" cy="3724200"/>
          </a:xfrm>
          <a:prstGeom prst="rect">
            <a:avLst/>
          </a:prstGeom>
          <a:ln cap="rnd" w="19080">
            <a:solidFill>
              <a:srgbClr val="006666"/>
            </a:solidFill>
            <a:custDash>
              <a:ds d="100000" sp="1000"/>
            </a:custDash>
            <a:miter/>
          </a:ln>
        </p:spPr>
      </p:pic>
      <p:sp>
        <p:nvSpPr>
          <p:cNvPr id="112" name="Text Box 10"/>
          <p:cNvSpPr/>
          <p:nvPr/>
        </p:nvSpPr>
        <p:spPr>
          <a:xfrm>
            <a:off x="1066680" y="624852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The South Pole Telescope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Picture 4" descr="spt-shields"/>
          <p:cNvPicPr/>
          <p:nvPr/>
        </p:nvPicPr>
        <p:blipFill>
          <a:blip r:embed="rId1"/>
          <a:stretch/>
        </p:blipFill>
        <p:spPr>
          <a:xfrm>
            <a:off x="457200" y="2592360"/>
            <a:ext cx="3276720" cy="2513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southpole"/>
          <p:cNvPicPr/>
          <p:nvPr/>
        </p:nvPicPr>
        <p:blipFill>
          <a:blip r:embed="rId2"/>
          <a:stretch/>
        </p:blipFill>
        <p:spPr>
          <a:xfrm>
            <a:off x="3809880" y="2400480"/>
            <a:ext cx="5029200" cy="3776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690120" y="518148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758040" y="6172200"/>
            <a:ext cx="53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Very Small Array (VS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nstruction finished in 1999</a:t>
            </a:r>
            <a:r>
              <a:rPr b="0" lang="en-US" sz="26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now in Tenerife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Picture 4" descr="pics2"/>
          <p:cNvPicPr/>
          <p:nvPr/>
        </p:nvPicPr>
        <p:blipFill>
          <a:blip r:embed="rId1"/>
          <a:stretch/>
        </p:blipFill>
        <p:spPr>
          <a:xfrm>
            <a:off x="1523880" y="3809880"/>
            <a:ext cx="5791320" cy="30481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7315200" y="5105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ry Small Arra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Picture 4" descr="ext-array-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3526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Array top vie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666880"/>
            <a:ext cx="2800080" cy="3733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96" name="Picture 6" descr="vsa_art1"/>
          <p:cNvPicPr/>
          <p:nvPr/>
        </p:nvPicPr>
        <p:blipFill>
          <a:blip r:embed="rId5"/>
          <a:stretch/>
        </p:blipFill>
        <p:spPr>
          <a:xfrm>
            <a:off x="4876920" y="1143000"/>
            <a:ext cx="4267080" cy="2995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04920" y="472356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733920" y="62478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172200" y="4113720"/>
            <a:ext cx="350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archeops.or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cmb.phys.cwru.edu/boomeran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www.astro.caltech.edu/~tjp/CB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Comins &amp; Kaufmann III,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Unicode MS"/>
              </a:rPr>
              <a:t>Discovering the Universe</a:t>
            </a: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; 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aether.lbl.gov/www/projects/cobe/COBE_Home/DMR_Images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map.gsfc.nasa.gov/m_uni/uni_101bbtest3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nacho.princeton.edu/fowler/Talks/Brazosport_2001/slide30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www.ideafinder.com/history/inventions/story068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osmic 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icrowave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ackground</a:t>
            </a: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(CMB)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90720" y="25146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10" descr="Flower-Power-1024"/>
          <p:cNvPicPr/>
          <p:nvPr/>
        </p:nvPicPr>
        <p:blipFill>
          <a:blip r:embed="rId1"/>
          <a:stretch/>
        </p:blipFill>
        <p:spPr>
          <a:xfrm>
            <a:off x="914400" y="2438280"/>
            <a:ext cx="7238880" cy="4241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6" name="Text Box 12"/>
          <p:cNvSpPr/>
          <p:nvPr/>
        </p:nvSpPr>
        <p:spPr>
          <a:xfrm>
            <a:off x="2057400" y="2743200"/>
            <a:ext cx="54864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 Bang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400" y="2361960"/>
            <a:ext cx="6019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5" descr="runaway-universe"/>
          <p:cNvPicPr/>
          <p:nvPr/>
        </p:nvPicPr>
        <p:blipFill>
          <a:blip r:embed="rId1"/>
          <a:stretch/>
        </p:blipFill>
        <p:spPr>
          <a:xfrm>
            <a:off x="5410080" y="4648320"/>
            <a:ext cx="3429000" cy="2008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5334120" y="640080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the CMB tells us about the Univer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gins of the CM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400" y="2590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ef History and COB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25" descr="COBE_26_DMRrec"/>
          <p:cNvPicPr/>
          <p:nvPr/>
        </p:nvPicPr>
        <p:blipFill>
          <a:blip r:embed="rId1">
            <a:lum contrast="24000"/>
          </a:blip>
          <a:srcRect l="10166" t="840" r="6264" b="0"/>
          <a:stretch/>
        </p:blipFill>
        <p:spPr>
          <a:xfrm>
            <a:off x="5562720" y="3352680"/>
            <a:ext cx="3276360" cy="2743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838080" y="2590920"/>
            <a:ext cx="4800600" cy="40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The cosmic microwave background radiation is a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remnant of the Big Bang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and the fluctuations are the imprint of density contrast in the early universe.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B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vember 18, 1989- 199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RBE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Diffuse InfraRed Experim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RAS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Far-InfaRed Absolute Spectrophotome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MR (</a:t>
            </a: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Differential Microwave Radiometer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58672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MR Receiver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Object 29"/>
          <p:cNvGraphicFramePr/>
          <p:nvPr/>
        </p:nvGraphicFramePr>
        <p:xfrm>
          <a:off x="5638680" y="6248520"/>
          <a:ext cx="175284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6248520"/>
                    <a:ext cx="1752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4078E-006 C 0.00226 0.00904 0.00452 0.01831 -0.02187 -0.01089 C -0.04826 -0.04008 -0.15312 -0.12025 -0.15885 -0.17539 C -0.16458 -0.23053 -0.09375 -0.31765 -0.05607 -0.34175 C -0.0184 -0.36584 0.04271 -0.28915 0.06719 -0.31997 C 0.09167 -0.35078 0.11511 -0.48262 0.09046 -0.52641 C 0.0658 -0.5702 -0.05156 -0.59406 -0.08073 -0.58317 C -0.10989 -0.57228 -0.10503 -0.48192 -0.08489 -0.46061 C -0.06475 -0.43929 0.01615 -0.42539 0.03976 -0.45528 C 0.06337 -0.48517 0.03889 -0.58688 0.05625 -0.63994 C 0.07362 -0.693 0.12535 -0.75208 0.14393 -0.7734 C 0.1625 -0.79471 0.16476 -0.78127 0.16719 -0.76784 E">
                                      <p:cBhvr>
                                        <p:cTn id="1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l Microwave Radiome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21"/>
          <p:cNvGraphicFramePr/>
          <p:nvPr/>
        </p:nvGraphicFramePr>
        <p:xfrm>
          <a:off x="762120" y="2895480"/>
          <a:ext cx="22622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22622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8"/>
          <p:cNvSpPr/>
          <p:nvPr/>
        </p:nvSpPr>
        <p:spPr>
          <a:xfrm>
            <a:off x="5715000" y="2514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971800" y="2666880"/>
            <a:ext cx="617220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iformity / Isotropic CMB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o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lack body curve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middl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685800" y="236232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219320" y="35812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728 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114300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353 m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1219320" y="5791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µ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990015b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85800" y="304920"/>
            <a:ext cx="8153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50:09Z</dcterms:created>
  <dc:creator>Lakeside Loaner</dc:creator>
  <dc:description/>
  <dc:language>en-US</dc:language>
  <cp:lastModifiedBy>RomaK</cp:lastModifiedBy>
  <dcterms:modified xsi:type="dcterms:W3CDTF">2015-09-03T12:31:35Z</dcterms:modified>
  <cp:revision>22</cp:revision>
  <dc:subject/>
  <dc:title>Microwave Telescopes</dc:title>
</cp:coreProperties>
</file>