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86A7-617E-485E-8E83-36BC618FEE3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vaneh, Shelby &amp; Marle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vaneh, Shelby &amp; Marlee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lescop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crowaves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, transmitting information,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microwaves used for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mote sensing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pierce through all cloud covering 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are Microwaves used for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e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quality CMB data with unmatched sky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ve results on CMB anisotropy 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bed for data analysis to be used in PLAN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urnal.archeops.org/First_result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cheop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journal.archeops.org/First_results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mer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 29, 1998 – Jan. 9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5 days around antarc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,000 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m primar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sky at 4 frequ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, 150, 240,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1800 square degrees (3% of sk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omera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background Im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 to study CMB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of view – 44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lution – 4.5-10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at fore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background Im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Angular Scal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al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emp and angular power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d over l range of 160-170 or .25-1.15 deg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 includes rotation of aperture plane along line of s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S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mpled over l range of 160-170 or .25-1.15 degre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kinson Microwave Anisotropy 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mm/sg_earlyuni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MA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mage/maxima_ma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meter Anisotropy eXperiment Imaging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rovide precise estimates of cosmological cons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XI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llimeter Anisotropy eXperiment Imaging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n provide precise estimates of cosmological constant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to be finished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the same rocket with Herschel in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sri.dk/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aceflightnow.com/news/n0006/13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dsri.dk/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 (S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8-meter precision submillimeter-wave telesco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Energy will be observed in great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 (SP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mestic u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are for heating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waves 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abers.org/STELLA%20CANDY%20BA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domestic us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sp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aceflightnow.com/news/n0301/29polescop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ry Small Array (V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radio signals received by each anten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finished in 1999 now in Tener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rao.cam.ac.uk/telescopes/vs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Very Small Array (VSA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finished in 1999 now in Tenerif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jb.man.ac.uk/tech/ technology/array-top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rao.cam.ac.uk/ telescopes/vsa/ext-array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pifr-bonn.mpg.de/.../ teleskope/vsa_art1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ery Small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cheops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ins &amp; Kaufmann III, Discovering the Universe;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uni/uni_101bbtest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eafinder.com/history/inventions/story06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rcheops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ins &amp; Kaufmann III, Discovering the Universe; 200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uni/uni_101bbtest3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ideafinder.com/history/inventions/story068.ht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 (CM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Microwave Background (CMB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was once much smaller, hotter, and den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ff of Einstein’s theory of general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 –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uterium, helium, lith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www.internet2.edu/apps/html/archiv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g Bang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 CMB tells us about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ometry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ther the universe will expand or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tter there i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and nature of dark matter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rat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galaxies and galaxy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the CMB tells us about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he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cooled as expanded – became less 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variations affected temp.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 regions = hot spots in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years – cooled enough to for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traveled through – form rel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– 1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igins of the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ef History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November 18, 1989- 199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BE (Diffuse InfraRed Experiment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AS (Far-InfaRed Absolute Spectrophotome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(Differential Microwave Radiometer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Recei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ief History and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 (November 18, 1989- 1993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BE (Diffuse InfraRed Experiment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RAS (Far-InfaRed Absolute Spectrophotometer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(Differential Microwave Radiometers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Receiv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Microwave Radi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ity / Isotropic CMB (to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body curve (midd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Ripples (bott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’s findings at different levels of contra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28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53 m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µ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fferential Microwave Radi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formity / Isotropic CMB (to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lack body curve (middl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728 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353 m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8µ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7BE-3BC4-4111-92F2-029D2E97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6A6-306A-4885-BDBD-618C9C15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360-FB2F-483A-A95C-3D908ED7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D8D-379E-4C56-82DF-123902EF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164F-449F-494D-AE4E-452EE9D2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41F0-708A-4423-B12B-73E3A860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BBFB-2617-4AEB-8364-E6A65FB8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78BA-B699-431E-B625-5FAE577F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81F6-DF59-4C21-B205-8DFF3FBC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B00E-C4B9-4F1E-9B1A-13BCA941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1B29-20A7-4E8B-B4B7-9A7F3B7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934-1974-4342-A976-087A6195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D356-DFB5-4A6C-84C5-7FBA3774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6474-80D9-42C2-94C0-B9BE0E82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CC37-85DF-4A74-981D-F27FECA5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9F4F-F073-4D3D-A76B-35A1F7EF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4E58-7D18-4BD7-B773-8427DC65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D59-385C-4674-8E0C-224455D4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1F2-3830-4313-8949-662F4A6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AB6-8FDE-4D44-BD27-7DA0426B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28A-EE0B-4A30-B360-6E8EB945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F34-B57F-4710-921B-69BDE53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525-C330-4407-9FDB-EF5DBD08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8529-2588-47F0-A850-02256AB2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9E95-C125-4500-827C-39F4180FD4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C1E4-6B36-4148-A372-CE1468BC22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tro.caltech.edu/~tjp/CBI/pictures/cbi-frontview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uchicago.edu/dasi/DasiSunDo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sri.dk/planck/first-l2-27jun97.gif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ao.cam.ac.uk/telescopes/vsa/ext-array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jb.man.ac.uk/tech/technology/array-top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eops.org/" TargetMode="External"/><Relationship Id="rId2" Type="http://schemas.openxmlformats.org/officeDocument/2006/relationships/hyperlink" Target="http://cmb.phys.cwru.edu/boomerang/" TargetMode="External"/><Relationship Id="rId3" Type="http://schemas.openxmlformats.org/officeDocument/2006/relationships/hyperlink" Target="http://www.astro.caltech.edu/~tjp/CB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94920" y="5257440"/>
            <a:ext cx="7162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38c"/>
                </a:solidFill>
                <a:latin typeface="바탕"/>
              </a:rPr>
              <a:t>Parvaneh, Shelby &amp; Marle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572000" y="914400"/>
          <a:ext cx="4191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14400"/>
                    <a:ext cx="4191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812160" y="1269360"/>
            <a:ext cx="3785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8b3f"/>
                </a:solidFill>
                <a:latin typeface="Arial"/>
              </a:rPr>
              <a:t>Microwav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48320" y="12193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724280" y="152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4558"/>
                </a:solidFill>
                <a:latin typeface="Arial"/>
              </a:rPr>
              <a:t>Telescopes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icrowaves used f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4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alt Lake City, Utah"/>
          <p:cNvPicPr/>
          <p:nvPr/>
        </p:nvPicPr>
        <p:blipFill>
          <a:blip r:embed="rId1"/>
          <a:stretch/>
        </p:blipFill>
        <p:spPr>
          <a:xfrm>
            <a:off x="6248520" y="373392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733920" y="5638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4120" y="6324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he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3" descr="nacelle"/>
          <p:cNvPicPr/>
          <p:nvPr/>
        </p:nvPicPr>
        <p:blipFill>
          <a:blip r:embed="rId1"/>
          <a:stretch/>
        </p:blipFill>
        <p:spPr>
          <a:xfrm>
            <a:off x="380880" y="2286000"/>
            <a:ext cx="285768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3244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journal.archeops.org/First_result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mera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track_final"/>
          <p:cNvPicPr/>
          <p:nvPr/>
        </p:nvPicPr>
        <p:blipFill>
          <a:blip r:embed="rId1"/>
          <a:stretch/>
        </p:blipFill>
        <p:spPr>
          <a:xfrm>
            <a:off x="6095880" y="1676520"/>
            <a:ext cx="261468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44956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bi-front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514600"/>
            <a:ext cx="5029200" cy="415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background Ima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464832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578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.caltech.edu/~tjp/CBI/pictures/cbi-frontview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3" descr="DasiSunDog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46864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81480" y="2819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4920" y="266688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04920" y="43434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pled over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ange of 160-170 or .25-1.15 deg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2860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Cosmic Microwave Background Data from WMAP"/>
          <p:cNvPicPr/>
          <p:nvPr/>
        </p:nvPicPr>
        <p:blipFill>
          <a:blip r:embed="rId1"/>
          <a:stretch/>
        </p:blipFill>
        <p:spPr>
          <a:xfrm>
            <a:off x="3809880" y="3809880"/>
            <a:ext cx="4305600" cy="2152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038480" y="6172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3" descr="maxima_map"/>
          <p:cNvPicPr/>
          <p:nvPr/>
        </p:nvPicPr>
        <p:blipFill>
          <a:blip r:embed="rId1"/>
          <a:stretch/>
        </p:blipFill>
        <p:spPr>
          <a:xfrm>
            <a:off x="6095880" y="3657600"/>
            <a:ext cx="274320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172200" y="60958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6019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limet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otropy 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r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provide precise estimates of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mologic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The telescope frame mounted on the test fixture using thermally isolating struts. Image courtesy of and © 2004 Alcatel Space."/>
          <p:cNvPicPr/>
          <p:nvPr/>
        </p:nvPicPr>
        <p:blipFill>
          <a:blip r:embed="rId1"/>
          <a:stretch/>
        </p:blipFill>
        <p:spPr>
          <a:xfrm>
            <a:off x="457200" y="2362320"/>
            <a:ext cx="2892600" cy="388620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pic>
        <p:nvPicPr>
          <p:cNvPr id="177" name="Picture 6" descr="Click to get full image of FIRST/PLAN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0"/>
            <a:ext cx="2495520" cy="4286160"/>
          </a:xfrm>
          <a:prstGeom prst="rect">
            <a:avLst/>
          </a:prstGeom>
          <a:ln w="22320">
            <a:solidFill>
              <a:srgbClr val="006666"/>
            </a:solidFill>
            <a:miter/>
          </a:ln>
        </p:spPr>
      </p:pic>
      <p:sp>
        <p:nvSpPr>
          <p:cNvPr id="178" name="Rectangle 8"/>
          <p:cNvSpPr/>
          <p:nvPr/>
        </p:nvSpPr>
        <p:spPr>
          <a:xfrm>
            <a:off x="304920" y="617220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93960" y="617220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dsri.dk/planck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10" descr="Spacecraft"/>
          <p:cNvPicPr/>
          <p:nvPr/>
        </p:nvPicPr>
        <p:blipFill>
          <a:blip r:embed="rId4"/>
          <a:stretch/>
        </p:blipFill>
        <p:spPr>
          <a:xfrm>
            <a:off x="3352680" y="1828800"/>
            <a:ext cx="2982960" cy="277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3429000" y="40384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0920" y="1109520"/>
            <a:ext cx="74574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e South Pole Telescope (SPT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very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domestic use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The radio range showing the radar bands L,S,C,X,K (from L to R)."/>
          <p:cNvPicPr/>
          <p:nvPr/>
        </p:nvPicPr>
        <p:blipFill>
          <a:blip r:embed="rId1"/>
          <a:stretch/>
        </p:blipFill>
        <p:spPr>
          <a:xfrm>
            <a:off x="3505320" y="685800"/>
            <a:ext cx="5029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9880" y="2514600"/>
            <a:ext cx="5029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magnetr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Radar) using microwaves to detect Nazi warpla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8" descr="2003-06-19_Hershey_candy_bar"/>
          <p:cNvPicPr/>
          <p:nvPr/>
        </p:nvPicPr>
        <p:blipFill>
          <a:blip r:embed="rId2"/>
          <a:stretch/>
        </p:blipFill>
        <p:spPr>
          <a:xfrm>
            <a:off x="1371600" y="2514600"/>
            <a:ext cx="2009880" cy="3724200"/>
          </a:xfrm>
          <a:prstGeom prst="rect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</p:pic>
      <p:sp>
        <p:nvSpPr>
          <p:cNvPr id="112" name="Text Box 10"/>
          <p:cNvSpPr/>
          <p:nvPr/>
        </p:nvSpPr>
        <p:spPr>
          <a:xfrm>
            <a:off x="1066680" y="62485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The South Pole Telescope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4" descr="spt-shields"/>
          <p:cNvPicPr/>
          <p:nvPr/>
        </p:nvPicPr>
        <p:blipFill>
          <a:blip r:embed="rId1"/>
          <a:stretch/>
        </p:blipFill>
        <p:spPr>
          <a:xfrm>
            <a:off x="457200" y="259236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outhpole"/>
          <p:cNvPicPr/>
          <p:nvPr/>
        </p:nvPicPr>
        <p:blipFill>
          <a:blip r:embed="rId2"/>
          <a:stretch/>
        </p:blipFill>
        <p:spPr>
          <a:xfrm>
            <a:off x="3809880" y="2400480"/>
            <a:ext cx="5029200" cy="3776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90120" y="51814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58040" y="617220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Very Small Array (VS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ion finished in 1999</a:t>
            </a:r>
            <a:r>
              <a:rPr b="0" lang="en-US" sz="2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ow in Tenerif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4" descr="pics2"/>
          <p:cNvPicPr/>
          <p:nvPr/>
        </p:nvPicPr>
        <p:blipFill>
          <a:blip r:embed="rId1"/>
          <a:stretch/>
        </p:blipFill>
        <p:spPr>
          <a:xfrm>
            <a:off x="1523880" y="380988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7315200" y="5105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y Small Arra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ext-array-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Array top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666880"/>
            <a:ext cx="2800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96" name="Picture 6" descr="vsa_art1"/>
          <p:cNvPicPr/>
          <p:nvPr/>
        </p:nvPicPr>
        <p:blipFill>
          <a:blip r:embed="rId5"/>
          <a:stretch/>
        </p:blipFill>
        <p:spPr>
          <a:xfrm>
            <a:off x="4876920" y="1143000"/>
            <a:ext cx="4267080" cy="2995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04920" y="472356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33920" y="62478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41137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rcheops.or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cmb.phys.cwru.edu/boomeran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astro.caltech.edu/~tjp/CB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Comins &amp; Kaufmann III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Unicode MS"/>
              </a:rPr>
              <a:t>Discovering the Universe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; 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aether.lbl.gov/www/projects/cobe/COBE_Home/DMR_Images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map.gsfc.nasa.gov/m_uni/uni_101bbtest3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nacho.princeton.edu/fowler/Talks/Brazosport_2001/slide30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www.ideafinder.com/history/inventions/story068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osmic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icrowave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ackground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(CMB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90720" y="2514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0" descr="Flower-Power-1024"/>
          <p:cNvPicPr/>
          <p:nvPr/>
        </p:nvPicPr>
        <p:blipFill>
          <a:blip r:embed="rId1"/>
          <a:stretch/>
        </p:blipFill>
        <p:spPr>
          <a:xfrm>
            <a:off x="914400" y="2438280"/>
            <a:ext cx="7238880" cy="424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2057400" y="2743200"/>
            <a:ext cx="5486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Bang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601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runaway-universe"/>
          <p:cNvPicPr/>
          <p:nvPr/>
        </p:nvPicPr>
        <p:blipFill>
          <a:blip r:embed="rId1"/>
          <a:stretch/>
        </p:blipFill>
        <p:spPr>
          <a:xfrm>
            <a:off x="5410080" y="46483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5334120" y="64008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CMB tells us about the Univer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the CM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ef History and CO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25" descr="COBE_26_DMRrec"/>
          <p:cNvPicPr/>
          <p:nvPr/>
        </p:nvPicPr>
        <p:blipFill>
          <a:blip r:embed="rId1">
            <a:lum contrast="24000"/>
          </a:blip>
          <a:srcRect l="10166" t="840" r="6264" b="0"/>
          <a:stretch/>
        </p:blipFill>
        <p:spPr>
          <a:xfrm>
            <a:off x="5562720" y="335268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838080" y="2590920"/>
            <a:ext cx="480060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he cosmic microwave background radiation is 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mnant of the Big Ban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and the fluctuations are the imprint of density contrast in the early universe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B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vember 18, 1989- 199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BE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iffuse InfraRed Experim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AS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Far-InfaRed Absolute Spectrophotome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MR (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Differential Microwave Radiometer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MR Receiv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Object 29"/>
          <p:cNvGraphicFramePr/>
          <p:nvPr/>
        </p:nvGraphicFramePr>
        <p:xfrm>
          <a:off x="5638680" y="6248520"/>
          <a:ext cx="17528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248520"/>
                    <a:ext cx="1752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078E-006 C 0.00226 0.00904 0.00452 0.01831 -0.02187 -0.01089 C -0.04826 -0.04008 -0.15312 -0.12025 -0.15885 -0.17539 C -0.16458 -0.23053 -0.09375 -0.31765 -0.05607 -0.34175 C -0.0184 -0.36584 0.04271 -0.28915 0.06719 -0.31997 C 0.09167 -0.35078 0.11511 -0.48262 0.09046 -0.52641 C 0.0658 -0.5702 -0.05156 -0.59406 -0.08073 -0.58317 C -0.10989 -0.57228 -0.10503 -0.48192 -0.08489 -0.46061 C -0.06475 -0.43929 0.01615 -0.42539 0.03976 -0.45528 C 0.06337 -0.48517 0.03889 -0.58688 0.05625 -0.63994 C 0.07362 -0.693 0.12535 -0.75208 0.14393 -0.7734 C 0.1625 -0.79471 0.16476 -0.78127 0.16719 -0.76784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l Microwave Radiome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762120" y="2895480"/>
          <a:ext cx="2262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26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715000" y="2514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971800" y="2666880"/>
            <a:ext cx="6172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/ Isotropic CMB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lack body curve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5800" y="23623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2193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28 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14300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353 m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21932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µ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90015b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30492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50:09Z</dcterms:created>
  <dc:creator>Lakeside Loaner</dc:creator>
  <dc:description/>
  <dc:language>en-US</dc:language>
  <cp:lastModifiedBy>RomaK</cp:lastModifiedBy>
  <dcterms:modified xsi:type="dcterms:W3CDTF">2015-09-03T12:31:35Z</dcterms:modified>
  <cp:revision>22</cp:revision>
  <dc:subject/>
  <dc:title>Microwave Telescopes</dc:title>
</cp:coreProperties>
</file>