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3BE0-1EA1-4673-9825-39BADA30A8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 I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can be calculated using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cals or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 In soli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can be calculated using the following equa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cals or N/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In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In liquid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make things turn or rotate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used by forces but are not forces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 will be bigger i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causing the turning effect is big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is further from the piv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make things turn or rotate. 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y are caused by forces but are not forces themselve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moment will be bigger if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causing the turning effect is bigger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is further from the piv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 = Force x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 = Force x Dista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clockwise Moment = Clockwise Mo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moment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ti-clockwise Moment = Clockwise Mo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ALANC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t moment is zer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6A7-F8B1-465B-815E-92243A8A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A3B-0C59-4700-85C0-548BACE5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2A6-9A98-4F5D-B34A-557BBBC2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74A-0C2C-4439-ACA6-8D40F3B3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3F48-0B9A-4E5F-A92C-EE16A3F5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4450-9A4A-4790-A113-E5E9498C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3F2F-F6A2-4FB0-9E99-544F77D5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676E-661A-443A-95F5-1E27FA20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1A0D-93B9-44CD-AA09-832770EF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6FE9-ABA4-4400-BD35-5B7FCA51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EA40-9FDE-4D5A-9655-4D49BA83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A73-4C18-4194-9BDE-5FB92AB4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E2D5-5131-4788-B580-D2A0795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0CBB-7AB9-4BDC-B807-23DA5972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2DD8-116F-481F-BEA4-73277B7A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B100-3580-4CEC-90AE-480B84AF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381D-FC22-43C2-9134-08EEF5A3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BE0-3256-4336-8B44-E21C9BD1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1A4-36C4-441B-AEB4-A7AB7789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550-FBC6-4972-AAC7-5E213CC8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BF4-A506-4860-B409-FE77D481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FFA-6094-4C41-89E0-2E2D2E18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EF5-A29B-4ABE-96B5-0EF2638A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2B5-EE22-4BF3-ACBD-790BE2BC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2678-D65E-4002-9F04-C63A435D0AC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F2E3-37D0-4764-8E5C-4DEA037A4BC7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7"/>
          <p:cNvSpPr/>
          <p:nvPr/>
        </p:nvSpPr>
        <p:spPr>
          <a:xfrm>
            <a:off x="179280" y="189000"/>
            <a:ext cx="439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Pressur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and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Mo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http://www.s-cool.co.uk/g-/phy-/forces-/g-phy-forces-rs_files/image00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3068640"/>
            <a:ext cx="4589280" cy="1425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59" name="Rectangle 5"/>
          <p:cNvSpPr/>
          <p:nvPr/>
        </p:nvSpPr>
        <p:spPr>
          <a:xfrm>
            <a:off x="900000" y="473400"/>
            <a:ext cx="5194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Pressure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-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 soli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Verdana"/>
                <a:ea typeface="Times New Roman"/>
              </a:rPr>
              <a:t>If a force is applied over a smaller surface area you get a larger pressur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Pressure can be calculated using the following equatio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580000" y="31417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021800" y="3068640"/>
            <a:ext cx="14500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AutoShape 8"/>
          <p:cNvSpPr/>
          <p:nvPr/>
        </p:nvSpPr>
        <p:spPr>
          <a:xfrm rot="5400000">
            <a:off x="4249440" y="46879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AutoShape 9"/>
          <p:cNvSpPr/>
          <p:nvPr/>
        </p:nvSpPr>
        <p:spPr>
          <a:xfrm rot="7363800">
            <a:off x="312840" y="4600800"/>
            <a:ext cx="2303280" cy="925200"/>
          </a:xfrm>
          <a:custGeom>
            <a:avLst/>
            <a:gdLst>
              <a:gd name="textAreaLeft" fmla="*/ 359640 w 2303280"/>
              <a:gd name="textAreaRight" fmla="*/ 2015640 w 2303280"/>
              <a:gd name="textAreaTop" fmla="*/ 231120 h 925200"/>
              <a:gd name="textAreaBottom" fmla="*/ 694080 h 92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9560" y="6165720"/>
            <a:ext cx="24652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cals or N/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509000" y="5805360"/>
            <a:ext cx="5511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-1260360" y="1628640"/>
          <a:ext cx="9504360" cy="2670480"/>
        </p:xfrm>
        <a:graphic>
          <a:graphicData uri="http://schemas.openxmlformats.org/drawingml/2006/table">
            <a:tbl>
              <a:tblPr/>
              <a:tblGrid>
                <a:gridCol w="1346040"/>
                <a:gridCol w="815832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ncreases     with depth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 acts</a:t>
                      </a:r>
                      <a:r>
                        <a:rPr b="1" lang="en-GB" sz="2400" spc="-1" strike="noStrike">
                          <a:solidFill>
                            <a:srgbClr val="808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equally in all direction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s transmitted through liquid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 Black"/>
              </a:rPr>
              <a:t>Pressure</a:t>
            </a: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 - In liquids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3780000" y="1844640"/>
            <a:ext cx="50472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AutoShape 20"/>
          <p:cNvSpPr/>
          <p:nvPr/>
        </p:nvSpPr>
        <p:spPr>
          <a:xfrm>
            <a:off x="6227640" y="1916280"/>
            <a:ext cx="486000" cy="502920"/>
          </a:xfrm>
          <a:prstGeom prst="downArrow">
            <a:avLst>
              <a:gd name="adj1" fmla="val 50000"/>
              <a:gd name="adj2" fmla="val 2587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AutoShape 21"/>
          <p:cNvSpPr/>
          <p:nvPr/>
        </p:nvSpPr>
        <p:spPr>
          <a:xfrm>
            <a:off x="7164360" y="2492280"/>
            <a:ext cx="1224000" cy="1079640"/>
          </a:xfrm>
          <a:custGeom>
            <a:avLst/>
            <a:gdLst>
              <a:gd name="textAreaLeft" fmla="*/ 122400 w 1224000"/>
              <a:gd name="textAreaRight" fmla="*/ 1101600 w 1224000"/>
              <a:gd name="textAreaTop" fmla="*/ 432000 h 1079640"/>
              <a:gd name="textAreaBottom" fmla="*/ 648000 h 107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22" descr="brake hydraulic"/>
          <p:cNvPicPr/>
          <p:nvPr/>
        </p:nvPicPr>
        <p:blipFill>
          <a:blip r:embed="rId4"/>
          <a:stretch/>
        </p:blipFill>
        <p:spPr>
          <a:xfrm>
            <a:off x="900000" y="4653000"/>
            <a:ext cx="3384720" cy="17287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 flipV="1" rot="10800000">
            <a:off x="4640400" y="4648680"/>
            <a:ext cx="4179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hydraulics systems work because the pressure is the same throughout the syst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-181080" y="-490680"/>
            <a:ext cx="93250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Moment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Moments make things turn or rotate. 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used</a:t>
            </a:r>
            <a:r>
              <a:rPr b="1" lang="en-GB" sz="2800" spc="-1" strike="noStrike">
                <a:solidFill>
                  <a:srgbClr val="ff8b1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by forces but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 forces themselv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539640" y="4149720"/>
            <a:ext cx="81360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he moment will be bigger if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causing the turning effect is bigg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is further from the pivo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5110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Black"/>
              </a:rPr>
              <a:t>Calculating the size of a moment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3284640"/>
            <a:ext cx="6337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Moment = Force x Dis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987640" y="5445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093080" y="551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Line 8"/>
          <p:cNvSpPr/>
          <p:nvPr/>
        </p:nvSpPr>
        <p:spPr>
          <a:xfrm flipH="1" flipV="1">
            <a:off x="6372360" y="4149360"/>
            <a:ext cx="720720" cy="100980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50920" y="5950080"/>
            <a:ext cx="1800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Black"/>
              </a:rPr>
              <a:t>N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971640" y="4149360"/>
            <a:ext cx="145800" cy="115236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Line 11"/>
          <p:cNvSpPr/>
          <p:nvPr/>
        </p:nvSpPr>
        <p:spPr>
          <a:xfrm flipH="1" flipV="1">
            <a:off x="3708000" y="4149360"/>
            <a:ext cx="144360" cy="108108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sci_dia_90"/>
          <p:cNvPicPr/>
          <p:nvPr/>
        </p:nvPicPr>
        <p:blipFill>
          <a:blip r:embed="rId1"/>
          <a:stretch/>
        </p:blipFill>
        <p:spPr>
          <a:xfrm>
            <a:off x="179280" y="2276640"/>
            <a:ext cx="8569440" cy="34160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0" y="595008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Anti-clockwise Moment = Clockwise Mo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684360" y="836640"/>
            <a:ext cx="46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BALANC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Net moment is ze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2:46:28Z</dcterms:created>
  <dc:creator>HP Authorized Customer</dc:creator>
  <dc:description/>
  <dc:language>en-US</dc:language>
  <cp:lastModifiedBy>RomaK</cp:lastModifiedBy>
  <dcterms:modified xsi:type="dcterms:W3CDTF">2015-09-03T12:35:53Z</dcterms:modified>
  <cp:revision>13</cp:revision>
  <dc:subject/>
  <dc:title>Slide 1</dc:title>
</cp:coreProperties>
</file>