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DA33-86F9-4F6C-B99C-31A02DEC57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that pressure depends on both force and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 calculate the pressure under any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that pressure depends on both force and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 calculate the pressure under any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the bigger mass will sink fur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a bigger area will stop the mass s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the bigger mass will sink fur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a bigger area will stop the mass s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is the amount of force applied to a known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alculate it using the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= Force (N) / Area (m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reduce pressure by reducing the size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r increasing the size of the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is the amount of force applied to a known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alculate it using the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= Force (N) / Area (m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reduce pressure by reducing the size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r increasing the size of the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AFEA-4BB1-497A-B43A-782462D6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F546-B7E9-4B7E-89ED-C3666B0B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A595-5FCC-4E09-B1DE-70BC1392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BCB9-32AD-4615-98E8-A3E2E33E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E63E-B1FA-4A48-A8D4-4458C2A8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5499-4D23-4D84-8E79-85EE1536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BECC-41D0-4995-8E3B-C662C5A5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DD2E-F26A-4D68-9E55-C9F0F029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B90B-59B4-45E1-A871-32F9D0A5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516E-8AE5-413F-9113-3CA4342B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0720-F671-4C1C-878B-4DF44123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1272-EDC4-4A25-8554-DB04F1BF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7f77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ECFA-5687-423E-87B6-BC2FBD4DD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3205080" y="549360"/>
            <a:ext cx="33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206064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900000" y="2997360"/>
            <a:ext cx="6767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that pressure depends on both force and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can calculate the pressure under any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5581800" y="566640"/>
            <a:ext cx="2735280" cy="205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1042920" y="4221000"/>
            <a:ext cx="3024360" cy="20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5126040" y="4422600"/>
            <a:ext cx="3262320" cy="1743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4"/>
          <a:stretch/>
        </p:blipFill>
        <p:spPr>
          <a:xfrm>
            <a:off x="684360" y="549360"/>
            <a:ext cx="33336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203640" y="3429000"/>
            <a:ext cx="309708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3635280" y="2565360"/>
            <a:ext cx="2089080" cy="1152720"/>
            <a:chOff x="3635280" y="2565360"/>
            <a:chExt cx="2089080" cy="1152720"/>
          </a:xfrm>
        </p:grpSpPr>
        <p:sp>
          <p:nvSpPr>
            <p:cNvPr id="57" name="Rectangle 5"/>
            <p:cNvSpPr/>
            <p:nvPr/>
          </p:nvSpPr>
          <p:spPr>
            <a:xfrm>
              <a:off x="4498920" y="2781360"/>
              <a:ext cx="360360" cy="93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3635280" y="2565360"/>
              <a:ext cx="2089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Freeform 8"/>
          <p:cNvSpPr/>
          <p:nvPr/>
        </p:nvSpPr>
        <p:spPr>
          <a:xfrm>
            <a:off x="3200400" y="3967200"/>
            <a:ext cx="3094200" cy="299880"/>
          </a:xfrm>
          <a:custGeom>
            <a:avLst/>
            <a:gdLst/>
            <a:ahLst/>
            <a:rect l="l" t="t" r="r" b="b"/>
            <a:pathLst>
              <a:path w="1949" h="189">
                <a:moveTo>
                  <a:pt x="0" y="112"/>
                </a:moveTo>
                <a:cubicBezTo>
                  <a:pt x="13" y="109"/>
                  <a:pt x="26" y="109"/>
                  <a:pt x="38" y="103"/>
                </a:cubicBezTo>
                <a:cubicBezTo>
                  <a:pt x="66" y="89"/>
                  <a:pt x="53" y="74"/>
                  <a:pt x="77" y="55"/>
                </a:cubicBezTo>
                <a:cubicBezTo>
                  <a:pt x="85" y="49"/>
                  <a:pt x="96" y="48"/>
                  <a:pt x="106" y="45"/>
                </a:cubicBezTo>
                <a:cubicBezTo>
                  <a:pt x="122" y="48"/>
                  <a:pt x="140" y="46"/>
                  <a:pt x="154" y="55"/>
                </a:cubicBezTo>
                <a:cubicBezTo>
                  <a:pt x="162" y="60"/>
                  <a:pt x="156" y="76"/>
                  <a:pt x="163" y="83"/>
                </a:cubicBezTo>
                <a:cubicBezTo>
                  <a:pt x="170" y="90"/>
                  <a:pt x="182" y="90"/>
                  <a:pt x="192" y="93"/>
                </a:cubicBezTo>
                <a:cubicBezTo>
                  <a:pt x="299" y="86"/>
                  <a:pt x="349" y="77"/>
                  <a:pt x="442" y="55"/>
                </a:cubicBezTo>
                <a:cubicBezTo>
                  <a:pt x="507" y="65"/>
                  <a:pt x="529" y="83"/>
                  <a:pt x="586" y="103"/>
                </a:cubicBezTo>
                <a:cubicBezTo>
                  <a:pt x="684" y="86"/>
                  <a:pt x="762" y="109"/>
                  <a:pt x="854" y="131"/>
                </a:cubicBezTo>
                <a:cubicBezTo>
                  <a:pt x="966" y="118"/>
                  <a:pt x="908" y="133"/>
                  <a:pt x="970" y="74"/>
                </a:cubicBezTo>
                <a:cubicBezTo>
                  <a:pt x="1006" y="0"/>
                  <a:pt x="1020" y="11"/>
                  <a:pt x="1094" y="35"/>
                </a:cubicBezTo>
                <a:cubicBezTo>
                  <a:pt x="1126" y="67"/>
                  <a:pt x="1107" y="77"/>
                  <a:pt x="1152" y="93"/>
                </a:cubicBezTo>
                <a:cubicBezTo>
                  <a:pt x="1181" y="137"/>
                  <a:pt x="1189" y="126"/>
                  <a:pt x="1238" y="141"/>
                </a:cubicBezTo>
                <a:cubicBezTo>
                  <a:pt x="1257" y="147"/>
                  <a:pt x="1296" y="160"/>
                  <a:pt x="1296" y="160"/>
                </a:cubicBezTo>
                <a:cubicBezTo>
                  <a:pt x="1309" y="154"/>
                  <a:pt x="1324" y="151"/>
                  <a:pt x="1334" y="141"/>
                </a:cubicBezTo>
                <a:cubicBezTo>
                  <a:pt x="1350" y="125"/>
                  <a:pt x="1373" y="83"/>
                  <a:pt x="1373" y="83"/>
                </a:cubicBezTo>
                <a:cubicBezTo>
                  <a:pt x="1430" y="90"/>
                  <a:pt x="1473" y="95"/>
                  <a:pt x="1526" y="112"/>
                </a:cubicBezTo>
                <a:cubicBezTo>
                  <a:pt x="1539" y="125"/>
                  <a:pt x="1550" y="140"/>
                  <a:pt x="1565" y="151"/>
                </a:cubicBezTo>
                <a:cubicBezTo>
                  <a:pt x="1583" y="165"/>
                  <a:pt x="1622" y="189"/>
                  <a:pt x="1622" y="189"/>
                </a:cubicBezTo>
                <a:cubicBezTo>
                  <a:pt x="1629" y="183"/>
                  <a:pt x="1640" y="179"/>
                  <a:pt x="1642" y="170"/>
                </a:cubicBezTo>
                <a:cubicBezTo>
                  <a:pt x="1644" y="160"/>
                  <a:pt x="1626" y="149"/>
                  <a:pt x="1632" y="141"/>
                </a:cubicBezTo>
                <a:cubicBezTo>
                  <a:pt x="1671" y="86"/>
                  <a:pt x="1752" y="98"/>
                  <a:pt x="1805" y="93"/>
                </a:cubicBezTo>
                <a:cubicBezTo>
                  <a:pt x="1834" y="112"/>
                  <a:pt x="1858" y="121"/>
                  <a:pt x="1891" y="131"/>
                </a:cubicBezTo>
                <a:cubicBezTo>
                  <a:pt x="1897" y="122"/>
                  <a:pt x="1899" y="107"/>
                  <a:pt x="1910" y="103"/>
                </a:cubicBezTo>
                <a:cubicBezTo>
                  <a:pt x="1923" y="99"/>
                  <a:pt x="1949" y="112"/>
                  <a:pt x="1949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427640" y="508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3995640" y="2133720"/>
            <a:ext cx="144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4356000" y="213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2"/>
          <p:cNvGrpSpPr/>
          <p:nvPr/>
        </p:nvGrpSpPr>
        <p:grpSpPr>
          <a:xfrm>
            <a:off x="7047000" y="5270040"/>
            <a:ext cx="790560" cy="1065600"/>
            <a:chOff x="7047000" y="5270040"/>
            <a:chExt cx="790560" cy="1065600"/>
          </a:xfrm>
        </p:grpSpPr>
        <p:sp>
          <p:nvSpPr>
            <p:cNvPr id="64" name="Oval 12"/>
            <p:cNvSpPr/>
            <p:nvPr/>
          </p:nvSpPr>
          <p:spPr>
            <a:xfrm>
              <a:off x="7047000" y="5398920"/>
              <a:ext cx="790560" cy="93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3"/>
            <p:cNvSpPr/>
            <p:nvPr/>
          </p:nvSpPr>
          <p:spPr>
            <a:xfrm>
              <a:off x="7263000" y="5688000"/>
              <a:ext cx="1425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14"/>
            <p:cNvSpPr/>
            <p:nvPr/>
          </p:nvSpPr>
          <p:spPr>
            <a:xfrm>
              <a:off x="7478640" y="5688000"/>
              <a:ext cx="142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5"/>
            <p:cNvSpPr/>
            <p:nvPr/>
          </p:nvSpPr>
          <p:spPr>
            <a:xfrm flipH="1">
              <a:off x="7375680" y="5790960"/>
              <a:ext cx="71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6"/>
            <p:cNvSpPr/>
            <p:nvPr/>
          </p:nvSpPr>
          <p:spPr>
            <a:xfrm flipH="1">
              <a:off x="7369200" y="5911560"/>
              <a:ext cx="1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7"/>
            <p:cNvSpPr/>
            <p:nvPr/>
          </p:nvSpPr>
          <p:spPr>
            <a:xfrm>
              <a:off x="7280280" y="6032520"/>
              <a:ext cx="243000" cy="9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8"/>
            <p:cNvSpPr/>
            <p:nvPr/>
          </p:nvSpPr>
          <p:spPr>
            <a:xfrm flipH="1" flipV="1">
              <a:off x="7324920" y="5319360"/>
              <a:ext cx="6192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9"/>
            <p:cNvSpPr/>
            <p:nvPr/>
          </p:nvSpPr>
          <p:spPr>
            <a:xfrm flipV="1">
              <a:off x="7493040" y="5270040"/>
              <a:ext cx="1224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0"/>
            <p:cNvSpPr/>
            <p:nvPr/>
          </p:nvSpPr>
          <p:spPr>
            <a:xfrm flipV="1">
              <a:off x="7432560" y="5287680"/>
              <a:ext cx="10800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1"/>
            <p:cNvSpPr/>
            <p:nvPr/>
          </p:nvSpPr>
          <p:spPr>
            <a:xfrm flipH="1" flipV="1">
              <a:off x="7413480" y="5281200"/>
              <a:ext cx="29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23"/>
          <p:cNvGrpSpPr/>
          <p:nvPr/>
        </p:nvGrpSpPr>
        <p:grpSpPr>
          <a:xfrm>
            <a:off x="577800" y="4968360"/>
            <a:ext cx="790560" cy="1065600"/>
            <a:chOff x="577800" y="4968360"/>
            <a:chExt cx="790560" cy="1065600"/>
          </a:xfrm>
        </p:grpSpPr>
        <p:sp>
          <p:nvSpPr>
            <p:cNvPr id="75" name="Oval 24"/>
            <p:cNvSpPr/>
            <p:nvPr/>
          </p:nvSpPr>
          <p:spPr>
            <a:xfrm>
              <a:off x="577800" y="5097240"/>
              <a:ext cx="790560" cy="93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25"/>
            <p:cNvSpPr/>
            <p:nvPr/>
          </p:nvSpPr>
          <p:spPr>
            <a:xfrm>
              <a:off x="793800" y="5386320"/>
              <a:ext cx="1425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6"/>
            <p:cNvSpPr/>
            <p:nvPr/>
          </p:nvSpPr>
          <p:spPr>
            <a:xfrm>
              <a:off x="1009440" y="5386320"/>
              <a:ext cx="142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7"/>
            <p:cNvSpPr/>
            <p:nvPr/>
          </p:nvSpPr>
          <p:spPr>
            <a:xfrm flipH="1">
              <a:off x="906480" y="5489280"/>
              <a:ext cx="71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8"/>
            <p:cNvSpPr/>
            <p:nvPr/>
          </p:nvSpPr>
          <p:spPr>
            <a:xfrm flipH="1">
              <a:off x="900000" y="5609880"/>
              <a:ext cx="1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29"/>
            <p:cNvSpPr/>
            <p:nvPr/>
          </p:nvSpPr>
          <p:spPr>
            <a:xfrm>
              <a:off x="811080" y="5730840"/>
              <a:ext cx="243000" cy="9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0"/>
            <p:cNvSpPr/>
            <p:nvPr/>
          </p:nvSpPr>
          <p:spPr>
            <a:xfrm flipH="1" flipV="1">
              <a:off x="855720" y="5017680"/>
              <a:ext cx="6192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1"/>
            <p:cNvSpPr/>
            <p:nvPr/>
          </p:nvSpPr>
          <p:spPr>
            <a:xfrm flipV="1">
              <a:off x="1023840" y="4968360"/>
              <a:ext cx="1224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2"/>
            <p:cNvSpPr/>
            <p:nvPr/>
          </p:nvSpPr>
          <p:spPr>
            <a:xfrm flipV="1">
              <a:off x="963360" y="4986000"/>
              <a:ext cx="10800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3"/>
            <p:cNvSpPr/>
            <p:nvPr/>
          </p:nvSpPr>
          <p:spPr>
            <a:xfrm flipH="1" flipV="1">
              <a:off x="944280" y="4979520"/>
              <a:ext cx="29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AutoShape 34"/>
          <p:cNvSpPr/>
          <p:nvPr/>
        </p:nvSpPr>
        <p:spPr>
          <a:xfrm>
            <a:off x="1082520" y="3029040"/>
            <a:ext cx="1722600" cy="1873080"/>
          </a:xfrm>
          <a:prstGeom prst="cloudCallout">
            <a:avLst>
              <a:gd name="adj1" fmla="val -43731"/>
              <a:gd name="adj2" fmla="val 57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 think the bigger mass will sink 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5"/>
          <p:cNvSpPr/>
          <p:nvPr/>
        </p:nvSpPr>
        <p:spPr>
          <a:xfrm>
            <a:off x="7147080" y="3429000"/>
            <a:ext cx="1996920" cy="1492200"/>
          </a:xfrm>
          <a:prstGeom prst="cloudCallout">
            <a:avLst>
              <a:gd name="adj1" fmla="val -18361"/>
              <a:gd name="adj2" fmla="val 88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 think a bigger area will stop the mass s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6"/>
          <p:cNvSpPr/>
          <p:nvPr/>
        </p:nvSpPr>
        <p:spPr>
          <a:xfrm>
            <a:off x="1697040" y="351000"/>
            <a:ext cx="568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essure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sure is the amount of force applied to a known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calculate it using the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sure = Force (N) / Area (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538200" y="4449600"/>
            <a:ext cx="806292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reduce pressure by reducing the size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r increasing the size of the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9:07:51Z</dcterms:created>
  <dc:creator>Duncan Harvie</dc:creator>
  <dc:description/>
  <dc:language>en-US</dc:language>
  <cp:lastModifiedBy>RomaK</cp:lastModifiedBy>
  <dcterms:modified xsi:type="dcterms:W3CDTF">2015-09-03T12:36:01Z</dcterms:modified>
  <cp:revision>6</cp:revision>
  <dc:subject/>
  <dc:title>Slide 1</dc:title>
</cp:coreProperties>
</file>