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3B2E-299A-422F-AE33-0615E9BD78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B4E-EFFB-47D6-ABF9-C31C3C7C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A8B-FBA2-4EF7-926B-76582FD7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7CE-78F2-4475-AE52-83F1B962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814-7EF3-4F6E-A9F7-C9E4E41D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78F-21E5-48CB-A75C-500E4329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1B5-5E88-4DCE-B522-3CA5C207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F80-14DD-4F21-AA64-63652D1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EFC-5D6D-43A8-B8FB-73AEB852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27A-1B6D-423F-A212-527C9D84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723-4D15-4080-B8D5-C8625110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3F3-A494-4059-9C27-0CEE6CED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158-872F-4D0E-B091-E39DD5D3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7f7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2117-7CB5-4EEA-941C-E7B2EF07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205080" y="54936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2060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997360"/>
            <a:ext cx="6767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581800" y="56664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302436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5126040" y="4422600"/>
            <a:ext cx="326232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3333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203640" y="3429000"/>
            <a:ext cx="309708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635280" y="2565360"/>
            <a:ext cx="2089080" cy="1152720"/>
            <a:chOff x="3635280" y="2565360"/>
            <a:chExt cx="2089080" cy="1152720"/>
          </a:xfrm>
        </p:grpSpPr>
        <p:sp>
          <p:nvSpPr>
            <p:cNvPr id="57" name="Rectangle 5"/>
            <p:cNvSpPr/>
            <p:nvPr/>
          </p:nvSpPr>
          <p:spPr>
            <a:xfrm>
              <a:off x="4498920" y="2781360"/>
              <a:ext cx="36036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635280" y="2565360"/>
              <a:ext cx="2089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8"/>
          <p:cNvSpPr/>
          <p:nvPr/>
        </p:nvSpPr>
        <p:spPr>
          <a:xfrm>
            <a:off x="3200400" y="3967200"/>
            <a:ext cx="3094200" cy="299880"/>
          </a:xfrm>
          <a:custGeom>
            <a:avLst/>
            <a:gdLst/>
            <a:ahLst/>
            <a:rect l="l" t="t" r="r" b="b"/>
            <a:pathLst>
              <a:path w="1949" h="189">
                <a:moveTo>
                  <a:pt x="0" y="112"/>
                </a:moveTo>
                <a:cubicBezTo>
                  <a:pt x="13" y="109"/>
                  <a:pt x="26" y="109"/>
                  <a:pt x="38" y="103"/>
                </a:cubicBezTo>
                <a:cubicBezTo>
                  <a:pt x="66" y="89"/>
                  <a:pt x="53" y="74"/>
                  <a:pt x="77" y="55"/>
                </a:cubicBezTo>
                <a:cubicBezTo>
                  <a:pt x="85" y="49"/>
                  <a:pt x="96" y="48"/>
                  <a:pt x="106" y="45"/>
                </a:cubicBezTo>
                <a:cubicBezTo>
                  <a:pt x="122" y="48"/>
                  <a:pt x="140" y="46"/>
                  <a:pt x="154" y="55"/>
                </a:cubicBezTo>
                <a:cubicBezTo>
                  <a:pt x="162" y="60"/>
                  <a:pt x="156" y="76"/>
                  <a:pt x="163" y="83"/>
                </a:cubicBezTo>
                <a:cubicBezTo>
                  <a:pt x="170" y="90"/>
                  <a:pt x="182" y="90"/>
                  <a:pt x="192" y="93"/>
                </a:cubicBezTo>
                <a:cubicBezTo>
                  <a:pt x="299" y="86"/>
                  <a:pt x="349" y="77"/>
                  <a:pt x="442" y="55"/>
                </a:cubicBezTo>
                <a:cubicBezTo>
                  <a:pt x="507" y="65"/>
                  <a:pt x="529" y="83"/>
                  <a:pt x="586" y="103"/>
                </a:cubicBezTo>
                <a:cubicBezTo>
                  <a:pt x="684" y="86"/>
                  <a:pt x="762" y="109"/>
                  <a:pt x="854" y="131"/>
                </a:cubicBezTo>
                <a:cubicBezTo>
                  <a:pt x="966" y="118"/>
                  <a:pt x="908" y="133"/>
                  <a:pt x="970" y="74"/>
                </a:cubicBezTo>
                <a:cubicBezTo>
                  <a:pt x="1006" y="0"/>
                  <a:pt x="1020" y="11"/>
                  <a:pt x="1094" y="35"/>
                </a:cubicBezTo>
                <a:cubicBezTo>
                  <a:pt x="1126" y="67"/>
                  <a:pt x="1107" y="77"/>
                  <a:pt x="1152" y="93"/>
                </a:cubicBezTo>
                <a:cubicBezTo>
                  <a:pt x="1181" y="137"/>
                  <a:pt x="1189" y="126"/>
                  <a:pt x="1238" y="141"/>
                </a:cubicBezTo>
                <a:cubicBezTo>
                  <a:pt x="1257" y="147"/>
                  <a:pt x="1296" y="160"/>
                  <a:pt x="1296" y="160"/>
                </a:cubicBezTo>
                <a:cubicBezTo>
                  <a:pt x="1309" y="154"/>
                  <a:pt x="1324" y="151"/>
                  <a:pt x="1334" y="141"/>
                </a:cubicBezTo>
                <a:cubicBezTo>
                  <a:pt x="1350" y="125"/>
                  <a:pt x="1373" y="83"/>
                  <a:pt x="1373" y="83"/>
                </a:cubicBezTo>
                <a:cubicBezTo>
                  <a:pt x="1430" y="90"/>
                  <a:pt x="1473" y="95"/>
                  <a:pt x="1526" y="112"/>
                </a:cubicBezTo>
                <a:cubicBezTo>
                  <a:pt x="1539" y="125"/>
                  <a:pt x="1550" y="140"/>
                  <a:pt x="1565" y="151"/>
                </a:cubicBezTo>
                <a:cubicBezTo>
                  <a:pt x="1583" y="165"/>
                  <a:pt x="1622" y="189"/>
                  <a:pt x="1622" y="189"/>
                </a:cubicBezTo>
                <a:cubicBezTo>
                  <a:pt x="1629" y="183"/>
                  <a:pt x="1640" y="179"/>
                  <a:pt x="1642" y="170"/>
                </a:cubicBezTo>
                <a:cubicBezTo>
                  <a:pt x="1644" y="160"/>
                  <a:pt x="1626" y="149"/>
                  <a:pt x="1632" y="141"/>
                </a:cubicBezTo>
                <a:cubicBezTo>
                  <a:pt x="1671" y="86"/>
                  <a:pt x="1752" y="98"/>
                  <a:pt x="1805" y="93"/>
                </a:cubicBezTo>
                <a:cubicBezTo>
                  <a:pt x="1834" y="112"/>
                  <a:pt x="1858" y="121"/>
                  <a:pt x="1891" y="131"/>
                </a:cubicBezTo>
                <a:cubicBezTo>
                  <a:pt x="1897" y="122"/>
                  <a:pt x="1899" y="107"/>
                  <a:pt x="1910" y="103"/>
                </a:cubicBezTo>
                <a:cubicBezTo>
                  <a:pt x="1923" y="99"/>
                  <a:pt x="1949" y="112"/>
                  <a:pt x="1949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2764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995640" y="2133720"/>
            <a:ext cx="144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35600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7047000" y="5270040"/>
            <a:ext cx="790560" cy="1065600"/>
            <a:chOff x="7047000" y="5270040"/>
            <a:chExt cx="790560" cy="1065600"/>
          </a:xfrm>
        </p:grpSpPr>
        <p:sp>
          <p:nvSpPr>
            <p:cNvPr id="64" name="Oval 12"/>
            <p:cNvSpPr/>
            <p:nvPr/>
          </p:nvSpPr>
          <p:spPr>
            <a:xfrm>
              <a:off x="7047000" y="539892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7263000" y="568800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7478640" y="5688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H="1">
              <a:off x="7375680" y="579096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H="1">
              <a:off x="7369200" y="591156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7280280" y="603252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H="1" flipV="1">
              <a:off x="7324920" y="531936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 flipV="1">
              <a:off x="7493040" y="527004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 flipV="1">
              <a:off x="7432560" y="528768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 flipH="1" flipV="1">
              <a:off x="7413480" y="528120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577800" y="4968360"/>
            <a:ext cx="790560" cy="1065600"/>
            <a:chOff x="577800" y="4968360"/>
            <a:chExt cx="790560" cy="1065600"/>
          </a:xfrm>
        </p:grpSpPr>
        <p:sp>
          <p:nvSpPr>
            <p:cNvPr id="75" name="Oval 24"/>
            <p:cNvSpPr/>
            <p:nvPr/>
          </p:nvSpPr>
          <p:spPr>
            <a:xfrm>
              <a:off x="577800" y="509724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5"/>
            <p:cNvSpPr/>
            <p:nvPr/>
          </p:nvSpPr>
          <p:spPr>
            <a:xfrm>
              <a:off x="793800" y="538632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1009440" y="538632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H="1">
              <a:off x="906480" y="548928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8"/>
            <p:cNvSpPr/>
            <p:nvPr/>
          </p:nvSpPr>
          <p:spPr>
            <a:xfrm flipH="1">
              <a:off x="900000" y="560988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9"/>
            <p:cNvSpPr/>
            <p:nvPr/>
          </p:nvSpPr>
          <p:spPr>
            <a:xfrm>
              <a:off x="811080" y="573084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 flipH="1" flipV="1">
              <a:off x="855720" y="501768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 flipV="1">
              <a:off x="1023840" y="496836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 flipV="1">
              <a:off x="963360" y="498600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3"/>
            <p:cNvSpPr/>
            <p:nvPr/>
          </p:nvSpPr>
          <p:spPr>
            <a:xfrm flipH="1" flipV="1">
              <a:off x="944280" y="497952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34"/>
          <p:cNvSpPr/>
          <p:nvPr/>
        </p:nvSpPr>
        <p:spPr>
          <a:xfrm>
            <a:off x="1082520" y="3029040"/>
            <a:ext cx="1722600" cy="1873080"/>
          </a:xfrm>
          <a:prstGeom prst="cloudCallout">
            <a:avLst>
              <a:gd name="adj1" fmla="val -43731"/>
              <a:gd name="adj2" fmla="val 5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5"/>
          <p:cNvSpPr/>
          <p:nvPr/>
        </p:nvSpPr>
        <p:spPr>
          <a:xfrm>
            <a:off x="7147080" y="3429000"/>
            <a:ext cx="1996920" cy="1492200"/>
          </a:xfrm>
          <a:prstGeom prst="cloudCallout">
            <a:avLst>
              <a:gd name="adj1" fmla="val -18361"/>
              <a:gd name="adj2" fmla="val 88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1697040" y="351000"/>
            <a:ext cx="56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ssure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= Force (N) / Area (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8200" y="4449600"/>
            <a:ext cx="80629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07:51Z</dcterms:created>
  <dc:creator>Duncan Harvie</dc:creator>
  <dc:description/>
  <dc:language>en-US</dc:language>
  <cp:lastModifiedBy>RomaK</cp:lastModifiedBy>
  <dcterms:modified xsi:type="dcterms:W3CDTF">2015-09-03T12:36:01Z</dcterms:modified>
  <cp:revision>6</cp:revision>
  <dc:subject/>
  <dc:title>Slide 1</dc:title>
</cp:coreProperties>
</file>