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ABC3-5D09-4C51-A109-8AC1525491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rivatives of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Chlor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ative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Chlor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atives of meth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l5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O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O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pro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lse can be used to convert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xylic acid to an acid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atives of meth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l5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O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O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pro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lse can be used to convert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xylic acid to an acid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rivatives of meth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ano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the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anam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the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the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h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ano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atives of meth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am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F4A1-68D1-441D-A69E-039E67F3A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E3B5-9A0F-497C-BAA0-B7ABD669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E6B6-D746-479B-A48B-42AA25DF2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EBDE-C613-4EE8-A42D-15F09E3F5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2017-B8D8-4976-A2E5-C4498F9B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C90F-E9E1-4510-A42B-5C16FF1B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2119-1102-4353-8DD4-C570FBFC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2F4B-15F7-452C-B32B-781DE98F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8C7B-86E1-4D76-83AD-9D5954C5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A0E1-8346-4516-A0BC-F0DFFB33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112E-F121-4236-9EF6-E75AAF89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5C0A-44CB-4BC0-8B5C-064DC5E8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2D45-B936-4EFB-90EB-90BC8C14D55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ff0000"/>
                </a:solidFill>
                <a:latin typeface="Chiller"/>
              </a:rPr>
              <a:t>Derivatives</a:t>
            </a:r>
            <a:r>
              <a:rPr b="1" lang="en-NZ" sz="7200" spc="-1" strike="noStrike">
                <a:solidFill>
                  <a:srgbClr val="000000"/>
                </a:solidFill>
                <a:latin typeface="Chiller"/>
              </a:rPr>
              <a:t> </a:t>
            </a:r>
            <a:r>
              <a:rPr b="1" lang="en-NZ" sz="7200" spc="-1" strike="noStrike">
                <a:solidFill>
                  <a:srgbClr val="ff0000"/>
                </a:solidFill>
                <a:latin typeface="Chiller"/>
              </a:rPr>
              <a:t>of </a:t>
            </a:r>
            <a:br>
              <a:rPr sz="7200"/>
            </a:br>
            <a:r>
              <a:rPr b="1" lang="en-NZ" sz="7200" spc="-1" strike="noStrike">
                <a:solidFill>
                  <a:srgbClr val="ff0000"/>
                </a:solidFill>
                <a:latin typeface="Chiller"/>
              </a:rPr>
              <a:t>Acid Chlorid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3276720" y="3789360"/>
            <a:ext cx="2752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ff0000"/>
                </a:solidFill>
                <a:latin typeface="Chiller"/>
              </a:rPr>
              <a:t>Derivatives of methanoyl chlor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826920" y="2565360"/>
            <a:ext cx="19447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o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5364000" y="2565360"/>
            <a:ext cx="19447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916360" y="2924280"/>
            <a:ext cx="223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3348000" y="2421000"/>
            <a:ext cx="90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PCl</a:t>
            </a:r>
            <a:r>
              <a:rPr b="0" lang="en-NZ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3419640" y="2997360"/>
            <a:ext cx="814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OCl</a:t>
            </a:r>
            <a:r>
              <a:rPr b="0" lang="en-N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1" descr=""/>
          <p:cNvPicPr/>
          <p:nvPr/>
        </p:nvPicPr>
        <p:blipFill>
          <a:blip r:embed="rId1"/>
          <a:stretch/>
        </p:blipFill>
        <p:spPr>
          <a:xfrm>
            <a:off x="5076720" y="4149720"/>
            <a:ext cx="2752920" cy="24289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2"/>
          <p:cNvSpPr/>
          <p:nvPr/>
        </p:nvSpPr>
        <p:spPr>
          <a:xfrm>
            <a:off x="5559480" y="373680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5869800" y="33577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HCO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1097280" y="344808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HCO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5" descr=""/>
          <p:cNvPicPr/>
          <p:nvPr/>
        </p:nvPicPr>
        <p:blipFill>
          <a:blip r:embed="rId2"/>
          <a:stretch/>
        </p:blipFill>
        <p:spPr>
          <a:xfrm>
            <a:off x="611280" y="4076640"/>
            <a:ext cx="2663640" cy="24717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6"/>
          <p:cNvSpPr/>
          <p:nvPr/>
        </p:nvSpPr>
        <p:spPr>
          <a:xfrm>
            <a:off x="2176560" y="186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4174200" y="1773360"/>
            <a:ext cx="459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8000"/>
                </a:solidFill>
                <a:latin typeface="Chiller"/>
              </a:rPr>
              <a:t>What is produc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64080" y="1197000"/>
            <a:ext cx="861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8000"/>
                </a:solidFill>
                <a:latin typeface="Chiller"/>
              </a:rPr>
              <a:t>What else can be used to convert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8000"/>
                </a:solidFill>
                <a:latin typeface="Chiller"/>
              </a:rPr>
              <a:t>carboxylic acid to an acid chlor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ff0000"/>
                </a:solidFill>
                <a:latin typeface="Chiller"/>
              </a:rPr>
              <a:t>Derivatives of methanoyl chlor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5364000" y="2565360"/>
            <a:ext cx="19447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2916360" y="2924280"/>
            <a:ext cx="223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5559480" y="373680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2176560" y="186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3471840" y="2368440"/>
            <a:ext cx="95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7"/>
          <p:cNvSpPr/>
          <p:nvPr/>
        </p:nvSpPr>
        <p:spPr>
          <a:xfrm>
            <a:off x="5364000" y="2565360"/>
            <a:ext cx="19447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o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8"/>
          <p:cNvSpPr/>
          <p:nvPr/>
        </p:nvSpPr>
        <p:spPr>
          <a:xfrm>
            <a:off x="3630960" y="1844640"/>
            <a:ext cx="50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8000"/>
                </a:solidFill>
                <a:latin typeface="Chiller"/>
              </a:rPr>
              <a:t>What is the produ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9"/>
          <p:cNvSpPr/>
          <p:nvPr/>
        </p:nvSpPr>
        <p:spPr>
          <a:xfrm>
            <a:off x="900000" y="2492280"/>
            <a:ext cx="19447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0"/>
          <p:cNvSpPr/>
          <p:nvPr/>
        </p:nvSpPr>
        <p:spPr>
          <a:xfrm>
            <a:off x="2916360" y="2924280"/>
            <a:ext cx="223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1"/>
          <p:cNvSpPr/>
          <p:nvPr/>
        </p:nvSpPr>
        <p:spPr>
          <a:xfrm>
            <a:off x="2195640" y="3162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2"/>
          <p:cNvSpPr/>
          <p:nvPr/>
        </p:nvSpPr>
        <p:spPr>
          <a:xfrm>
            <a:off x="3492360" y="3860640"/>
            <a:ext cx="95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3"/>
          <p:cNvSpPr/>
          <p:nvPr/>
        </p:nvSpPr>
        <p:spPr>
          <a:xfrm>
            <a:off x="5383080" y="4365720"/>
            <a:ext cx="194472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am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3702240" y="3500280"/>
            <a:ext cx="50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8000"/>
                </a:solidFill>
                <a:latin typeface="Chiller"/>
              </a:rPr>
              <a:t>What is the produ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5"/>
          <p:cNvSpPr/>
          <p:nvPr/>
        </p:nvSpPr>
        <p:spPr>
          <a:xfrm>
            <a:off x="900000" y="5732640"/>
            <a:ext cx="194472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6"/>
          <p:cNvSpPr/>
          <p:nvPr/>
        </p:nvSpPr>
        <p:spPr>
          <a:xfrm>
            <a:off x="2916360" y="6093000"/>
            <a:ext cx="216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7"/>
          <p:cNvSpPr/>
          <p:nvPr/>
        </p:nvSpPr>
        <p:spPr>
          <a:xfrm>
            <a:off x="3918240" y="5229360"/>
            <a:ext cx="50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8000"/>
                </a:solidFill>
                <a:latin typeface="Chiller"/>
              </a:rPr>
              <a:t>What is the produ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8"/>
          <p:cNvSpPr/>
          <p:nvPr/>
        </p:nvSpPr>
        <p:spPr>
          <a:xfrm>
            <a:off x="5364000" y="5734080"/>
            <a:ext cx="2016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thy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o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9"/>
          <p:cNvSpPr/>
          <p:nvPr/>
        </p:nvSpPr>
        <p:spPr>
          <a:xfrm>
            <a:off x="3330360" y="56088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tha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11111E-006 L -0.48437 -0.00533 E">
                                      <p:cBhvr>
                                        <p:cTn id="107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11111E-006 L -5.55556E-007 0.2625 E">
                                      <p:cBhvr>
                                        <p:cTn id="133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11111E-006 L 0.00382 0.25208 E">
                                      <p:cBhvr>
                                        <p:cTn id="135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02:52:12Z</dcterms:created>
  <dc:creator>mun091</dc:creator>
  <dc:description/>
  <dc:language>en-US</dc:language>
  <cp:lastModifiedBy>RomaK</cp:lastModifiedBy>
  <dcterms:modified xsi:type="dcterms:W3CDTF">2015-09-01T16:21:55Z</dcterms:modified>
  <cp:revision>8</cp:revision>
  <dc:subject/>
  <dc:title>Derivatives of methanoyl chloride</dc:title>
</cp:coreProperties>
</file>