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8698-BE34-4475-BF92-18993EEE4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9BD-30B1-4DEA-9592-861EB69E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2A8-C0EE-4BC4-9758-D6AF5B49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986-D767-4764-80C9-5E5CAC0D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437-4C61-402C-AC0A-392D92C4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42C-39FB-4904-A0EF-2C3026C5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698-EB89-4934-8C2A-7DC4279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C93-B304-48E2-8325-14E7F63E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372-4521-4072-99AB-3109A413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7F6-C40B-48FA-8193-ED0C6057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A31-A7EE-4098-9C3B-5506117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8B9-311A-4755-BB4A-46637BD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220-647F-4C6F-9634-92938318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A42A-A647-4BA5-A667-022F1AA0EA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Derivatives</a:t>
            </a:r>
            <a:r>
              <a:rPr b="1" lang="en-NZ" sz="72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of </a:t>
            </a:r>
            <a:br>
              <a:rPr sz="7200"/>
            </a:b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Acid Chlorid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75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92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000" y="2421000"/>
            <a:ext cx="90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997360"/>
            <a:ext cx="81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75292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86980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97280" y="3448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74200" y="177336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64080" y="119700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else can be used to convert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carboxylic acid to an acid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1840" y="23684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630960" y="184464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900000" y="249228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19564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492360" y="38606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383080" y="436572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02240" y="350028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900000" y="573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16360" y="609300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18240" y="522936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64000" y="573408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330360" y="5608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48437 -0.0053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5.55556E-007 0.2625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00382 0.25208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52:12Z</dcterms:created>
  <dc:creator>mun091</dc:creator>
  <dc:description/>
  <dc:language>en-US</dc:language>
  <cp:lastModifiedBy>RomaK</cp:lastModifiedBy>
  <dcterms:modified xsi:type="dcterms:W3CDTF">2015-09-01T16:21:55Z</dcterms:modified>
  <cp:revision>8</cp:revision>
  <dc:subject/>
  <dc:title>Derivatives of methanoyl chloride</dc:title>
</cp:coreProperties>
</file>