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0BF9-30AC-440F-A74B-2D8D5F20BD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nny C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sky bl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sunsets 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: How Sound Tra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oes sound travel through paper, plastic, metal, an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Which medium does sound travel  best in: air, water, or wo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Do sound waves have to have a medium to travel thr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ht an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: After-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Wave Demo + mar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w Whistle/Rec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7CB-B942-4075-BEA4-E99DA96F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3E6-868D-44C2-A905-4B287A64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876-7806-4EEF-AF58-50B4DF79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C66-B8F4-4267-935C-5EDE1044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B746-03AD-415B-92CF-D36D097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2F3-CA4F-4779-91DF-E1A699F5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BEA-3D36-4668-9E9F-DCEAD13C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475-0AEE-4265-A700-8A986CDA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974-6E35-4137-9894-E6BC517E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7D4-EDFA-4F37-AF6B-9685C1C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487-FB0F-45B3-B1DE-D810DAEF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AE4-C444-4E52-AF71-F2A5AAB8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0AE6-E31D-4FD3-BB6B-B8BE39C7F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clipart.com/en/close-up?o=639803&amp;memlevel=C&amp;a=c&amp;q=ear&amp;s=91&amp;e=120&amp;show=all&amp;c=&amp;cid=&amp;findincat=&amp;g=&amp;cc=&amp;page=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Sylfaen"/>
              </a:rPr>
              <a:t>Sound and L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Sylfaen"/>
              </a:rPr>
              <a:t>Jenny C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d04924_"/>
          <p:cNvPicPr/>
          <p:nvPr/>
        </p:nvPicPr>
        <p:blipFill>
          <a:blip r:embed="rId1"/>
          <a:stretch/>
        </p:blipFill>
        <p:spPr>
          <a:xfrm>
            <a:off x="6324480" y="3048120"/>
            <a:ext cx="252576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an74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457200"/>
            <a:ext cx="2028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is the sky blu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5410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Why are sunsets re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aboratory: How Sound Tra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es sound travel through paper, plastic, metal, and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Which medium does sound travel  best in: air, water, or wo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lfaen"/>
              </a:rPr>
              <a:t>Part III: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Do sound waves have to have a medium to travel thr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15"/>
          <p:cNvSpPr/>
          <p:nvPr/>
        </p:nvSpPr>
        <p:spPr>
          <a:xfrm>
            <a:off x="91440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6"/>
          <p:cNvSpPr/>
          <p:nvPr/>
        </p:nvSpPr>
        <p:spPr>
          <a:xfrm>
            <a:off x="914400" y="609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7"/>
          <p:cNvGraphicFramePr/>
          <p:nvPr/>
        </p:nvGraphicFramePr>
        <p:xfrm>
          <a:off x="1411200" y="438120"/>
          <a:ext cx="632160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438120"/>
                    <a:ext cx="632160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523880" y="533520"/>
          <a:ext cx="6230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33520"/>
                    <a:ext cx="6230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ylfaen"/>
              </a:rPr>
              <a:t>Demons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ight an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Heart: After-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ound Wave Demo + mar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raw Whistle/Rec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0" y="990360"/>
            <a:ext cx="990720" cy="10666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990720" y="990720"/>
            <a:ext cx="228600" cy="9144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1219320" y="0"/>
            <a:ext cx="1066680" cy="1905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>
            <a:off x="2286000" y="0"/>
            <a:ext cx="1523880" cy="685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809880" y="533160"/>
            <a:ext cx="2667240" cy="152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477120" y="533520"/>
            <a:ext cx="1904760" cy="182880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 flipH="1">
            <a:off x="7314840" y="2362320"/>
            <a:ext cx="1066680" cy="76176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7315200" y="3124080"/>
            <a:ext cx="1219320" cy="16765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6857640" y="4800600"/>
            <a:ext cx="1676520" cy="76212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>
            <a:off x="6858000" y="5562720"/>
            <a:ext cx="380880" cy="1295280"/>
          </a:xfrm>
          <a:prstGeom prst="line">
            <a:avLst/>
          </a:prstGeom>
          <a:ln w="255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2:36:23Z</dcterms:created>
  <dc:creator>Jenny</dc:creator>
  <dc:description/>
  <dc:language>en-US</dc:language>
  <cp:lastModifiedBy>RomaK</cp:lastModifiedBy>
  <dcterms:modified xsi:type="dcterms:W3CDTF">2015-09-03T12:36:59Z</dcterms:modified>
  <cp:revision>15</cp:revision>
  <dc:subject/>
  <dc:title>Sound and Light</dc:title>
</cp:coreProperties>
</file>