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A71B-15BB-46EB-BB14-2D1AAAB483B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an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nny C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an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nny C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sunsets r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e sky bl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sunsets 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atory: How Sound Tra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: Does sound travel through paper, plastic, metal, and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I: Which medium does sound travel  best in: air, water, or w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II: Do sound waves have to have a medium to travel throug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atory: How Sound Tra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oes sound travel through paper, plastic, metal, an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Which medium does sound travel  best in: air, water, or w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Do sound waves have to have a medium to travel thr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nst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ht an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: After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 Demo + mar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w Whistle/Rec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ht an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: After-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Wave Demo + mar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w Whistle/Rec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19C1-0319-444B-8D82-EF04631C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8AA-084D-406F-BF6A-03BF2C7D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AF49-13FE-46F2-84C8-371B481C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DA44-475E-4BCB-B236-4DA36D74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342E-DB61-4216-8AED-F6F6303A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4C0B-45CE-4BF5-A8D6-B8027840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7E7-1969-46EE-B4FC-241433EF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7BB-C1E4-4602-B329-35BE5674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0A4-3865-4918-9FA2-FA6C53E2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69F-3D37-46BA-9BEA-5C11D49B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0A11-AAFD-4706-8BDD-8CAD9E5E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7DC-7865-4050-9AEC-B5C673FE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8DE1-7F89-4D2E-BFE9-3A1A2D416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clipart.com/en/close-up?o=639803&amp;memlevel=C&amp;a=c&amp;q=ear&amp;s=91&amp;e=120&amp;show=all&amp;c=&amp;cid=&amp;findincat=&amp;g=&amp;cc=&amp;page=4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Sylfaen"/>
              </a:rPr>
              <a:t>Sound and Ligh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Sylfaen"/>
              </a:rPr>
              <a:t>Jenny C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bd04924_"/>
          <p:cNvPicPr/>
          <p:nvPr/>
        </p:nvPicPr>
        <p:blipFill>
          <a:blip r:embed="rId1"/>
          <a:stretch/>
        </p:blipFill>
        <p:spPr>
          <a:xfrm>
            <a:off x="6324480" y="3048120"/>
            <a:ext cx="2525760" cy="340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an7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457200"/>
            <a:ext cx="2028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Suns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y is the sky blu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5410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y are sunsets red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Laboratory: How Sound Tra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Does sound travel through paper, plastic, metal, and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Which medium does sound travel  best in: air, water, or woo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I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Do sound waves have to have a medium to travel throug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15"/>
          <p:cNvSpPr/>
          <p:nvPr/>
        </p:nvSpPr>
        <p:spPr>
          <a:xfrm>
            <a:off x="914400" y="533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6"/>
          <p:cNvSpPr/>
          <p:nvPr/>
        </p:nvSpPr>
        <p:spPr>
          <a:xfrm>
            <a:off x="914400" y="6094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7"/>
          <p:cNvGraphicFramePr/>
          <p:nvPr/>
        </p:nvGraphicFramePr>
        <p:xfrm>
          <a:off x="1411200" y="438120"/>
          <a:ext cx="6321600" cy="59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438120"/>
                    <a:ext cx="632160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523880" y="533520"/>
          <a:ext cx="623088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533520"/>
                    <a:ext cx="6230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Demonstr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ight and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Heart: After-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ound Wave Demo + mar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traw Whistle/Rec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4"/>
          <p:cNvSpPr/>
          <p:nvPr/>
        </p:nvSpPr>
        <p:spPr>
          <a:xfrm flipV="1">
            <a:off x="0" y="990360"/>
            <a:ext cx="990720" cy="10666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990720" y="990720"/>
            <a:ext cx="228600" cy="9144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 flipV="1">
            <a:off x="1219320" y="0"/>
            <a:ext cx="1066680" cy="19051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7"/>
          <p:cNvSpPr/>
          <p:nvPr/>
        </p:nvSpPr>
        <p:spPr>
          <a:xfrm>
            <a:off x="2286000" y="0"/>
            <a:ext cx="1523880" cy="6858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3809880" y="533160"/>
            <a:ext cx="2667240" cy="1522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6477120" y="533520"/>
            <a:ext cx="1904760" cy="18288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 flipH="1">
            <a:off x="7314840" y="2362320"/>
            <a:ext cx="1066680" cy="76176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7315200" y="3124080"/>
            <a:ext cx="1219320" cy="16765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6857640" y="4800600"/>
            <a:ext cx="1676520" cy="7621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858000" y="5562720"/>
            <a:ext cx="380880" cy="12952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02:36:23Z</dcterms:created>
  <dc:creator>Jenny</dc:creator>
  <dc:description/>
  <dc:language>en-US</dc:language>
  <cp:lastModifiedBy>RomaK</cp:lastModifiedBy>
  <dcterms:modified xsi:type="dcterms:W3CDTF">2015-09-03T12:36:59Z</dcterms:modified>
  <cp:revision>15</cp:revision>
  <dc:subject/>
  <dc:title>Sound and Light</dc:title>
</cp:coreProperties>
</file>