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SHREG.WAV" ContentType="audio/x-wav"/>
  <Override PartName="/ppt/media/TYPE.WAV" ContentType="audio/x-wav"/>
  <Override PartName="/ppt/media/WHOOSH.WAV" ContentType="audio/x-wav"/>
  <Override PartName="/ppt/media/LASER.WAV" ContentType="audio/x-wav"/>
  <Override PartName="/ppt/media/CAMERA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1584-5E16-4AC3-A19E-3FDF77571947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5.Aperture of the mirror :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2, the distance MM’ is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5.Aperture of the mirror :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2, the distance MM’ is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6.Focal Length of a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6.Focal Length of a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in front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in front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-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, in this case is behind th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-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, in this case is behind the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eal and Virtual imag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In a concave mirror, the focus is real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object and the image lie on the same side of the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mirrored surface. A real image is called so because it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an be caught on a screen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In a convex mirror, on the other hand, the object an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s image lie on the opposite sides of the mirrore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urface. The image therefore is a virtual imag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not be captured on a screen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 In a plane mirror, the image again is a virtual one, as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does not form on the same side as that of the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bjec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 In a concave mirror, the focus is real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object and the image lie on the same side of the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mirrored surface. A real image is called so because it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an be caught on a screen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In a convex mirror, on the other hand, the object an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s image lie on the opposite sides of the mirrore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urface. The image therefore is a virtual imag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not be captured on a screen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 In a plane mirror, the image again is a virtual one, as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does not form on the same side as that of the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bjec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at is a spherical mirror?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What is a spherical mirror?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Types of spherical mirrors :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1. Convex Mirror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2. Concave Mirro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 be observed that C of a convex mirror is behind   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mirrored surfac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n the other hand, C for a concave mirror is in front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 be observed that C of a convex mirror is behind   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mirrored surfac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n the other hand, C for a concave mirror is in front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Radius of curvature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Radius of curvature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P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re the line cuts the mirror, you will find the pole P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P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re the line cuts the mirror, you will find the pole P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4.Principal axis of th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line XY is the principal axis of the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4.Principal axis of th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line XY is the principal axis of the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FD1-82F3-4923-8234-0F7C4BA4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9C5-594C-495B-96D6-475EDE28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1A5-8A2E-4356-B182-B13C2AC9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A1C-F37F-4E64-96B1-D6C69BB1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40D9-873B-47AF-8099-2AEF345C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24DA-160F-4B4C-BFF7-36FC4857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57BD-9E02-42A6-8E9F-C6DA534A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2A73-08D0-4F67-9EA0-35206FE1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A9FB-C88B-40E1-8C5D-FDB3F2AD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E897-5BD3-433C-BE93-6CEECE5E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8318-D12A-4BA0-88CE-8F288B24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82D-9D3C-449F-A50C-6F5FE19E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9751-BFEE-4DC0-B4DF-1F9CF17C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AECF-CB47-4558-BB20-D6652525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6253-6FC7-4040-96E6-02A87FEB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DAE3-66E7-4B51-8422-2C4DA962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C346-35CE-41BA-9481-9A83BCB8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9A5-B279-4D52-96E6-AB61AACC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01EF-90ED-4361-A3EC-4E6F3EC4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B766-707B-4264-9C61-45E72FAC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90F-D427-4A6A-8FEB-7BD2FE65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BEA-D5E4-41B1-8557-64F63416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03B-52CE-4347-9161-6ABAC84F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10A-2B36-4B02-9011-EA269EB4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C275-6F6A-4CB4-973D-10B6B9704291}" type="slidenum">
              <a:rPr b="0" lang="en-US" sz="1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cc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D112-4D56-4A99-B743-AEDD4793F4DA}" type="slidenum">
              <a:rPr b="0" lang="en-US" sz="1600" spc="-1" strike="noStrike">
                <a:solidFill>
                  <a:srgbClr val="ffffcc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43000" y="457200"/>
            <a:ext cx="6858000" cy="210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1" lang="th-TH" sz="66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66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solidFill>
            <a:srgbClr val="ccff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04920" y="1752480"/>
            <a:ext cx="8381880" cy="433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800000"/>
                </a:solidFill>
                <a:uFillTx/>
                <a:latin typeface="Arial"/>
                <a:ea typeface="Cordia New"/>
              </a:rPr>
              <a:t>5.Aperture of the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portion of the hollow spherical surface from which the mirror reflections take place is called the aperture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In the figure 2, the distance MM’ is the aperture of the mirror.</a:t>
            </a: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28600" y="228600"/>
            <a:ext cx="8686800" cy="15562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800000"/>
                </a:solidFill>
                <a:latin typeface="Angsana New"/>
              </a:rPr>
              <a:t>Some definitions of convex 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44520"/>
            <a:ext cx="861048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00"/>
                </a:solidFill>
                <a:latin typeface="Arial"/>
                <a:ea typeface="Cordia New"/>
              </a:rPr>
              <a:t>6.Focal Length of a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</a:t>
            </a: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0" y="42670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rays appear to converge at a point F. The distance PF is called the focal length and F is called the focal point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 is in front of the mirror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 :-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8001000" cy="3124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0" y="373392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case of convex mirrors, the parallel rays, on reflection, appear to diverge from a point F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is point again is called the focal point of the convex mirrors and the distance PF is called the focal leng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, in this case is behind the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95280" y="0"/>
            <a:ext cx="6400800" cy="17398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28600" y="990720"/>
            <a:ext cx="89154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1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focus is real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The object and the image lie on the same side of the 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mirrored surface. A real image is called so because it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can be caught on a screen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2. In a convex mirror, on the other hand, the object an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s image lie on the opposite sides of the mirrore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surface. The image therefore is a virtual image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cannot be captured on a screen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3. In a plane mirror, the image again is a virtual one, as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does not form on the same side as that of the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object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762120" y="2286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What is a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spherical</a:t>
            </a: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 mirror?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1295280"/>
            <a:ext cx="739152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38080" y="34290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04920" y="4267080"/>
            <a:ext cx="8534160" cy="239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09480" y="838080"/>
            <a:ext cx="8153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vex 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in the inside of the spherical surface, then the mirror is called a convex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3520" y="3429000"/>
            <a:ext cx="79246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cave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on the outside of the spherical surface, then the mirror is called a concave mirror.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04920" y="304920"/>
            <a:ext cx="853416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cc00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1600200"/>
            <a:ext cx="86868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ff"/>
                </a:solidFill>
                <a:latin typeface="Arial"/>
                <a:ea typeface="Cordia New"/>
              </a:rPr>
              <a:t>1.</a:t>
            </a:r>
            <a:r>
              <a:rPr b="1" lang="th-TH" sz="36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Center of curvature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er of curvature of the mirror is defined as the center of the hollow sphere from which the mirror has been cut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can be observed that C of a convex mirror is behind   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the mirrored surface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n the other hand, C for a concave mirror is in front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80880" y="38088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7200" y="1523880"/>
            <a:ext cx="8305920" cy="51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 u="sng">
                <a:solidFill>
                  <a:srgbClr val="3333ff"/>
                </a:solidFill>
                <a:uFillTx/>
                <a:latin typeface="Angsana New"/>
              </a:rPr>
              <a:t>2. Radius of curvature</a:t>
            </a:r>
            <a:r>
              <a:rPr b="0" lang="th-TH" sz="2800" spc="-1" strike="noStrike">
                <a:solidFill>
                  <a:srgbClr val="3333ff"/>
                </a:solidFill>
                <a:latin typeface="Angsan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Radius of curvature is the radius of the sphere from which the mirrors (either convex or concave) is mad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n the figure, the distance CP is the radius of curvatures of the two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880" y="1676520"/>
            <a:ext cx="83822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3.Pole of the mirror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ral point on the surface of the mirrors is called the pole of the mirror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P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A pole of the mirror can be found by drawing a straight line from the center C to the largest distance on the surface from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Where the line cuts the mirror, you will find the pole P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304920"/>
            <a:ext cx="8534520" cy="143460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ff"/>
                </a:solidFill>
                <a:latin typeface="Angsana New"/>
              </a:rPr>
              <a:t>Some definitions of convex and concave mirrors</a:t>
            </a:r>
            <a:endParaRPr b="0" lang="en-US" sz="4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04920" y="1244520"/>
            <a:ext cx="853416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3300"/>
                </a:solidFill>
                <a:uFillTx/>
                <a:latin typeface="Arial"/>
                <a:ea typeface="Cordia New"/>
              </a:rPr>
              <a:t>4.Principal axis of the mirror</a:t>
            </a: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straight line that passes through the center of curvature C and the pole P of the mirror, is called the principal axis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In the figure line XY is the principal axis of the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The principal axis of a spherical mirror, functions similar to the normal of the plan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ray of light passing along the principal axis will be reflected back along the same pa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1:02:13Z</dcterms:created>
  <dc:creator>Customer</dc:creator>
  <dc:description/>
  <dc:language>en-US</dc:language>
  <cp:lastModifiedBy>RomaK</cp:lastModifiedBy>
  <dcterms:modified xsi:type="dcterms:W3CDTF">2015-09-03T12:37:14Z</dcterms:modified>
  <cp:revision>19</cp:revision>
  <dc:subject/>
  <dc:title>No Slide Title</dc:title>
</cp:coreProperties>
</file>