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DFED-F1FD-4C6E-8B85-A4D46CFE7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http://www.worldofteaching.c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025-2B10-4CCC-926B-9EFD666D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ED1-6022-4D8D-9438-CFFABCBC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9D5-C46F-4B6D-A182-A47D0DA5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69A-1219-454B-9D8B-3D91E62D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E26-9213-4271-8B8D-6599CF8B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16D-F58E-446B-9B45-D48B033F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269-5BFC-42D9-96E5-CCED0F69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E66-3977-40FE-B9FB-12B8A826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09B-B427-469D-B6A7-FE46E214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72B-F6F1-4AC3-9C22-9B374DEB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E72-4A1D-4110-AED1-5907B911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610-11CC-4941-921B-BC6ACD27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F2BE-D9EF-4134-A475-3D4574A4B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50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3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4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211640" y="4869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4284720" y="220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7" name="Group 22"/>
          <p:cNvGrpSpPr/>
          <p:nvPr/>
        </p:nvGrpSpPr>
        <p:grpSpPr>
          <a:xfrm>
            <a:off x="395280" y="981000"/>
            <a:ext cx="4032360" cy="1604160"/>
            <a:chOff x="395280" y="981000"/>
            <a:chExt cx="4032360" cy="1604160"/>
          </a:xfrm>
        </p:grpSpPr>
        <p:sp>
          <p:nvSpPr>
            <p:cNvPr id="58" name="AutoShape 12"/>
            <p:cNvSpPr/>
            <p:nvPr/>
          </p:nvSpPr>
          <p:spPr>
            <a:xfrm rot="12209400">
              <a:off x="2928960" y="1699920"/>
              <a:ext cx="1433520" cy="625320"/>
            </a:xfrm>
            <a:prstGeom prst="leftArrow">
              <a:avLst>
                <a:gd name="adj1" fmla="val 50000"/>
                <a:gd name="adj2" fmla="val 5731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395280" y="981000"/>
              <a:ext cx="2857680" cy="1015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ELECTRON 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ga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0" name="Group 27"/>
          <p:cNvGrpSpPr/>
          <p:nvPr/>
        </p:nvGrpSpPr>
        <p:grpSpPr>
          <a:xfrm>
            <a:off x="4773600" y="3213000"/>
            <a:ext cx="4370400" cy="1015920"/>
            <a:chOff x="4773600" y="3213000"/>
            <a:chExt cx="4370400" cy="1015920"/>
          </a:xfrm>
        </p:grpSpPr>
        <p:sp>
          <p:nvSpPr>
            <p:cNvPr id="61" name="AutoShape 15"/>
            <p:cNvSpPr/>
            <p:nvPr/>
          </p:nvSpPr>
          <p:spPr>
            <a:xfrm rot="21419400">
              <a:off x="4785840" y="3483000"/>
              <a:ext cx="2232000" cy="533520"/>
            </a:xfrm>
            <a:prstGeom prst="leftArrow">
              <a:avLst>
                <a:gd name="adj1" fmla="val 50000"/>
                <a:gd name="adj2" fmla="val 104588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858000" y="3213000"/>
              <a:ext cx="2286000" cy="1015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ROT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osi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4602240" y="1125360"/>
            <a:ext cx="4200480" cy="2286360"/>
            <a:chOff x="4602240" y="1125360"/>
            <a:chExt cx="4200480" cy="2286360"/>
          </a:xfrm>
        </p:grpSpPr>
        <p:sp>
          <p:nvSpPr>
            <p:cNvPr id="64" name="Text Box 18"/>
            <p:cNvSpPr/>
            <p:nvPr/>
          </p:nvSpPr>
          <p:spPr>
            <a:xfrm>
              <a:off x="6516720" y="1125360"/>
              <a:ext cx="2286000" cy="1015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UTR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o Charg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5" name="AutoShape 19"/>
            <p:cNvSpPr/>
            <p:nvPr/>
          </p:nvSpPr>
          <p:spPr>
            <a:xfrm rot="19135200">
              <a:off x="4467240" y="2116080"/>
              <a:ext cx="2519280" cy="533520"/>
            </a:xfrm>
            <a:prstGeom prst="leftArrow">
              <a:avLst>
                <a:gd name="adj1" fmla="val 50000"/>
                <a:gd name="adj2" fmla="val 118050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6" name="Text Box 20"/>
          <p:cNvSpPr/>
          <p:nvPr/>
        </p:nvSpPr>
        <p:spPr>
          <a:xfrm>
            <a:off x="900000" y="14616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Simple Atomic Structure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24000" y="5013360"/>
            <a:ext cx="89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wo positive protons and two negative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730080" y="3500280"/>
            <a:ext cx="21600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322200" y="55738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</a:rPr>
              <a:t>Gain an electron to becom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95280" y="6093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Lose an electron to becom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4617E-006 C 0.21493 -4.84617E-006 0.38993 0.08467 0.38993 0.18876 C 0.38993 0.29263 0.21493 0.37775 1.66667E-006 0.37775 C -0.21493 0.37775 -0.38976 0.29263 -0.38976 0.18876 C -0.38976 0.08467 -0.21493 -4.84617E-006 1.66667E-006 -4.84617E-006 Z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1906E-006 C -0.21476 -1.21906E-006 -0.38993 -0.08674 -0.38993 -0.19408 C -0.38993 -0.30095 -0.21476 -0.38816 1.66667E-006 -0.38816 C 0.2151 -0.38816 0.38976 -0.30095 0.38976 -0.19408 C 0.38976 -0.08674 0.2151 -1.21906E-006 1.66667E-006 -1.21906E-006 Z"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5"/>
          <p:cNvSpPr/>
          <p:nvPr/>
        </p:nvSpPr>
        <p:spPr>
          <a:xfrm>
            <a:off x="2457360" y="1523880"/>
            <a:ext cx="4457880" cy="45910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26676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moving Smoke from Power Station Chimn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79" name="Picture 7" descr="fuo030"/>
          <p:cNvPicPr/>
          <p:nvPr/>
        </p:nvPicPr>
        <p:blipFill>
          <a:blip r:embed="rId1"/>
          <a:stretch/>
        </p:blipFill>
        <p:spPr>
          <a:xfrm>
            <a:off x="3801960" y="6095880"/>
            <a:ext cx="180504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8"/>
          <p:cNvSpPr/>
          <p:nvPr/>
        </p:nvSpPr>
        <p:spPr>
          <a:xfrm>
            <a:off x="2590920" y="2457360"/>
            <a:ext cx="342720" cy="280044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6521400" y="2502000"/>
            <a:ext cx="343080" cy="2800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7162920" y="3295800"/>
            <a:ext cx="17524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si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438120" y="3314880"/>
            <a:ext cx="194328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ga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371760" y="5638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harge up the Smoke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3943440" y="60768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102200" y="617868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4260960" y="61596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8" name="Oval 16"/>
          <p:cNvSpPr/>
          <p:nvPr/>
        </p:nvSpPr>
        <p:spPr>
          <a:xfrm>
            <a:off x="4457880" y="620064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9" name="Oval 17"/>
          <p:cNvSpPr/>
          <p:nvPr/>
        </p:nvSpPr>
        <p:spPr>
          <a:xfrm>
            <a:off x="4597560" y="610236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775040" y="631512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4971960" y="6153120"/>
            <a:ext cx="9540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5168880" y="619776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5384880" y="6127920"/>
            <a:ext cx="9504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3187800" y="182880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Comic Sans MS"/>
              </a:rPr>
              <a:t>No smoke leaves the chimne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2778 C -0.00156 0.01319 -0.00642 0.03495 -0.00521 0.0074 C -0.00486 0.00115 -0.00243 -0.01111 -0.00243 -0.01111 C -0.00174 -0.02153 0.00069 -0.03195 0.00035 -0.0426 C 5.55556000000012E-007 -0.0581 -0.00243 -0.08889 -0.00243 -0.08889 C -0.00156 -0.09746 0.00104 -0.10486 -0.00104 -0.11297 C 0.00139 -0.12292 5.5555600000012E-007 -0.13287 -0.00243 -0.1426 C -0.00399 -0.16135 -0.00521 -0.17685 -0.0066 -0.1963 C -0.00747 -0.20718 -0.01076 -0.21875 -0.01215 -0.22963 C -0.01267 -0.2419 -0.01233 -0.2544 -0.01354 -0.26667 C -0.01372 -0.26898 -0.01563 -0.27014 -0.01632 -0.27222 C -0.0184 -0.27755 -0.01962 -0.28357 -0.02188 -0.28889 C -0.02344 -0.29283 -0.02639 -0.29584 -0.02743 -0.3 C -0.02917 -0.30672 -0.0309 -0.31227 -0.03299 -0.31852 C -0.0342 -0.32199 -0.0349 -0.32593 -0.03576 -0.32963 C -0.03629 -0.33148 -0.03715 -0.33519 -0.03715 -0.33519 C -0.03924 -0.3551 -0.0467 -0.39005 -0.05382 -0.40741 C -0.05833 -0.41852 -0.06094 -0.42986 -0.0691 -0.43704 C -0.07101 -0.44445 -0.07326 -0.44815 -0.07743 -0.45371 C -0.08038 -0.46574 -0.08872 -0.47199 -0.09549 -0.47963 C -0.09705 -0.48125 -0.09844 -0.4831 -0.09965 -0.48519 C -0.10069 -0.48681 -0.10122 -0.48935 -0.10243 -0.49074 C -0.10833 -0.49769 -0.12153 -0.50972 -0.12882 -0.51297 C -0.13021 -0.51482 -0.13299 -0.51852 -0.13299 -0.51852 E">
                                      <p:cBhvr>
                                        <p:cTn id="723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3.7037E-006 C 0.00312 -0.0294 0.00538 -0.0588 0.01249 -0.08704 C 0.01302 -0.09445 0.01319 -0.10186 0.01388 -0.10926 C 0.01493 -0.11991 0.01979 -0.12894 0.02222 -0.13889 C 0.02465 -0.14861 0.02638 -0.15811 0.03055 -0.16667 C 0.03263 -0.18079 0.03246 -0.1919 0.04166 -0.2 C 0.04253 -0.20371 0.04288 -0.20787 0.04444 -0.21111 C 0.04635 -0.21482 0.04999 -0.22223 0.04999 -0.22223 C 0.0519 -0.23218 0.05538 -0.2419 0.05694 -0.25186 C 0.05694 -0.25209 0.0592 -0.26736 0.05972 -0.26852 C 0.06058 -0.27037 0.06249 -0.27107 0.06388 -0.27223 C 0.06666 -0.28357 0.07291 -0.29699 0.08055 -0.30371 C 0.08142 -0.30556 0.08211 -0.30764 0.08333 -0.30926 C 0.08454 -0.31088 0.08645 -0.31111 0.08749 -0.31297 C 0.08836 -0.31459 0.08819 -0.3169 0.08888 -0.31852 C 0.09305 -0.32848 0.09357 -0.32848 0.09861 -0.33519 C 0.1019 -0.34838 0.09722 -0.33241 0.10416 -0.3463 C 0.10503 -0.34792 0.10468 -0.35024 0.10555 -0.35186 C 0.10659 -0.35394 0.1085 -0.35533 0.10972 -0.35741 C 0.1184 -0.37246 0.11145 -0.36505 0.11944 -0.37223 C 0.1269 -0.38704 0.11718 -0.36922 0.12638 -0.38149 C 0.13038 -0.38681 0.13263 -0.3919 0.13749 -0.3963 C 0.13836 -0.39815 0.13906 -0.40024 0.14027 -0.40186 C 0.14149 -0.40348 0.1434 -0.40371 0.14444 -0.40556 C 0.14531 -0.40718 0.14496 -0.40949 0.14583 -0.41111 C 0.14861 -0.41667 0.15329 -0.42292 0.15694 -0.42778 C 0.1592 -0.43681 0.16232 -0.44306 0.16805 -0.44815 C 0.16996 -0.45579 0.17118 -0.46019 0.17638 -0.46482 C 0.18246 -0.47686 0.17499 -0.46482 0.18472 -0.47223 C 0.18645 -0.47361 0.18732 -0.47639 0.18888 -0.47778 C 0.1934 -0.48172 0.19999 -0.48519 0.20555 -0.48519 E">
                                      <p:cBhvr>
                                        <p:cTn id="726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C 0.00173 -0.0162 0.00329 -0.02685 0.00416 -0.04444 C 0.00034 -0.05972 0.00659 -0.07546 0.00277 -0.09074 C 0.00364 -0.09514 0.00503 -0.0993 0.00555 -0.1037 C 0.00607 -0.10741 0.00625 -0.11898 0.00833 -0.12407 C 0.01163 -0.13194 0.01822 -0.13842 0.02083 -0.14629 C 0.02361 -0.15486 0.02534 -0.16713 0.03055 -0.17407 C 0.03854 -0.18472 0.0309 -0.16967 0.03888 -0.18333 C 0.04427 -0.19236 0.04566 -0.19722 0.05277 -0.2037 C 0.05329 -0.20555 0.05312 -0.20787 0.05416 -0.20926 C 0.05659 -0.2125 0.0625 -0.21666 0.0625 -0.21666 C 0.06388 -0.22245 0.06736 -0.2294 0.07083 -0.23333 C 0.07326 -0.23634 0.07916 -0.24074 0.07916 -0.24074 C 0.08559 -0.2537 0.08194 -0.2493 0.08888 -0.25555 C 0.0927 -0.26342 0.10138 -0.26921 0.10833 -0.27222 C 0.11163 -0.27893 0.11336 -0.28148 0.11944 -0.28148 E">
                                      <p:cBhvr>
                                        <p:cTn id="729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01898 C -0.00608 0.01157 -0.00521 0.00416 -0.00521 -0.00324 C -0.00521 -0.00509 -0.00643 -0.00695 -0.0066 -0.0088 C -0.00764 -0.02477 -0.00295 -0.05 -0.01493 -0.06065 C -0.01649 -0.06945 -0.01754 -0.07778 -0.0191 -0.08658 C -0.01979 -0.09028 -0.02188 -0.09769 -0.02188 -0.09769 C -0.0224 -0.10579 -0.0217 -0.11389 -0.02327 -0.12176 C -0.02413 -0.12616 -0.02691 -0.12917 -0.02882 -0.13287 C -0.03143 -0.13796 -0.03559 -0.15116 -0.03854 -0.15509 C -0.04688 -0.16621 -0.03941 -0.14653 -0.05104 -0.16991 C -0.05504 -0.17778 -0.0559 -0.18472 -0.06215 -0.19028 C -0.06684 -0.19977 -0.06979 -0.20972 -0.07604 -0.21806 C -0.07795 -0.22593 -0.08195 -0.22639 -0.08577 -0.23287 C -0.09115 -0.2419 -0.09254 -0.24676 -0.09965 -0.25324 C -0.10278 -0.25972 -0.1059 -0.26389 -0.11077 -0.26806 C -0.11545 -0.27732 -0.11215 -0.27246 -0.12188 -0.28102 C -0.12969 -0.28796 -0.13472 -0.29977 -0.14271 -0.30695 C -0.14705 -0.31551 -0.15538 -0.32292 -0.16215 -0.32732 C -0.1658 -0.32963 -0.16754 -0.33287 -0.17188 -0.33287 E">
                                      <p:cBhvr>
                                        <p:cTn id="732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14815E-006 C 0.00052 -0.01782 0.00017 -0.03587 0.00139 -0.0537 C 0.00208 -0.06388 0.00816 -0.07268 0.01111 -0.08148 C 0.01424 -0.09097 0.01667 -0.1081 0.02083 -0.11666 C 0.02726 -0.12962 0.03108 -0.14652 0.03472 -0.16111 C 0.03785 -0.17361 0.04236 -0.18425 0.04583 -0.19629 C 0.04879 -0.20671 0.04965 -0.21759 0.05695 -0.22407 C 0.05781 -0.22592 0.05833 -0.22824 0.05972 -0.22962 C 0.06094 -0.23078 0.06285 -0.23009 0.06389 -0.23148 C 0.07049 -0.24027 0.06997 -0.25046 0.07778 -0.2574 C 0.0783 -0.26041 0.07813 -0.26388 0.07917 -0.26666 C 0.08142 -0.27314 0.0875 -0.27777 0.07917 -0.27036 C 0.0816 -0.28009 0.07934 -0.27476 0.08889 -0.28333 C 0.09028 -0.28449 0.09167 -0.28587 0.09306 -0.28703 C 0.09445 -0.28819 0.09722 -0.29074 0.09722 -0.29074 C 0.09913 -0.29444 0.10087 -0.29814 0.10278 -0.30185 C 0.10469 -0.30555 0.11111 -0.30925 0.11111 -0.30925 C 0.11719 -0.32129 0.12274 -0.33819 0.13195 -0.34629 C 0.13281 -0.34814 0.13351 -0.35046 0.13472 -0.35185 C 0.13715 -0.35486 0.14306 -0.35925 0.14306 -0.35925 C 0.14445 -0.36481 0.15139 -0.37499 0.15556 -0.37777 C 0.16198 -0.38194 0.15799 -0.37731 0.16111 -0.38148 E">
                                      <p:cBhvr>
                                        <p:cTn id="735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6 C 0.00243 -0.00972 0.00399 -0.01921 0.00833 -0.02778 C 0.00695 -0.0419 0.00816 -0.05046 0.00695 -0.06482 C 0.0092 -0.07361 0.01129 -0.07917 0.01389 -0.08704 C 0.01806 -0.09977 0.01788 -0.10324 0.02361 -0.11482 C 0.02448 -0.11644 0.02431 -0.11875 0.025 -0.12037 C 0.02656 -0.12431 0.02952 -0.12732 0.03056 -0.13148 C 0.03142 -0.13519 0.03333 -0.14259 0.03333 -0.14259 C 0.03472 -0.15625 0.03577 -0.16991 0.0375 -0.18333 C 0.0382 -0.1882 0.03767 -0.19352 0.03889 -0.19815 C 0.0408 -0.20556 0.05365 -0.22546 0.05833 -0.22963 C 0.06077 -0.23935 0.05886 -0.23357 0.06528 -0.2463 C 0.06858 -0.25301 0.06875 -0.26158 0.07222 -0.26852 C 0.07396 -0.27963 0.07517 -0.2912 0.07778 -0.30185 C 0.0783 -0.30671 0.07795 -0.31204 0.07917 -0.31667 C 0.0809 -0.32292 0.08472 -0.32778 0.0875 -0.33333 C 0.08837 -0.33495 0.08802 -0.33727 0.08889 -0.33889 C 0.08993 -0.34074 0.09167 -0.34144 0.09306 -0.34259 C 0.09583 -0.34815 0.09861 -0.3537 0.10139 -0.35926 C 0.1059 -0.36829 0.09896 -0.36158 0.10556 -0.37037 C 0.11354 -0.38102 0.1059 -0.36597 0.11389 -0.37963 C 0.11597 -0.3831 0.11702 -0.3875 0.11945 -0.39074 C 0.12083 -0.39259 0.12205 -0.39468 0.12361 -0.3963 C 0.12622 -0.39908 0.13195 -0.4037 0.13195 -0.4037 C 0.13472 -0.41458 0.13125 -0.40463 0.1375 -0.41296 C 0.14149 -0.41829 0.14375 -0.42338 0.14861 -0.42778 C 0.15104 -0.4375 0.14879 -0.43218 0.15833 -0.44074 C 0.15972 -0.4419 0.1625 -0.44445 0.1625 -0.44445 C 0.16302 -0.4463 0.16285 -0.44861 0.16389 -0.45 C 0.16493 -0.45139 0.16667 -0.45093 0.16806 -0.45185 C 0.17309 -0.45509 0.17517 -0.46065 0.18056 -0.46296 C 0.18559 -0.47292 0.19566 -0.47408 0.20417 -0.47593 C 0.21441 -0.48495 0.20208 -0.47546 0.225 -0.48148 C 0.22847 -0.48241 0.23125 -0.48588 0.23472 -0.48704 C 0.24931 -0.5 0.26233 -0.49815 0.28056 -0.49815 E">
                                      <p:cBhvr>
                                        <p:cTn id="738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528 C 0.0026 0.00487 0.00208 -0.00578 0.00174 -0.0162 C 0.00122 -0.03587 0.00122 -0.05578 0.00035 -0.07546 C -5.55556000000012E-007 -0.08263 -0.00972 -0.10046 -0.01215 -0.10694 C -0.01371 -0.11087 -0.01771 -0.11805 -0.01771 -0.11805 C -0.02153 -0.13865 -0.02465 -0.15995 -0.03437 -0.17731 C -0.03889 -0.1956 -0.03125 -0.16759 -0.03993 -0.18842 C -0.04132 -0.19189 -0.04115 -0.19629 -0.04271 -0.19953 C -0.04358 -0.20138 -0.04462 -0.20324 -0.04549 -0.20509 C -0.04653 -0.21064 -0.0467 -0.21643 -0.04826 -0.22175 C -0.04983 -0.22685 -0.05382 -0.23657 -0.05382 -0.23657 C -0.05573 -0.24884 -0.05608 -0.26157 -0.05799 -0.27361 C -0.06007 -0.28657 -0.06528 -0.29537 -0.0691 -0.30694 C -0.07396 -0.32175 -0.07847 -0.33425 -0.08715 -0.34583 C -0.09028 -0.35833 -0.08594 -0.34467 -0.09271 -0.35509 C -0.09844 -0.36388 -0.0993 -0.36898 -0.1066 -0.37546 C -0.11406 -0.39027 -0.10434 -0.37245 -0.11354 -0.38472 C -0.11719 -0.38958 -0.11962 -0.39652 -0.12326 -0.40138 C -0.125 -0.4037 -0.13055 -0.40856 -0.13299 -0.41064 C -0.13628 -0.41736 -0.13924 -0.41736 -0.1441 -0.42175 C -0.14844 -0.43055 -0.14531 -0.42662 -0.15521 -0.43101 C -0.15833 -0.4324 -0.16076 -0.43587 -0.16354 -0.43842 C -0.16684 -0.44143 -0.17222 -0.44421 -0.17604 -0.44583 C -0.17552 -0.44837 -0.17413 -0.45092 -0.17465 -0.45324 C -0.17708 -0.46273 -0.20139 -0.46064 -0.20382 -0.46064 E">
                                      <p:cBhvr>
                                        <p:cTn id="741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3.7037E-007 C -0.0014 -0.00995 -0.00365 -0.01967 -0.00417 -0.02963 C -0.00539 -0.05601 -0.00417 -0.08125 -0.01528 -0.1037 C -0.0191 -0.11134 -0.01893 -0.11875 -0.02501 -0.12407 C -0.03299 -0.14004 -0.0224 -0.12129 -0.03195 -0.13148 C -0.03334 -0.13287 -0.03351 -0.13541 -0.03473 -0.13703 C -0.03594 -0.13865 -0.03751 -0.13958 -0.0389 -0.14074 C -0.04532 -0.1537 -0.04167 -0.1493 -0.04862 -0.15555 C -0.04949 -0.1574 -0.05018 -0.15972 -0.0514 -0.16111 C -0.05383 -0.16412 -0.05973 -0.16851 -0.05973 -0.16851 C -0.0606 -0.17037 -0.06129 -0.17268 -0.06251 -0.17407 C -0.06494 -0.17708 -0.07084 -0.18148 -0.07084 -0.18148 C -0.07292 -0.18541 -0.07605 -0.18842 -0.07778 -0.19259 C -0.08004 -0.19791 -0.08091 -0.20555 -0.08334 -0.21111 C -0.09028 -0.228 -0.08629 -0.21689 -0.09306 -0.22777 C -0.104 -0.24537 -0.0889 -0.22222 -0.09723 -0.23888 C -0.10018 -0.24467 -0.104 -0.24976 -0.10695 -0.25555 C -0.10921 -0.25995 -0.11528 -0.26666 -0.11528 -0.26666 C -0.11719 -0.27453 -0.12119 -0.275 -0.12501 -0.28148 C -0.13039 -0.29074 -0.13299 -0.30092 -0.14028 -0.3074 C -0.14445 -0.31574 -0.14758 -0.32268 -0.15278 -0.32963 C -0.15556 -0.3405 -0.15209 -0.33055 -0.15834 -0.33888 C -0.16372 -0.34606 -0.16181 -0.35254 -0.16945 -0.35925 C -0.17692 -0.37407 -0.16719 -0.35625 -0.1764 -0.36851 C -0.17987 -0.37314 -0.1823 -0.38078 -0.18612 -0.38518 C -0.18855 -0.38819 -0.19167 -0.39004 -0.19445 -0.39259 C -0.19601 -0.39398 -0.19688 -0.39675 -0.19862 -0.39814 C -0.20035 -0.3993 -0.20226 -0.3993 -0.20417 -0.4 C -0.20695 -0.40115 -0.21251 -0.4037 -0.21251 -0.4037 C -0.21598 -0.41064 -0.22188 -0.41412 -0.22778 -0.41666 C -0.23195 -0.42222 -0.23542 -0.42338 -0.24028 -0.42777 C -0.24219 -0.43564 -0.24324 -0.43356 -0.24723 -0.43888 E">
                                      <p:cBhvr>
                                        <p:cTn id="744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C 0.00156 -0.00602 0.004 -0.01065 0.00556 -0.01667 C 0.00729 -0.0412 0.00712 -0.03194 0.01111 -0.04815 C 0.01233 -0.06296 0.01406 -0.07639 0.01667 -0.09074 C 0.01736 -0.10046 0.01806 -0.11435 0.02084 -0.12407 C 0.02136 -0.12616 0.02292 -0.12755 0.02361 -0.12963 C 0.02483 -0.1331 0.02483 -0.1375 0.02639 -0.14074 C 0.0283 -0.14444 0.03091 -0.14768 0.03195 -0.15185 C 0.03386 -0.15926 0.03611 -0.16296 0.04028 -0.16852 C 0.04271 -0.17824 0.04618 -0.18866 0.05278 -0.19444 C 0.05591 -0.20671 0.06007 -0.21805 0.06389 -0.22963 C 0.0665 -0.2375 0.06667 -0.24514 0.07084 -0.25185 C 0.07309 -0.25555 0.075 -0.25972 0.07778 -0.26296 C 0.08021 -0.26597 0.08611 -0.27037 0.08611 -0.27037 C 0.09132 -0.28079 0.1 -0.28403 0.10834 -0.28889 C 0.11441 -0.29236 0.12014 -0.29722 0.12639 -0.3 C 0.13143 -0.30671 0.1375 -0.31065 0.14445 -0.31296 C 0.14636 -0.3206 0.14896 -0.32361 0.15278 -0.32963 C 0.15729 -0.3368 0.154 -0.33935 0.16111 -0.34259 C 0.16788 -0.35602 0.16372 -0.35162 0.17222 -0.35741 C 0.18021 -0.37338 0.16962 -0.35463 0.17917 -0.36481 C 0.18281 -0.36875 0.18125 -0.37106 0.18334 -0.37593 C 0.18854 -0.38819 0.18681 -0.38565 0.19445 -0.39074 C 0.19531 -0.39259 0.19792 -0.39421 0.19722 -0.3963 C 0.19653 -0.39815 0.19375 -0.39259 0.19306 -0.39444 C 0.19132 -0.3993 0.19896 -0.40139 0.2 -0.40185 C 0.20243 -0.4118 0.20139 -0.41273 0.20695 -0.41852 C 0.20955 -0.4213 0.2125 -0.42338 0.21528 -0.42593 C 0.21667 -0.42708 0.21945 -0.42963 0.21945 -0.42963 C 0.22205 -0.44028 0.21858 -0.43148 0.225 -0.43704 C 0.22656 -0.43843 0.22743 -0.44143 0.22917 -0.44259 C 0.24254 -0.45255 0.23438 -0.44213 0.23889 -0.44815 E">
                                      <p:cBhvr>
                                        <p:cTn id="747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CCM01063"/>
          <p:cNvPicPr/>
          <p:nvPr/>
        </p:nvPicPr>
        <p:blipFill>
          <a:blip r:embed="rId1"/>
          <a:stretch/>
        </p:blipFill>
        <p:spPr>
          <a:xfrm>
            <a:off x="4064040" y="355680"/>
            <a:ext cx="4672080" cy="28702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419040" y="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arthing Petrol Tanker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97" name="Group 13"/>
          <p:cNvGrpSpPr/>
          <p:nvPr/>
        </p:nvGrpSpPr>
        <p:grpSpPr>
          <a:xfrm>
            <a:off x="2990520" y="1778040"/>
            <a:ext cx="1676520" cy="1263600"/>
            <a:chOff x="2990520" y="1778040"/>
            <a:chExt cx="1676520" cy="1263600"/>
          </a:xfrm>
        </p:grpSpPr>
        <p:sp>
          <p:nvSpPr>
            <p:cNvPr id="498" name="Line 7"/>
            <p:cNvSpPr/>
            <p:nvPr/>
          </p:nvSpPr>
          <p:spPr>
            <a:xfrm flipH="1">
              <a:off x="3333240" y="1790640"/>
              <a:ext cx="1333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3340080" y="1778040"/>
              <a:ext cx="0" cy="990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 flipH="1">
              <a:off x="2990520" y="2774880"/>
              <a:ext cx="685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1" name="Line 11"/>
            <p:cNvSpPr/>
            <p:nvPr/>
          </p:nvSpPr>
          <p:spPr>
            <a:xfrm flipH="1">
              <a:off x="3168720" y="2908440"/>
              <a:ext cx="3808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2" name="Line 12"/>
            <p:cNvSpPr/>
            <p:nvPr/>
          </p:nvSpPr>
          <p:spPr>
            <a:xfrm flipH="1">
              <a:off x="3250800" y="3041640"/>
              <a:ext cx="2286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03" name="Text Box 14"/>
          <p:cNvSpPr/>
          <p:nvPr/>
        </p:nvSpPr>
        <p:spPr>
          <a:xfrm>
            <a:off x="647640" y="32194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Petrol rubbing against the pipe can build up a static charge which could cause an explos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628560" y="4457880"/>
            <a:ext cx="802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anker is joined to the ground with a wire to stop a charge building up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 rot="1805400">
            <a:off x="86148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2036880" y="3932280"/>
            <a:ext cx="1931760" cy="1940040"/>
            <a:chOff x="2036880" y="3932280"/>
            <a:chExt cx="1931760" cy="1940040"/>
          </a:xfrm>
        </p:grpSpPr>
        <p:sp>
          <p:nvSpPr>
            <p:cNvPr id="73" name="Freeform 6"/>
            <p:cNvSpPr/>
            <p:nvPr/>
          </p:nvSpPr>
          <p:spPr>
            <a:xfrm>
              <a:off x="2036880" y="3932280"/>
              <a:ext cx="1931760" cy="1940040"/>
            </a:xfrm>
            <a:custGeom>
              <a:avLst/>
              <a:gdLst/>
              <a:ahLst/>
              <a:rect l="l" t="t" r="r" b="b"/>
              <a:pathLst>
                <a:path w="1217" h="1222">
                  <a:moveTo>
                    <a:pt x="41" y="1056"/>
                  </a:moveTo>
                  <a:cubicBezTo>
                    <a:pt x="57" y="1010"/>
                    <a:pt x="46" y="994"/>
                    <a:pt x="12" y="960"/>
                  </a:cubicBezTo>
                  <a:cubicBezTo>
                    <a:pt x="0" y="922"/>
                    <a:pt x="3" y="902"/>
                    <a:pt x="32" y="874"/>
                  </a:cubicBezTo>
                  <a:cubicBezTo>
                    <a:pt x="45" y="831"/>
                    <a:pt x="81" y="792"/>
                    <a:pt x="118" y="768"/>
                  </a:cubicBezTo>
                  <a:cubicBezTo>
                    <a:pt x="149" y="679"/>
                    <a:pt x="109" y="810"/>
                    <a:pt x="118" y="701"/>
                  </a:cubicBezTo>
                  <a:cubicBezTo>
                    <a:pt x="121" y="669"/>
                    <a:pt x="136" y="628"/>
                    <a:pt x="147" y="595"/>
                  </a:cubicBezTo>
                  <a:cubicBezTo>
                    <a:pt x="130" y="544"/>
                    <a:pt x="156" y="545"/>
                    <a:pt x="195" y="518"/>
                  </a:cubicBezTo>
                  <a:cubicBezTo>
                    <a:pt x="225" y="474"/>
                    <a:pt x="215" y="468"/>
                    <a:pt x="262" y="432"/>
                  </a:cubicBezTo>
                  <a:cubicBezTo>
                    <a:pt x="276" y="390"/>
                    <a:pt x="266" y="358"/>
                    <a:pt x="252" y="317"/>
                  </a:cubicBezTo>
                  <a:cubicBezTo>
                    <a:pt x="270" y="265"/>
                    <a:pt x="301" y="249"/>
                    <a:pt x="339" y="211"/>
                  </a:cubicBezTo>
                  <a:cubicBezTo>
                    <a:pt x="351" y="159"/>
                    <a:pt x="335" y="133"/>
                    <a:pt x="320" y="86"/>
                  </a:cubicBezTo>
                  <a:cubicBezTo>
                    <a:pt x="333" y="47"/>
                    <a:pt x="357" y="14"/>
                    <a:pt x="396" y="0"/>
                  </a:cubicBezTo>
                  <a:cubicBezTo>
                    <a:pt x="468" y="12"/>
                    <a:pt x="458" y="20"/>
                    <a:pt x="512" y="58"/>
                  </a:cubicBezTo>
                  <a:cubicBezTo>
                    <a:pt x="547" y="55"/>
                    <a:pt x="582" y="53"/>
                    <a:pt x="617" y="48"/>
                  </a:cubicBezTo>
                  <a:cubicBezTo>
                    <a:pt x="645" y="44"/>
                    <a:pt x="699" y="12"/>
                    <a:pt x="732" y="0"/>
                  </a:cubicBezTo>
                  <a:cubicBezTo>
                    <a:pt x="755" y="3"/>
                    <a:pt x="778" y="3"/>
                    <a:pt x="800" y="10"/>
                  </a:cubicBezTo>
                  <a:cubicBezTo>
                    <a:pt x="881" y="34"/>
                    <a:pt x="777" y="26"/>
                    <a:pt x="857" y="38"/>
                  </a:cubicBezTo>
                  <a:cubicBezTo>
                    <a:pt x="889" y="43"/>
                    <a:pt x="921" y="45"/>
                    <a:pt x="953" y="48"/>
                  </a:cubicBezTo>
                  <a:cubicBezTo>
                    <a:pt x="966" y="54"/>
                    <a:pt x="978" y="62"/>
                    <a:pt x="992" y="67"/>
                  </a:cubicBezTo>
                  <a:cubicBezTo>
                    <a:pt x="1008" y="72"/>
                    <a:pt x="1026" y="68"/>
                    <a:pt x="1040" y="77"/>
                  </a:cubicBezTo>
                  <a:cubicBezTo>
                    <a:pt x="1063" y="91"/>
                    <a:pt x="1075" y="119"/>
                    <a:pt x="1097" y="134"/>
                  </a:cubicBezTo>
                  <a:cubicBezTo>
                    <a:pt x="1126" y="154"/>
                    <a:pt x="1151" y="162"/>
                    <a:pt x="1184" y="173"/>
                  </a:cubicBezTo>
                  <a:cubicBezTo>
                    <a:pt x="1193" y="167"/>
                    <a:pt x="1209" y="143"/>
                    <a:pt x="1212" y="154"/>
                  </a:cubicBezTo>
                  <a:cubicBezTo>
                    <a:pt x="1217" y="170"/>
                    <a:pt x="1198" y="186"/>
                    <a:pt x="1193" y="202"/>
                  </a:cubicBezTo>
                  <a:cubicBezTo>
                    <a:pt x="1176" y="253"/>
                    <a:pt x="1155" y="307"/>
                    <a:pt x="1116" y="346"/>
                  </a:cubicBezTo>
                  <a:cubicBezTo>
                    <a:pt x="1105" y="381"/>
                    <a:pt x="1088" y="395"/>
                    <a:pt x="1078" y="432"/>
                  </a:cubicBezTo>
                  <a:cubicBezTo>
                    <a:pt x="1084" y="454"/>
                    <a:pt x="1097" y="476"/>
                    <a:pt x="1097" y="499"/>
                  </a:cubicBezTo>
                  <a:cubicBezTo>
                    <a:pt x="1097" y="540"/>
                    <a:pt x="1070" y="630"/>
                    <a:pt x="1049" y="662"/>
                  </a:cubicBezTo>
                  <a:cubicBezTo>
                    <a:pt x="1036" y="719"/>
                    <a:pt x="1033" y="786"/>
                    <a:pt x="1001" y="835"/>
                  </a:cubicBezTo>
                  <a:cubicBezTo>
                    <a:pt x="981" y="921"/>
                    <a:pt x="987" y="1007"/>
                    <a:pt x="972" y="1094"/>
                  </a:cubicBezTo>
                  <a:cubicBezTo>
                    <a:pt x="968" y="1114"/>
                    <a:pt x="947" y="1127"/>
                    <a:pt x="934" y="1142"/>
                  </a:cubicBezTo>
                  <a:cubicBezTo>
                    <a:pt x="919" y="1159"/>
                    <a:pt x="886" y="1190"/>
                    <a:pt x="886" y="1190"/>
                  </a:cubicBezTo>
                  <a:cubicBezTo>
                    <a:pt x="883" y="1200"/>
                    <a:pt x="886" y="1216"/>
                    <a:pt x="876" y="1219"/>
                  </a:cubicBezTo>
                  <a:cubicBezTo>
                    <a:pt x="865" y="1222"/>
                    <a:pt x="858" y="1206"/>
                    <a:pt x="848" y="1200"/>
                  </a:cubicBezTo>
                  <a:cubicBezTo>
                    <a:pt x="835" y="1193"/>
                    <a:pt x="822" y="1188"/>
                    <a:pt x="809" y="1181"/>
                  </a:cubicBezTo>
                  <a:cubicBezTo>
                    <a:pt x="739" y="1142"/>
                    <a:pt x="688" y="1116"/>
                    <a:pt x="608" y="1104"/>
                  </a:cubicBezTo>
                  <a:cubicBezTo>
                    <a:pt x="556" y="1108"/>
                    <a:pt x="506" y="1123"/>
                    <a:pt x="454" y="1123"/>
                  </a:cubicBezTo>
                  <a:cubicBezTo>
                    <a:pt x="390" y="1123"/>
                    <a:pt x="326" y="1108"/>
                    <a:pt x="262" y="1104"/>
                  </a:cubicBezTo>
                  <a:cubicBezTo>
                    <a:pt x="198" y="1082"/>
                    <a:pt x="226" y="1071"/>
                    <a:pt x="147" y="1085"/>
                  </a:cubicBezTo>
                  <a:cubicBezTo>
                    <a:pt x="115" y="1080"/>
                    <a:pt x="67" y="1082"/>
                    <a:pt x="41" y="1056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2635200" y="41464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5" name="Oval 8"/>
            <p:cNvSpPr/>
            <p:nvPr/>
          </p:nvSpPr>
          <p:spPr>
            <a:xfrm>
              <a:off x="3260880" y="420696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6" name="Oval 9"/>
            <p:cNvSpPr/>
            <p:nvPr/>
          </p:nvSpPr>
          <p:spPr>
            <a:xfrm>
              <a:off x="3076560" y="5213520"/>
              <a:ext cx="38268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2392200" y="51069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8" name="AutoShape 11"/>
          <p:cNvSpPr/>
          <p:nvPr/>
        </p:nvSpPr>
        <p:spPr>
          <a:xfrm rot="1805400">
            <a:off x="569232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70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6867360" y="3932280"/>
            <a:ext cx="1932120" cy="1940040"/>
          </a:xfrm>
          <a:custGeom>
            <a:avLst/>
            <a:gdLst/>
            <a:ahLst/>
            <a:rect l="l" t="t" r="r" b="b"/>
            <a:pathLst>
              <a:path w="1217" h="1222">
                <a:moveTo>
                  <a:pt x="41" y="1056"/>
                </a:moveTo>
                <a:cubicBezTo>
                  <a:pt x="57" y="1010"/>
                  <a:pt x="46" y="994"/>
                  <a:pt x="12" y="960"/>
                </a:cubicBezTo>
                <a:cubicBezTo>
                  <a:pt x="0" y="922"/>
                  <a:pt x="3" y="902"/>
                  <a:pt x="32" y="874"/>
                </a:cubicBezTo>
                <a:cubicBezTo>
                  <a:pt x="45" y="831"/>
                  <a:pt x="81" y="792"/>
                  <a:pt x="118" y="768"/>
                </a:cubicBezTo>
                <a:cubicBezTo>
                  <a:pt x="149" y="679"/>
                  <a:pt x="109" y="810"/>
                  <a:pt x="118" y="701"/>
                </a:cubicBezTo>
                <a:cubicBezTo>
                  <a:pt x="121" y="669"/>
                  <a:pt x="136" y="628"/>
                  <a:pt x="147" y="595"/>
                </a:cubicBezTo>
                <a:cubicBezTo>
                  <a:pt x="130" y="544"/>
                  <a:pt x="156" y="545"/>
                  <a:pt x="195" y="518"/>
                </a:cubicBezTo>
                <a:cubicBezTo>
                  <a:pt x="225" y="474"/>
                  <a:pt x="215" y="468"/>
                  <a:pt x="262" y="432"/>
                </a:cubicBezTo>
                <a:cubicBezTo>
                  <a:pt x="276" y="390"/>
                  <a:pt x="266" y="358"/>
                  <a:pt x="252" y="317"/>
                </a:cubicBezTo>
                <a:cubicBezTo>
                  <a:pt x="270" y="265"/>
                  <a:pt x="301" y="249"/>
                  <a:pt x="339" y="211"/>
                </a:cubicBezTo>
                <a:cubicBezTo>
                  <a:pt x="351" y="159"/>
                  <a:pt x="335" y="133"/>
                  <a:pt x="320" y="86"/>
                </a:cubicBezTo>
                <a:cubicBezTo>
                  <a:pt x="333" y="47"/>
                  <a:pt x="357" y="14"/>
                  <a:pt x="396" y="0"/>
                </a:cubicBezTo>
                <a:cubicBezTo>
                  <a:pt x="468" y="12"/>
                  <a:pt x="458" y="20"/>
                  <a:pt x="512" y="58"/>
                </a:cubicBezTo>
                <a:cubicBezTo>
                  <a:pt x="547" y="55"/>
                  <a:pt x="582" y="53"/>
                  <a:pt x="617" y="48"/>
                </a:cubicBezTo>
                <a:cubicBezTo>
                  <a:pt x="645" y="44"/>
                  <a:pt x="699" y="12"/>
                  <a:pt x="732" y="0"/>
                </a:cubicBezTo>
                <a:cubicBezTo>
                  <a:pt x="755" y="3"/>
                  <a:pt x="778" y="3"/>
                  <a:pt x="800" y="10"/>
                </a:cubicBezTo>
                <a:cubicBezTo>
                  <a:pt x="881" y="34"/>
                  <a:pt x="777" y="26"/>
                  <a:pt x="857" y="38"/>
                </a:cubicBezTo>
                <a:cubicBezTo>
                  <a:pt x="889" y="43"/>
                  <a:pt x="921" y="45"/>
                  <a:pt x="953" y="48"/>
                </a:cubicBezTo>
                <a:cubicBezTo>
                  <a:pt x="966" y="54"/>
                  <a:pt x="978" y="62"/>
                  <a:pt x="992" y="67"/>
                </a:cubicBezTo>
                <a:cubicBezTo>
                  <a:pt x="1008" y="72"/>
                  <a:pt x="1026" y="68"/>
                  <a:pt x="1040" y="77"/>
                </a:cubicBezTo>
                <a:cubicBezTo>
                  <a:pt x="1063" y="91"/>
                  <a:pt x="1075" y="119"/>
                  <a:pt x="1097" y="134"/>
                </a:cubicBezTo>
                <a:cubicBezTo>
                  <a:pt x="1126" y="154"/>
                  <a:pt x="1151" y="162"/>
                  <a:pt x="1184" y="173"/>
                </a:cubicBezTo>
                <a:cubicBezTo>
                  <a:pt x="1193" y="167"/>
                  <a:pt x="1209" y="143"/>
                  <a:pt x="1212" y="154"/>
                </a:cubicBezTo>
                <a:cubicBezTo>
                  <a:pt x="1217" y="170"/>
                  <a:pt x="1198" y="186"/>
                  <a:pt x="1193" y="202"/>
                </a:cubicBezTo>
                <a:cubicBezTo>
                  <a:pt x="1176" y="253"/>
                  <a:pt x="1155" y="307"/>
                  <a:pt x="1116" y="346"/>
                </a:cubicBezTo>
                <a:cubicBezTo>
                  <a:pt x="1105" y="381"/>
                  <a:pt x="1088" y="395"/>
                  <a:pt x="1078" y="432"/>
                </a:cubicBezTo>
                <a:cubicBezTo>
                  <a:pt x="1084" y="454"/>
                  <a:pt x="1097" y="476"/>
                  <a:pt x="1097" y="499"/>
                </a:cubicBezTo>
                <a:cubicBezTo>
                  <a:pt x="1097" y="540"/>
                  <a:pt x="1070" y="630"/>
                  <a:pt x="1049" y="662"/>
                </a:cubicBezTo>
                <a:cubicBezTo>
                  <a:pt x="1036" y="719"/>
                  <a:pt x="1033" y="786"/>
                  <a:pt x="1001" y="835"/>
                </a:cubicBezTo>
                <a:cubicBezTo>
                  <a:pt x="981" y="921"/>
                  <a:pt x="987" y="1007"/>
                  <a:pt x="972" y="1094"/>
                </a:cubicBezTo>
                <a:cubicBezTo>
                  <a:pt x="968" y="1114"/>
                  <a:pt x="947" y="1127"/>
                  <a:pt x="934" y="1142"/>
                </a:cubicBezTo>
                <a:cubicBezTo>
                  <a:pt x="919" y="1159"/>
                  <a:pt x="886" y="1190"/>
                  <a:pt x="886" y="1190"/>
                </a:cubicBezTo>
                <a:cubicBezTo>
                  <a:pt x="883" y="1200"/>
                  <a:pt x="886" y="1216"/>
                  <a:pt x="876" y="1219"/>
                </a:cubicBezTo>
                <a:cubicBezTo>
                  <a:pt x="865" y="1222"/>
                  <a:pt x="858" y="1206"/>
                  <a:pt x="848" y="1200"/>
                </a:cubicBezTo>
                <a:cubicBezTo>
                  <a:pt x="835" y="1193"/>
                  <a:pt x="822" y="1188"/>
                  <a:pt x="809" y="1181"/>
                </a:cubicBezTo>
                <a:cubicBezTo>
                  <a:pt x="739" y="1142"/>
                  <a:pt x="688" y="1116"/>
                  <a:pt x="608" y="1104"/>
                </a:cubicBezTo>
                <a:cubicBezTo>
                  <a:pt x="556" y="1108"/>
                  <a:pt x="506" y="1123"/>
                  <a:pt x="454" y="1123"/>
                </a:cubicBezTo>
                <a:cubicBezTo>
                  <a:pt x="390" y="1123"/>
                  <a:pt x="326" y="1108"/>
                  <a:pt x="262" y="1104"/>
                </a:cubicBezTo>
                <a:cubicBezTo>
                  <a:pt x="198" y="1082"/>
                  <a:pt x="226" y="1071"/>
                  <a:pt x="147" y="1085"/>
                </a:cubicBezTo>
                <a:cubicBezTo>
                  <a:pt x="115" y="1080"/>
                  <a:pt x="67" y="1082"/>
                  <a:pt x="41" y="10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7466040" y="414648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7907400" y="521352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5272200" y="53942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729400" y="44798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6232680" y="3718080"/>
            <a:ext cx="38232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6445080" y="33210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601812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5484960" y="4861080"/>
            <a:ext cx="38232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8091360" y="420696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7223040" y="510696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1614600" y="3321000"/>
            <a:ext cx="38232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118728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54120" y="486108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439560" y="53640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896760" y="44496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1400040" y="368784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50920" y="44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harging Up Rod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Text Box 32"/>
          <p:cNvSpPr/>
          <p:nvPr/>
        </p:nvSpPr>
        <p:spPr>
          <a:xfrm rot="18215400">
            <a:off x="-172800" y="3635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cet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Text Box 33"/>
          <p:cNvSpPr/>
          <p:nvPr/>
        </p:nvSpPr>
        <p:spPr>
          <a:xfrm rot="18039000">
            <a:off x="4640400" y="37836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olythen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395280" y="17733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cetat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700360" y="291456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Cloth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5796000" y="183528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lythen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7380360" y="2914560"/>
            <a:ext cx="151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loth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395280" y="90792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It’s all about moving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66667E-006 C -0.0099 0.01251 -0.01268 0.02964 -0.02171 0.04237 C -0.0257 0.05718 -0.03837 0.07501 -0.04671 0.08681 C -0.04879 0.09445 -0.05243 0.09746 -0.05504 0.10441 C -0.06233 0.12339 -0.04931 0.09607 -0.06007 0.12015 C -0.06216 0.12478 -0.06372 0.12964 -0.06667 0.13334 C -0.06789 0.13473 -0.0691 0.13612 -0.07014 0.13774 C -0.07379 0.14422 -0.07674 0.15117 -0.08004 0.15788 C -0.08108 0.16019 -0.08212 0.16228 -0.08334 0.16459 C -0.08438 0.16667 -0.08681 0.17107 -0.08681 0.17107 C -0.08976 0.18404 -0.09497 0.18635 -0.10174 0.19561 C -0.1066 0.20209 -0.10903 0.20811 -0.11511 0.21343 C -0.11945 0.22246 -0.12726 0.22617 -0.13507 0.22894 C -0.15226 0.22825 -0.16962 0.22848 -0.18681 0.22663 C -0.19028 0.22617 -0.19341 0.22362 -0.19671 0.22223 C -0.19844 0.22154 -0.20174 0.22015 -0.20174 0.22015 C -0.20278 0.21853 -0.20365 0.21667 -0.20504 0.21552 C -0.2066 0.21436 -0.20886 0.21505 -0.21007 0.21343 C -0.21129 0.21181 -0.21094 0.2088 -0.21181 0.20672 C -0.21268 0.20441 -0.21407 0.20232 -0.21511 0.20001 C -0.21424 0.1933 -0.2125 0.18681 -0.21181 0.1801 C -0.20973 0.15811 -0.21181 0.13542 -0.19671 0.12223 C -0.19375 0.10927 -0.18525 0.10279 -0.17848 0.0933 C -0.17622 0.08496 -0.17396 0.08265 -0.16841 0.07779 C -0.16528 0.06552 -0.15677 0.05718 -0.15348 0.04445 C -0.1507 0.03427 -0.14914 0.02061 -0.14514 0.01112 C -0.13577 -0.01133 -0.12049 -0.02731 -0.10834 -0.04652 C -0.10313 -0.05485 -0.10226 -0.06573 -0.09671 -0.07337 C -0.09514 -0.07962 -0.09236 -0.08772 -0.09011 -0.09328 C -0.0882 -0.09791 -0.08334 -0.1067 -0.08334 -0.1067 C -0.08108 -0.11573 -0.08021 -0.12453 -0.075 -0.13101 C -0.07414 -0.14004 -0.07361 -0.1537 -0.07014 -0.16226 C -0.06823 -0.16689 -0.06337 -0.17545 -0.06337 -0.17545 C -0.06094 -0.18587 -0.05417 -0.18934 -0.05 -0.19768 C -0.04775 -0.20208 -0.04566 -0.2067 -0.04341 -0.2111 C -0.04236 -0.21319 -0.04289 -0.2162 -0.04167 -0.21782 C -0.03889 -0.22152 -0.03177 -0.22661 -0.03177 -0.22661 C -0.01441 -0.22499 -0.00903 -0.22476 0.00486 -0.2199 C 0.01649 -0.20971 0.01111 -0.21295 0.01996 -0.20879 C 0.021 -0.20578 0.02204 -0.20277 0.02326 -0.19999 C 0.02534 -0.19536 0.02986 -0.18657 0.02986 -0.18657 C 0.03541 -0.15115 0.03177 -0.11319 0.02656 -0.07777 C 0.02482 -0.06643 0.02135 -0.05601 0.01996 -0.04444 C 0.01805 -0.028 0.01892 -0.01828 0.00833 -0.00879 C 0.00382 -0.00022 0.00677 -0.003 2.5E-006 6.66667E-006 Z"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18519E-006 L 0.1368 0.06436 E">
                                      <p:cBhvr>
                                        <p:cTn id="8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5.18519E-006 L 0.20678 0.02663 E">
                                      <p:cBhvr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0.28507 -0.03565 E">
                                      <p:cBhvr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6 L -0.18316 -0.12199 E">
                                      <p:cBhvr>
                                        <p:cTn id="11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9166 -0.02662 E">
                                      <p:cBhvr>
                                        <p:cTn id="1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"/>
          <p:cNvGrpSpPr/>
          <p:nvPr/>
        </p:nvGrpSpPr>
        <p:grpSpPr>
          <a:xfrm>
            <a:off x="385560" y="717480"/>
            <a:ext cx="3421440" cy="1693080"/>
            <a:chOff x="385560" y="717480"/>
            <a:chExt cx="3421440" cy="1693080"/>
          </a:xfrm>
        </p:grpSpPr>
        <p:sp>
          <p:nvSpPr>
            <p:cNvPr id="106" name="AutoShape 4"/>
            <p:cNvSpPr/>
            <p:nvPr/>
          </p:nvSpPr>
          <p:spPr>
            <a:xfrm rot="4368000">
              <a:off x="1729440" y="-1130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2894040" y="105264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Oval 6"/>
            <p:cNvSpPr/>
            <p:nvPr/>
          </p:nvSpPr>
          <p:spPr>
            <a:xfrm>
              <a:off x="1949400" y="135900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974880" y="166248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4847040" y="759600"/>
            <a:ext cx="3398040" cy="1865160"/>
            <a:chOff x="4847040" y="759600"/>
            <a:chExt cx="3398040" cy="1865160"/>
          </a:xfrm>
        </p:grpSpPr>
        <p:sp>
          <p:nvSpPr>
            <p:cNvPr id="111" name="AutoShape 9"/>
            <p:cNvSpPr/>
            <p:nvPr/>
          </p:nvSpPr>
          <p:spPr>
            <a:xfrm rot="17434200">
              <a:off x="6179040" y="14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7329600" y="18381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6246720" y="147312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5378400" y="11523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4267440" y="2459880"/>
            <a:ext cx="3398040" cy="1865160"/>
            <a:chOff x="4267440" y="2459880"/>
            <a:chExt cx="3398040" cy="1865160"/>
          </a:xfrm>
        </p:grpSpPr>
        <p:sp>
          <p:nvSpPr>
            <p:cNvPr id="116" name="AutoShape 14"/>
            <p:cNvSpPr/>
            <p:nvPr/>
          </p:nvSpPr>
          <p:spPr>
            <a:xfrm rot="17434200">
              <a:off x="5599440" y="171504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6750000" y="353844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Oval 16"/>
            <p:cNvSpPr/>
            <p:nvPr/>
          </p:nvSpPr>
          <p:spPr>
            <a:xfrm>
              <a:off x="5667120" y="317340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4798800" y="285264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1100160" y="2473560"/>
            <a:ext cx="3420720" cy="1694880"/>
            <a:chOff x="1100160" y="2473560"/>
            <a:chExt cx="3420720" cy="1694880"/>
          </a:xfrm>
        </p:grpSpPr>
        <p:sp>
          <p:nvSpPr>
            <p:cNvPr id="121" name="AutoShape 19"/>
            <p:cNvSpPr/>
            <p:nvPr/>
          </p:nvSpPr>
          <p:spPr>
            <a:xfrm rot="15165000">
              <a:off x="2443680" y="1643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Oval 20"/>
            <p:cNvSpPr/>
            <p:nvPr/>
          </p:nvSpPr>
          <p:spPr>
            <a:xfrm>
              <a:off x="3776400" y="27813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2678040" y="3071880"/>
              <a:ext cx="38196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1734840" y="339120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5" name="Text Box 24"/>
          <p:cNvSpPr/>
          <p:nvPr/>
        </p:nvSpPr>
        <p:spPr>
          <a:xfrm>
            <a:off x="1332000" y="123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inging Charges Together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25"/>
          <p:cNvGrpSpPr/>
          <p:nvPr/>
        </p:nvGrpSpPr>
        <p:grpSpPr>
          <a:xfrm>
            <a:off x="1040040" y="4016520"/>
            <a:ext cx="3421080" cy="1692360"/>
            <a:chOff x="1040040" y="4016520"/>
            <a:chExt cx="3421080" cy="1692360"/>
          </a:xfrm>
        </p:grpSpPr>
        <p:sp>
          <p:nvSpPr>
            <p:cNvPr id="127" name="AutoShape 26"/>
            <p:cNvSpPr/>
            <p:nvPr/>
          </p:nvSpPr>
          <p:spPr>
            <a:xfrm rot="15168000">
              <a:off x="2383560" y="31852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Oval 27"/>
            <p:cNvSpPr/>
            <p:nvPr/>
          </p:nvSpPr>
          <p:spPr>
            <a:xfrm rot="10800000">
              <a:off x="1569960" y="5006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Oval 28"/>
            <p:cNvSpPr/>
            <p:nvPr/>
          </p:nvSpPr>
          <p:spPr>
            <a:xfrm rot="10800000">
              <a:off x="2514600" y="470052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Oval 29"/>
            <p:cNvSpPr/>
            <p:nvPr/>
          </p:nvSpPr>
          <p:spPr>
            <a:xfrm rot="10800000">
              <a:off x="3489480" y="439740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1" name="Group 30"/>
          <p:cNvGrpSpPr/>
          <p:nvPr/>
        </p:nvGrpSpPr>
        <p:grpSpPr>
          <a:xfrm>
            <a:off x="4340160" y="4057200"/>
            <a:ext cx="3413520" cy="1762200"/>
            <a:chOff x="4340160" y="4057200"/>
            <a:chExt cx="3413520" cy="1762200"/>
          </a:xfrm>
        </p:grpSpPr>
        <p:sp>
          <p:nvSpPr>
            <p:cNvPr id="132" name="AutoShape 31"/>
            <p:cNvSpPr/>
            <p:nvPr/>
          </p:nvSpPr>
          <p:spPr>
            <a:xfrm rot="17313000">
              <a:off x="5680080" y="32608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Oval 32"/>
            <p:cNvSpPr/>
            <p:nvPr/>
          </p:nvSpPr>
          <p:spPr>
            <a:xfrm rot="12945000">
              <a:off x="4860720" y="444276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Oval 33"/>
            <p:cNvSpPr/>
            <p:nvPr/>
          </p:nvSpPr>
          <p:spPr>
            <a:xfrm rot="12945000">
              <a:off x="5806440" y="4745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 rot="12945000">
              <a:off x="6775200" y="506952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3132000" y="1916280"/>
            <a:ext cx="360360" cy="358560"/>
            <a:chOff x="3132000" y="1916280"/>
            <a:chExt cx="360360" cy="358560"/>
          </a:xfrm>
        </p:grpSpPr>
        <p:sp>
          <p:nvSpPr>
            <p:cNvPr id="137" name="Oval 41"/>
            <p:cNvSpPr/>
            <p:nvPr/>
          </p:nvSpPr>
          <p:spPr>
            <a:xfrm>
              <a:off x="3132000" y="191628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3205080" y="209376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9" name="Group 49"/>
          <p:cNvGrpSpPr/>
          <p:nvPr/>
        </p:nvGrpSpPr>
        <p:grpSpPr>
          <a:xfrm>
            <a:off x="5148360" y="1916280"/>
            <a:ext cx="360360" cy="358560"/>
            <a:chOff x="5148360" y="1916280"/>
            <a:chExt cx="360360" cy="358560"/>
          </a:xfrm>
        </p:grpSpPr>
        <p:sp>
          <p:nvSpPr>
            <p:cNvPr id="140" name="Oval 45"/>
            <p:cNvSpPr/>
            <p:nvPr/>
          </p:nvSpPr>
          <p:spPr>
            <a:xfrm>
              <a:off x="5148360" y="1916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 flipH="1">
              <a:off x="5173200" y="2093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 flipV="1">
              <a:off x="5326200" y="1949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3" name="Text Box 50"/>
          <p:cNvSpPr/>
          <p:nvPr/>
        </p:nvSpPr>
        <p:spPr>
          <a:xfrm>
            <a:off x="3564000" y="1830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t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4" name="Group 51"/>
          <p:cNvGrpSpPr/>
          <p:nvPr/>
        </p:nvGrpSpPr>
        <p:grpSpPr>
          <a:xfrm>
            <a:off x="3274920" y="5589720"/>
            <a:ext cx="360360" cy="358560"/>
            <a:chOff x="3274920" y="5589720"/>
            <a:chExt cx="360360" cy="358560"/>
          </a:xfrm>
        </p:grpSpPr>
        <p:sp>
          <p:nvSpPr>
            <p:cNvPr id="145" name="Oval 52"/>
            <p:cNvSpPr/>
            <p:nvPr/>
          </p:nvSpPr>
          <p:spPr>
            <a:xfrm>
              <a:off x="3274920" y="558972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3348000" y="57672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54"/>
          <p:cNvGrpSpPr/>
          <p:nvPr/>
        </p:nvGrpSpPr>
        <p:grpSpPr>
          <a:xfrm>
            <a:off x="4859280" y="5591160"/>
            <a:ext cx="360360" cy="358920"/>
            <a:chOff x="4859280" y="5591160"/>
            <a:chExt cx="360360" cy="358920"/>
          </a:xfrm>
        </p:grpSpPr>
        <p:sp>
          <p:nvSpPr>
            <p:cNvPr id="148" name="Oval 55"/>
            <p:cNvSpPr/>
            <p:nvPr/>
          </p:nvSpPr>
          <p:spPr>
            <a:xfrm>
              <a:off x="4859280" y="559116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Line 56"/>
            <p:cNvSpPr/>
            <p:nvPr/>
          </p:nvSpPr>
          <p:spPr>
            <a:xfrm>
              <a:off x="4932360" y="57690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7"/>
          <p:cNvGrpSpPr/>
          <p:nvPr/>
        </p:nvGrpSpPr>
        <p:grpSpPr>
          <a:xfrm>
            <a:off x="4932360" y="6165720"/>
            <a:ext cx="360360" cy="358920"/>
            <a:chOff x="4932360" y="6165720"/>
            <a:chExt cx="360360" cy="358920"/>
          </a:xfrm>
        </p:grpSpPr>
        <p:sp>
          <p:nvSpPr>
            <p:cNvPr id="151" name="Oval 58"/>
            <p:cNvSpPr/>
            <p:nvPr/>
          </p:nvSpPr>
          <p:spPr>
            <a:xfrm>
              <a:off x="493236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Line 59"/>
            <p:cNvSpPr/>
            <p:nvPr/>
          </p:nvSpPr>
          <p:spPr>
            <a:xfrm flipH="1">
              <a:off x="495720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Line 60"/>
            <p:cNvSpPr/>
            <p:nvPr/>
          </p:nvSpPr>
          <p:spPr>
            <a:xfrm flipV="1">
              <a:off x="511020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4" name="Group 61"/>
          <p:cNvGrpSpPr/>
          <p:nvPr/>
        </p:nvGrpSpPr>
        <p:grpSpPr>
          <a:xfrm>
            <a:off x="3274920" y="6165720"/>
            <a:ext cx="360360" cy="358920"/>
            <a:chOff x="3274920" y="6165720"/>
            <a:chExt cx="360360" cy="358920"/>
          </a:xfrm>
        </p:grpSpPr>
        <p:sp>
          <p:nvSpPr>
            <p:cNvPr id="155" name="Oval 62"/>
            <p:cNvSpPr/>
            <p:nvPr/>
          </p:nvSpPr>
          <p:spPr>
            <a:xfrm>
              <a:off x="327492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Line 63"/>
            <p:cNvSpPr/>
            <p:nvPr/>
          </p:nvSpPr>
          <p:spPr>
            <a:xfrm flipH="1">
              <a:off x="329976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Line 64"/>
            <p:cNvSpPr/>
            <p:nvPr/>
          </p:nvSpPr>
          <p:spPr>
            <a:xfrm flipV="1">
              <a:off x="345276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8" name="Text Box 65"/>
          <p:cNvSpPr/>
          <p:nvPr/>
        </p:nvSpPr>
        <p:spPr>
          <a:xfrm>
            <a:off x="3708360" y="5502240"/>
            <a:ext cx="11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Text Box 66"/>
          <p:cNvSpPr/>
          <p:nvPr/>
        </p:nvSpPr>
        <p:spPr>
          <a:xfrm>
            <a:off x="3708360" y="609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06667 -4.07407E-006 E">
                                      <p:cBhvr>
                                        <p:cTn id="14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-0.11996 -4.44444E-006 E">
                                      <p:cBhvr>
                                        <p:cTn id="14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10503 -7.40741E-007 E">
                                      <p:cBhvr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842 -0.00232 E">
                                      <p:cBhvr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232 L -0.08681 -0.00232 E">
                                      <p:cBhvr>
                                        <p:cTn id="17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0.09532 -0.00093 E"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43080" y="5724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Electric Field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76212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3399"/>
                </a:solidFill>
                <a:latin typeface="Comic Sans MS"/>
              </a:rPr>
              <a:t>This is a region where a charge experiences a force</a:t>
            </a:r>
            <a:endParaRPr b="1" lang="en-US" sz="27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5141880" y="2770200"/>
            <a:ext cx="360360" cy="358920"/>
            <a:chOff x="5141880" y="2770200"/>
            <a:chExt cx="360360" cy="358920"/>
          </a:xfrm>
        </p:grpSpPr>
        <p:sp>
          <p:nvSpPr>
            <p:cNvPr id="163" name="Oval 7"/>
            <p:cNvSpPr/>
            <p:nvPr/>
          </p:nvSpPr>
          <p:spPr>
            <a:xfrm>
              <a:off x="5141880" y="2770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Line 8"/>
            <p:cNvSpPr/>
            <p:nvPr/>
          </p:nvSpPr>
          <p:spPr>
            <a:xfrm>
              <a:off x="5214960" y="2948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3662280" y="2716200"/>
            <a:ext cx="360360" cy="358920"/>
            <a:chOff x="3662280" y="2716200"/>
            <a:chExt cx="360360" cy="358920"/>
          </a:xfrm>
        </p:grpSpPr>
        <p:sp>
          <p:nvSpPr>
            <p:cNvPr id="166" name="Oval 10"/>
            <p:cNvSpPr/>
            <p:nvPr/>
          </p:nvSpPr>
          <p:spPr>
            <a:xfrm>
              <a:off x="3662280" y="2716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735360" y="2894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12"/>
          <p:cNvGrpSpPr/>
          <p:nvPr/>
        </p:nvGrpSpPr>
        <p:grpSpPr>
          <a:xfrm>
            <a:off x="7945560" y="2771640"/>
            <a:ext cx="360360" cy="358920"/>
            <a:chOff x="7945560" y="2771640"/>
            <a:chExt cx="360360" cy="358920"/>
          </a:xfrm>
        </p:grpSpPr>
        <p:sp>
          <p:nvSpPr>
            <p:cNvPr id="169" name="Oval 13"/>
            <p:cNvSpPr/>
            <p:nvPr/>
          </p:nvSpPr>
          <p:spPr>
            <a:xfrm>
              <a:off x="7945560" y="277164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8018640" y="294948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15"/>
          <p:cNvGrpSpPr/>
          <p:nvPr/>
        </p:nvGrpSpPr>
        <p:grpSpPr>
          <a:xfrm>
            <a:off x="779400" y="5346720"/>
            <a:ext cx="360360" cy="358920"/>
            <a:chOff x="779400" y="5346720"/>
            <a:chExt cx="360360" cy="358920"/>
          </a:xfrm>
        </p:grpSpPr>
        <p:sp>
          <p:nvSpPr>
            <p:cNvPr id="172" name="Oval 16"/>
            <p:cNvSpPr/>
            <p:nvPr/>
          </p:nvSpPr>
          <p:spPr>
            <a:xfrm>
              <a:off x="779400" y="5346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H="1">
              <a:off x="804240" y="5524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 flipV="1">
              <a:off x="957240" y="5380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785880" y="2705040"/>
            <a:ext cx="360360" cy="358920"/>
            <a:chOff x="785880" y="2705040"/>
            <a:chExt cx="360360" cy="358920"/>
          </a:xfrm>
        </p:grpSpPr>
        <p:sp>
          <p:nvSpPr>
            <p:cNvPr id="176" name="Oval 20"/>
            <p:cNvSpPr/>
            <p:nvPr/>
          </p:nvSpPr>
          <p:spPr>
            <a:xfrm>
              <a:off x="785880" y="270504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 flipH="1">
              <a:off x="810720" y="288288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V="1">
              <a:off x="963720" y="273852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9" name="Group 33"/>
          <p:cNvGrpSpPr/>
          <p:nvPr/>
        </p:nvGrpSpPr>
        <p:grpSpPr>
          <a:xfrm>
            <a:off x="1073160" y="2021040"/>
            <a:ext cx="2641680" cy="1726560"/>
            <a:chOff x="1073160" y="2021040"/>
            <a:chExt cx="2641680" cy="1726560"/>
          </a:xfrm>
        </p:grpSpPr>
        <p:sp>
          <p:nvSpPr>
            <p:cNvPr id="180" name="Line 26"/>
            <p:cNvSpPr/>
            <p:nvPr/>
          </p:nvSpPr>
          <p:spPr>
            <a:xfrm>
              <a:off x="1136520" y="2898720"/>
              <a:ext cx="2521080" cy="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1117440" y="2519280"/>
              <a:ext cx="2559240" cy="340920"/>
            </a:xfrm>
            <a:custGeom>
              <a:avLst/>
              <a:gdLst/>
              <a:ahLst/>
              <a:rect l="l" t="t" r="r" b="b"/>
              <a:pathLst>
                <a:path w="1612" h="161">
                  <a:moveTo>
                    <a:pt x="0" y="133"/>
                  </a:moveTo>
                  <a:cubicBezTo>
                    <a:pt x="275" y="66"/>
                    <a:pt x="551" y="0"/>
                    <a:pt x="820" y="5"/>
                  </a:cubicBezTo>
                  <a:cubicBezTo>
                    <a:pt x="1089" y="10"/>
                    <a:pt x="1480" y="134"/>
                    <a:pt x="1612" y="161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>
              <a:off x="1073160" y="2021040"/>
              <a:ext cx="2641680" cy="782280"/>
            </a:xfrm>
            <a:custGeom>
              <a:avLst/>
              <a:gdLst/>
              <a:ahLst/>
              <a:rect l="l" t="t" r="r" b="b"/>
              <a:pathLst>
                <a:path w="1664" h="349">
                  <a:moveTo>
                    <a:pt x="0" y="317"/>
                  </a:moveTo>
                  <a:cubicBezTo>
                    <a:pt x="279" y="158"/>
                    <a:pt x="559" y="0"/>
                    <a:pt x="836" y="5"/>
                  </a:cubicBezTo>
                  <a:cubicBezTo>
                    <a:pt x="1113" y="10"/>
                    <a:pt x="1388" y="179"/>
                    <a:pt x="1664" y="349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1123920" y="2949480"/>
              <a:ext cx="2552760" cy="286920"/>
            </a:xfrm>
            <a:custGeom>
              <a:avLst/>
              <a:gdLst/>
              <a:ahLst/>
              <a:rect l="l" t="t" r="r" b="b"/>
              <a:pathLst>
                <a:path w="1608" h="181">
                  <a:moveTo>
                    <a:pt x="0" y="4"/>
                  </a:moveTo>
                  <a:cubicBezTo>
                    <a:pt x="278" y="92"/>
                    <a:pt x="556" y="181"/>
                    <a:pt x="824" y="180"/>
                  </a:cubicBezTo>
                  <a:cubicBezTo>
                    <a:pt x="1092" y="179"/>
                    <a:pt x="1477" y="30"/>
                    <a:pt x="160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1104840" y="3012840"/>
              <a:ext cx="2610000" cy="734760"/>
            </a:xfrm>
            <a:custGeom>
              <a:avLst/>
              <a:gdLst/>
              <a:ahLst/>
              <a:rect l="l" t="t" r="r" b="b"/>
              <a:pathLst>
                <a:path w="1644" h="349">
                  <a:moveTo>
                    <a:pt x="0" y="4"/>
                  </a:moveTo>
                  <a:cubicBezTo>
                    <a:pt x="273" y="176"/>
                    <a:pt x="546" y="349"/>
                    <a:pt x="820" y="348"/>
                  </a:cubicBezTo>
                  <a:cubicBezTo>
                    <a:pt x="1094" y="347"/>
                    <a:pt x="1369" y="173"/>
                    <a:pt x="164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85" name="Group 44"/>
          <p:cNvGrpSpPr/>
          <p:nvPr/>
        </p:nvGrpSpPr>
        <p:grpSpPr>
          <a:xfrm>
            <a:off x="5457960" y="1752480"/>
            <a:ext cx="1139760" cy="2406240"/>
            <a:chOff x="5457960" y="1752480"/>
            <a:chExt cx="1139760" cy="2406240"/>
          </a:xfrm>
        </p:grpSpPr>
        <p:sp>
          <p:nvSpPr>
            <p:cNvPr id="186" name="Freeform 34"/>
            <p:cNvSpPr/>
            <p:nvPr/>
          </p:nvSpPr>
          <p:spPr>
            <a:xfrm>
              <a:off x="5505480" y="17524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 flipV="1">
              <a:off x="5511960" y="29966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5457960" y="18954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 flipV="1">
              <a:off x="5502240" y="30632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0" name="Group 43"/>
          <p:cNvGrpSpPr/>
          <p:nvPr/>
        </p:nvGrpSpPr>
        <p:grpSpPr>
          <a:xfrm>
            <a:off x="6800400" y="1752480"/>
            <a:ext cx="1184760" cy="2423520"/>
            <a:chOff x="6800400" y="1752480"/>
            <a:chExt cx="1184760" cy="2423520"/>
          </a:xfrm>
        </p:grpSpPr>
        <p:sp>
          <p:nvSpPr>
            <p:cNvPr id="191" name="Freeform 36"/>
            <p:cNvSpPr/>
            <p:nvPr/>
          </p:nvSpPr>
          <p:spPr>
            <a:xfrm rot="10648800">
              <a:off x="6858000" y="29710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Freeform 37"/>
            <p:cNvSpPr/>
            <p:nvPr/>
          </p:nvSpPr>
          <p:spPr>
            <a:xfrm flipH="1">
              <a:off x="6800040" y="1752480"/>
              <a:ext cx="1143000" cy="11430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 flipH="1">
              <a:off x="7102440" y="1920960"/>
              <a:ext cx="866880" cy="9237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 flipH="1" flipV="1">
              <a:off x="7147080" y="3050280"/>
              <a:ext cx="838080" cy="10098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5" name="Group 45"/>
          <p:cNvGrpSpPr/>
          <p:nvPr/>
        </p:nvGrpSpPr>
        <p:grpSpPr>
          <a:xfrm>
            <a:off x="3681360" y="5372280"/>
            <a:ext cx="360360" cy="358560"/>
            <a:chOff x="3681360" y="5372280"/>
            <a:chExt cx="360360" cy="358560"/>
          </a:xfrm>
        </p:grpSpPr>
        <p:sp>
          <p:nvSpPr>
            <p:cNvPr id="196" name="Oval 46"/>
            <p:cNvSpPr/>
            <p:nvPr/>
          </p:nvSpPr>
          <p:spPr>
            <a:xfrm>
              <a:off x="3681360" y="5372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 flipH="1">
              <a:off x="3706200" y="5549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V="1">
              <a:off x="3859200" y="5405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1101600" y="4349880"/>
            <a:ext cx="1139760" cy="2406240"/>
            <a:chOff x="1101600" y="4349880"/>
            <a:chExt cx="1139760" cy="2406240"/>
          </a:xfrm>
        </p:grpSpPr>
        <p:sp>
          <p:nvSpPr>
            <p:cNvPr id="200" name="Freeform 50"/>
            <p:cNvSpPr/>
            <p:nvPr/>
          </p:nvSpPr>
          <p:spPr>
            <a:xfrm>
              <a:off x="1149120" y="43498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 flipV="1">
              <a:off x="1155600" y="55940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1101600" y="44928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 flipV="1">
              <a:off x="1145880" y="56606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4" name="Group 54"/>
          <p:cNvGrpSpPr/>
          <p:nvPr/>
        </p:nvGrpSpPr>
        <p:grpSpPr>
          <a:xfrm>
            <a:off x="2540160" y="4368960"/>
            <a:ext cx="1183320" cy="2423160"/>
            <a:chOff x="2540160" y="4368960"/>
            <a:chExt cx="1183320" cy="2423160"/>
          </a:xfrm>
        </p:grpSpPr>
        <p:sp>
          <p:nvSpPr>
            <p:cNvPr id="205" name="Freeform 55"/>
            <p:cNvSpPr/>
            <p:nvPr/>
          </p:nvSpPr>
          <p:spPr>
            <a:xfrm rot="10648800">
              <a:off x="2596680" y="5587560"/>
              <a:ext cx="1085400" cy="11808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 flipH="1">
              <a:off x="2540160" y="4368960"/>
              <a:ext cx="1142640" cy="114264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 flipH="1">
              <a:off x="2840760" y="4537080"/>
              <a:ext cx="866520" cy="9234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 flipH="1" flipV="1">
              <a:off x="2885400" y="5667120"/>
              <a:ext cx="837720" cy="100944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9" name="Group 108"/>
          <p:cNvGrpSpPr/>
          <p:nvPr/>
        </p:nvGrpSpPr>
        <p:grpSpPr>
          <a:xfrm>
            <a:off x="5238720" y="4400640"/>
            <a:ext cx="3340080" cy="2814120"/>
            <a:chOff x="5238720" y="4400640"/>
            <a:chExt cx="3340080" cy="2814120"/>
          </a:xfrm>
        </p:grpSpPr>
        <p:sp>
          <p:nvSpPr>
            <p:cNvPr id="210" name="Rectangle 93"/>
            <p:cNvSpPr/>
            <p:nvPr/>
          </p:nvSpPr>
          <p:spPr>
            <a:xfrm>
              <a:off x="5238720" y="4857840"/>
              <a:ext cx="3295800" cy="164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283360" y="6083280"/>
              <a:ext cx="3295440" cy="16524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Text Box 95"/>
            <p:cNvSpPr/>
            <p:nvPr/>
          </p:nvSpPr>
          <p:spPr>
            <a:xfrm>
              <a:off x="5562720" y="4400640"/>
              <a:ext cx="2571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mic Sans MS"/>
                </a:rPr>
                <a:t>Posi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Text Box 96"/>
            <p:cNvSpPr/>
            <p:nvPr/>
          </p:nvSpPr>
          <p:spPr>
            <a:xfrm>
              <a:off x="5657760" y="6267600"/>
              <a:ext cx="272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Nega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14" name="Group 107"/>
          <p:cNvGrpSpPr/>
          <p:nvPr/>
        </p:nvGrpSpPr>
        <p:grpSpPr>
          <a:xfrm>
            <a:off x="5003640" y="5010120"/>
            <a:ext cx="3876840" cy="1085760"/>
            <a:chOff x="5003640" y="5010120"/>
            <a:chExt cx="3876840" cy="1085760"/>
          </a:xfrm>
        </p:grpSpPr>
        <p:sp>
          <p:nvSpPr>
            <p:cNvPr id="215" name="Line 92"/>
            <p:cNvSpPr/>
            <p:nvPr/>
          </p:nvSpPr>
          <p:spPr>
            <a:xfrm>
              <a:off x="5391000" y="50482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6" name="Line 97"/>
            <p:cNvSpPr/>
            <p:nvPr/>
          </p:nvSpPr>
          <p:spPr>
            <a:xfrm>
              <a:off x="6197760" y="50356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7" name="Line 98"/>
            <p:cNvSpPr/>
            <p:nvPr/>
          </p:nvSpPr>
          <p:spPr>
            <a:xfrm>
              <a:off x="780408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8" name="Line 99"/>
            <p:cNvSpPr/>
            <p:nvPr/>
          </p:nvSpPr>
          <p:spPr>
            <a:xfrm>
              <a:off x="7429680" y="50673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9" name="Line 100"/>
            <p:cNvSpPr/>
            <p:nvPr/>
          </p:nvSpPr>
          <p:spPr>
            <a:xfrm>
              <a:off x="661680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0" name="Line 101"/>
            <p:cNvSpPr/>
            <p:nvPr/>
          </p:nvSpPr>
          <p:spPr>
            <a:xfrm>
              <a:off x="8178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1" name="Line 102"/>
            <p:cNvSpPr/>
            <p:nvPr/>
          </p:nvSpPr>
          <p:spPr>
            <a:xfrm>
              <a:off x="578484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2" name="Line 103"/>
            <p:cNvSpPr/>
            <p:nvPr/>
          </p:nvSpPr>
          <p:spPr>
            <a:xfrm>
              <a:off x="8477280" y="50292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3" name="Line 104"/>
            <p:cNvSpPr/>
            <p:nvPr/>
          </p:nvSpPr>
          <p:spPr>
            <a:xfrm>
              <a:off x="7035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5003640" y="5010120"/>
              <a:ext cx="349560" cy="1085760"/>
            </a:xfrm>
            <a:custGeom>
              <a:avLst/>
              <a:gdLst/>
              <a:ahLst/>
              <a:rect l="l" t="t" r="r" b="b"/>
              <a:pathLst>
                <a:path w="280" h="684">
                  <a:moveTo>
                    <a:pt x="256" y="0"/>
                  </a:moveTo>
                  <a:cubicBezTo>
                    <a:pt x="128" y="129"/>
                    <a:pt x="0" y="258"/>
                    <a:pt x="4" y="372"/>
                  </a:cubicBezTo>
                  <a:cubicBezTo>
                    <a:pt x="8" y="486"/>
                    <a:pt x="240" y="636"/>
                    <a:pt x="280" y="68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8534520" y="5067360"/>
              <a:ext cx="345960" cy="990720"/>
            </a:xfrm>
            <a:custGeom>
              <a:avLst/>
              <a:gdLst/>
              <a:ahLst/>
              <a:rect l="l" t="t" r="r" b="b"/>
              <a:pathLst>
                <a:path w="218" h="624">
                  <a:moveTo>
                    <a:pt x="12" y="0"/>
                  </a:moveTo>
                  <a:cubicBezTo>
                    <a:pt x="115" y="110"/>
                    <a:pt x="218" y="220"/>
                    <a:pt x="216" y="324"/>
                  </a:cubicBezTo>
                  <a:cubicBezTo>
                    <a:pt x="214" y="428"/>
                    <a:pt x="107" y="526"/>
                    <a:pt x="0" y="62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6" name="Text Box 109"/>
          <p:cNvSpPr/>
          <p:nvPr/>
        </p:nvSpPr>
        <p:spPr>
          <a:xfrm>
            <a:off x="3581280" y="3695760"/>
            <a:ext cx="1638360" cy="947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utral Po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AutoShape 110"/>
          <p:cNvSpPr/>
          <p:nvPr/>
        </p:nvSpPr>
        <p:spPr>
          <a:xfrm flipV="1" rot="19391400">
            <a:off x="4970520" y="3326400"/>
            <a:ext cx="1922400" cy="387000"/>
          </a:xfrm>
          <a:prstGeom prst="rightArrow">
            <a:avLst>
              <a:gd name="adj1" fmla="val 50000"/>
              <a:gd name="adj2" fmla="val 12418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AutoShape 111"/>
          <p:cNvSpPr/>
          <p:nvPr/>
        </p:nvSpPr>
        <p:spPr>
          <a:xfrm flipV="1" rot="8366400">
            <a:off x="2157480" y="4762080"/>
            <a:ext cx="1922400" cy="387720"/>
          </a:xfrm>
          <a:prstGeom prst="rightArrow">
            <a:avLst>
              <a:gd name="adj1" fmla="val 50000"/>
              <a:gd name="adj2" fmla="val 1239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Text Box 112"/>
          <p:cNvSpPr/>
          <p:nvPr/>
        </p:nvSpPr>
        <p:spPr>
          <a:xfrm>
            <a:off x="361800" y="1467000"/>
            <a:ext cx="45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field is from + to 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99960" y="9540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Gold Leaf Electroscop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1" name="Group 138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232" name="AutoShape 6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6" name="Line 11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4052880" y="1469880"/>
            <a:ext cx="227160" cy="244800"/>
            <a:chOff x="4052880" y="1469880"/>
            <a:chExt cx="227160" cy="244800"/>
          </a:xfrm>
        </p:grpSpPr>
        <p:sp>
          <p:nvSpPr>
            <p:cNvPr id="238" name="Oval 16"/>
            <p:cNvSpPr/>
            <p:nvPr/>
          </p:nvSpPr>
          <p:spPr>
            <a:xfrm>
              <a:off x="4052880" y="146988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4098960" y="15912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0" name="Group 18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241" name="Oval 19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4" name="Group 26"/>
          <p:cNvGrpSpPr/>
          <p:nvPr/>
        </p:nvGrpSpPr>
        <p:grpSpPr>
          <a:xfrm>
            <a:off x="3608280" y="1463760"/>
            <a:ext cx="227160" cy="244440"/>
            <a:chOff x="3608280" y="1463760"/>
            <a:chExt cx="227160" cy="244440"/>
          </a:xfrm>
        </p:grpSpPr>
        <p:sp>
          <p:nvSpPr>
            <p:cNvPr id="245" name="Oval 27"/>
            <p:cNvSpPr/>
            <p:nvPr/>
          </p:nvSpPr>
          <p:spPr>
            <a:xfrm>
              <a:off x="360828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Line 28"/>
            <p:cNvSpPr/>
            <p:nvPr/>
          </p:nvSpPr>
          <p:spPr>
            <a:xfrm>
              <a:off x="365436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248" name="Oval 3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Line 3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4935600" y="1463760"/>
            <a:ext cx="226800" cy="244440"/>
            <a:chOff x="4935600" y="1463760"/>
            <a:chExt cx="226800" cy="244440"/>
          </a:xfrm>
        </p:grpSpPr>
        <p:sp>
          <p:nvSpPr>
            <p:cNvPr id="252" name="Oval 34"/>
            <p:cNvSpPr/>
            <p:nvPr/>
          </p:nvSpPr>
          <p:spPr>
            <a:xfrm>
              <a:off x="4935600" y="146376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35"/>
            <p:cNvSpPr/>
            <p:nvPr/>
          </p:nvSpPr>
          <p:spPr>
            <a:xfrm>
              <a:off x="4981320" y="158472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4" name="Group 3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255" name="Oval 3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3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3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4491000" y="1463760"/>
            <a:ext cx="227160" cy="244440"/>
            <a:chOff x="4491000" y="1463760"/>
            <a:chExt cx="227160" cy="244440"/>
          </a:xfrm>
        </p:grpSpPr>
        <p:sp>
          <p:nvSpPr>
            <p:cNvPr id="259" name="Oval 41"/>
            <p:cNvSpPr/>
            <p:nvPr/>
          </p:nvSpPr>
          <p:spPr>
            <a:xfrm>
              <a:off x="449100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42"/>
            <p:cNvSpPr/>
            <p:nvPr/>
          </p:nvSpPr>
          <p:spPr>
            <a:xfrm>
              <a:off x="453708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1" name="Group 4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262" name="Oval 4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4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Line 4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5" name="Group 47"/>
          <p:cNvGrpSpPr/>
          <p:nvPr/>
        </p:nvGrpSpPr>
        <p:grpSpPr>
          <a:xfrm>
            <a:off x="815040" y="568080"/>
            <a:ext cx="3400200" cy="1624680"/>
            <a:chOff x="815040" y="568080"/>
            <a:chExt cx="3400200" cy="1624680"/>
          </a:xfrm>
        </p:grpSpPr>
        <p:sp>
          <p:nvSpPr>
            <p:cNvPr id="266" name="AutoShape 48"/>
            <p:cNvSpPr/>
            <p:nvPr/>
          </p:nvSpPr>
          <p:spPr>
            <a:xfrm rot="4368000">
              <a:off x="2184120" y="-296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Oval 49"/>
            <p:cNvSpPr/>
            <p:nvPr/>
          </p:nvSpPr>
          <p:spPr>
            <a:xfrm>
              <a:off x="3313080" y="919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Oval 50"/>
            <p:cNvSpPr/>
            <p:nvPr/>
          </p:nvSpPr>
          <p:spPr>
            <a:xfrm>
              <a:off x="2368440" y="11955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Oval 51"/>
            <p:cNvSpPr/>
            <p:nvPr/>
          </p:nvSpPr>
          <p:spPr>
            <a:xfrm>
              <a:off x="1393920" y="146952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0" name="Group 59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271" name="Oval 60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Line 61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3" name="Group 77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274" name="Oval 78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9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0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7" name="Group 103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278" name="Oval 104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105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0" name="Group 106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281" name="Oval 107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108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109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4" name="Group 113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285" name="Oval 114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115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116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8" name="Group 117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289" name="Oval 118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Line 119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1" name="Group 120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292" name="Oval 121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Line 122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Line 123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5" name="Group 124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296" name="Oval 125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Line 126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8" name="Group 127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299" name="Oval 128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129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130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02" name="Group 131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03" name="Oval 132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133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5" name="Line 139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6 C -0.0066 -0.00649 -0.00886 -0.01343 -0.0125 -0.02223 C -0.01407 -0.02616 -0.01615 -0.02964 -0.01806 -0.03334 C -0.02101 -0.03936 -0.0217 -0.05302 -0.02223 -0.05927 C -0.02448 -0.08843 -0.02188 -0.12154 -0.02778 -0.15001 C -0.02865 -0.15394 -0.03091 -0.15718 -0.03195 -0.16112 C -0.03334 -0.17385 -0.03646 -0.18751 -0.03334 -0.20001 C -0.03282 -0.20672 -0.03195 -0.21366 -0.03195 -0.22038 C -0.03195 -0.22223 -0.03351 -0.22408 -0.03334 -0.22593 C -0.03299 -0.22987 -0.03056 -0.23704 -0.03056 -0.23704 C -0.03143 -0.26251 -0.03282 -0.27848 -0.03473 -0.30186 C -0.03386 -0.30556 -0.0316 -0.32084 -0.02778 -0.32408 C -0.02778 -0.32408 -0.01736 -0.32871 -0.01528 -0.32964 C 0.01475 -0.34306 -0.0125 -0.33149 0.07083 -0.33334 C 0.07361 -0.33404 0.07656 -0.33404 0.07916 -0.33519 C 0.08316 -0.33704 0.08489 -0.34445 0.08889 -0.34445 E">
                                      <p:cBhvr>
                                        <p:cTn id="35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C -0.00139 -0.00069 -0.00313 -0.00046 -0.00417 -0.00185 C -0.00591 -0.00416 -0.01059 -0.02222 -0.01111 -0.02407 C -0.0132 -0.0324 -0.01615 -0.04004 -0.02084 -0.04629 C -0.0224 -0.05231 -0.02483 -0.05694 -0.02639 -0.06296 C -0.02639 -0.06504 -0.02691 -0.11319 -0.02917 -0.12777 C -0.03386 -0.15926 -0.02934 -0.11713 -0.0375 -0.15 C -0.03837 -0.1537 -0.03941 -0.1574 -0.04028 -0.16111 C -0.0408 -0.16296 -0.04167 -0.16666 -0.04167 -0.16666 C -0.04236 -0.18796 -0.04063 -0.22523 -0.04584 -0.24629 C -0.04636 -0.2544 -0.04827 -0.26227 -0.04861 -0.27037 C -0.04948 -0.29051 -0.04723 -0.32222 -0.05278 -0.34444 C -0.05104 -0.35393 -0.04948 -0.36296 -0.04723 -0.37222 C -0.04618 -0.37639 -0.04271 -0.37916 -0.04167 -0.38333 C -0.03959 -0.3919 -0.03872 -0.39398 -0.03195 -0.39629 C -0.01632 -0.41018 0.00104 -0.40555 0.01944 -0.40555 E">
                                      <p:cBhvr>
                                        <p:cTn id="356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C 0.00416 -0.00833 0.00555 -0.01643 0.00694 -0.02592 C 0.00798 -0.05787 0.00885 -0.08889 0.00416 -0.12037 C 0.00503 -0.12407 0.00538 -0.12824 0.00694 -0.13148 C 0.00781 -0.13333 0.00902 -0.13495 0.00972 -0.13703 C 0.01093 -0.14051 0.01163 -0.14444 0.0125 -0.14814 C 0.01302 -0.15 0.01389 -0.1537 0.01389 -0.1537 C 0.01562 -0.175 0.01458 -0.19421 0.01527 -0.21666 C 0.01406 -0.23194 0.0158 -0.24606 0.01389 -0.26111 C 0.01597 -0.28958 0.01788 -0.31574 0.0125 -0.34444 C 0.01111 -0.35139 0.01111 -0.35926 0.00694 -0.36481 C 0.00225 -0.37106 0.00364 -0.36666 -0.00139 -0.37037 C -0.01754 -0.3824 -0.00191 -0.3743 -0.01806 -0.38148 C -0.02379 -0.38402 -0.03004 -0.38148 -0.03611 -0.38148 E">
                                      <p:cBhvr>
                                        <p:cTn id="359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8 0.00857 C -0.01285 -0.00393 -0.01719 0.00972 -0.01042 -0.00069 C 0.00086 -0.01805 -0.01007 -0.00717 -0.0007 -0.01551 C 0.00277 -0.0294 -0.00226 -0.01273 0.00486 -0.02477 C 0.00677 -0.02801 0.00729 -0.03241 0.00902 -0.03588 C 0.00746 -0.06157 0.00416 -0.08611 0.00902 -0.1118 C 0.01076 -0.15416 0.01788 -0.20208 0.00764 -0.24329 C 0.00677 -0.25324 0.00573 -0.27454 -0.0007 -0.28217 C -0.00313 -0.28518 -0.0066 -0.28634 -0.00903 -0.28958 C -0.01354 -0.2956 -0.02049 -0.30023 -0.02709 -0.30069 C -0.08872 -0.30416 -0.07275 -0.28379 -0.0882 -0.3044 E">
                                      <p:cBhvr>
                                        <p:cTn id="36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0.02638 -0.04445 E">
                                      <p:cBhvr>
                                        <p:cTn id="37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3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307" name="AutoShape 4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1" name="Line 8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12" name="Group 9"/>
          <p:cNvGrpSpPr/>
          <p:nvPr/>
        </p:nvGrpSpPr>
        <p:grpSpPr>
          <a:xfrm>
            <a:off x="4052880" y="1508040"/>
            <a:ext cx="227160" cy="244440"/>
            <a:chOff x="4052880" y="1508040"/>
            <a:chExt cx="227160" cy="244440"/>
          </a:xfrm>
        </p:grpSpPr>
        <p:sp>
          <p:nvSpPr>
            <p:cNvPr id="313" name="Oval 10"/>
            <p:cNvSpPr/>
            <p:nvPr/>
          </p:nvSpPr>
          <p:spPr>
            <a:xfrm>
              <a:off x="4052880" y="150804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4098960" y="16290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316" name="Oval 13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3608280" y="1488960"/>
            <a:ext cx="227160" cy="244440"/>
            <a:chOff x="3608280" y="1488960"/>
            <a:chExt cx="227160" cy="244440"/>
          </a:xfrm>
        </p:grpSpPr>
        <p:sp>
          <p:nvSpPr>
            <p:cNvPr id="320" name="Oval 17"/>
            <p:cNvSpPr/>
            <p:nvPr/>
          </p:nvSpPr>
          <p:spPr>
            <a:xfrm>
              <a:off x="3608280" y="1488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Line 18"/>
            <p:cNvSpPr/>
            <p:nvPr/>
          </p:nvSpPr>
          <p:spPr>
            <a:xfrm>
              <a:off x="3654360" y="1609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323" name="Oval 2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Line 2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Line 2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6" name="Group 23"/>
          <p:cNvGrpSpPr/>
          <p:nvPr/>
        </p:nvGrpSpPr>
        <p:grpSpPr>
          <a:xfrm>
            <a:off x="4935600" y="1552680"/>
            <a:ext cx="226800" cy="244440"/>
            <a:chOff x="4935600" y="1552680"/>
            <a:chExt cx="226800" cy="244440"/>
          </a:xfrm>
        </p:grpSpPr>
        <p:sp>
          <p:nvSpPr>
            <p:cNvPr id="327" name="Oval 24"/>
            <p:cNvSpPr/>
            <p:nvPr/>
          </p:nvSpPr>
          <p:spPr>
            <a:xfrm>
              <a:off x="4935600" y="155268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4981320" y="167364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9" name="Group 2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330" name="Oval 2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3" name="Group 30"/>
          <p:cNvGrpSpPr/>
          <p:nvPr/>
        </p:nvGrpSpPr>
        <p:grpSpPr>
          <a:xfrm>
            <a:off x="4491000" y="1527120"/>
            <a:ext cx="227160" cy="244440"/>
            <a:chOff x="4491000" y="1527120"/>
            <a:chExt cx="227160" cy="244440"/>
          </a:xfrm>
        </p:grpSpPr>
        <p:sp>
          <p:nvSpPr>
            <p:cNvPr id="334" name="Oval 31"/>
            <p:cNvSpPr/>
            <p:nvPr/>
          </p:nvSpPr>
          <p:spPr>
            <a:xfrm>
              <a:off x="4491000" y="1527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4537080" y="1648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337" name="Oval 3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3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Line 3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0" name="Group 42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341" name="Oval 43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Line 44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344" name="Oval 46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Line 47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Line 48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7" name="Group 49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348" name="Oval 50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Line 51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351" name="Oval 53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Line 54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Line 55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4" name="Group 56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355" name="Oval 57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58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59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359" name="Oval 61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62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1" name="Group 63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362" name="Oval 64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65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Line 66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5" name="Group 67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366" name="Oval 68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Line 69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369" name="Oval 71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72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73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72" name="Group 74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73" name="Oval 75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76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75" name="Line 77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76" name="Group 78"/>
          <p:cNvGrpSpPr/>
          <p:nvPr/>
        </p:nvGrpSpPr>
        <p:grpSpPr>
          <a:xfrm>
            <a:off x="509400" y="549000"/>
            <a:ext cx="3421080" cy="1695240"/>
            <a:chOff x="509400" y="549000"/>
            <a:chExt cx="3421080" cy="1695240"/>
          </a:xfrm>
        </p:grpSpPr>
        <p:sp>
          <p:nvSpPr>
            <p:cNvPr id="377" name="AutoShape 79"/>
            <p:cNvSpPr/>
            <p:nvPr/>
          </p:nvSpPr>
          <p:spPr>
            <a:xfrm rot="15165000">
              <a:off x="1852920" y="-2804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8" name="Oval 80"/>
            <p:cNvSpPr/>
            <p:nvPr/>
          </p:nvSpPr>
          <p:spPr>
            <a:xfrm>
              <a:off x="3186000" y="8571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9" name="Oval 81"/>
            <p:cNvSpPr/>
            <p:nvPr/>
          </p:nvSpPr>
          <p:spPr>
            <a:xfrm>
              <a:off x="2087640" y="114768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0" name="Oval 82"/>
            <p:cNvSpPr/>
            <p:nvPr/>
          </p:nvSpPr>
          <p:spPr>
            <a:xfrm>
              <a:off x="1144440" y="14670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6.2963E-006 C 0.01667 0.0074 -0.00833 -0.00255 0.00834 -6.2963E-006 C 0.01285 0.00069 0.01633 0.00694 0.02084 0.0074 C 0.04063 0.00902 0.0606 0.00856 0.08056 0.00925 C 0.08664 0.00995 0.09289 0.00879 0.09862 0.0111 C 0.10001 0.01157 0.09966 0.01481 0.10001 0.01666 C 0.1007 0.02036 0.10087 0.02407 0.1014 0.02777 C 0.10435 0.04722 0.10695 0.07245 0.11528 0.08888 C 0.11494 0.11411 0.11824 0.20833 0.11112 0.24629 C 0.10956 0.39189 0.10973 0.33518 0.10973 0.41666 E">
                                      <p:cBhvr>
                                        <p:cTn id="419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02639 -0.07592 E">
                                      <p:cBhvr>
                                        <p:cTn id="42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0.02083 -0.05186 E">
                                      <p:cBhvr>
                                        <p:cTn id="42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0555 -0.00926 E">
                                      <p:cBhvr>
                                        <p:cTn id="431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2152 C -0.00347 0.02592 0.0007 0.02638 -0.00625 0.02338 C -0.02274 0.03078 -0.03246 0.03125 -0.05208 0.03263 C -0.05955 0.03588 -0.06632 0.03611 -0.07291 0.04189 C -0.08819 0.07245 -0.06562 0.11805 -0.08125 0.1493 C -0.08211 0.17476 -0.08159 0.20208 -0.08541 0.22708 C -0.08489 0.23078 -0.08385 0.23449 -0.08402 0.23819 C -0.0842 0.24213 -0.0868 0.2493 -0.0868 0.2493 C -0.08593 0.27152 -0.08784 0.29351 -0.07291 0.30671 C -0.06632 0.3199 -0.07066 0.31666 -0.0618 0.31967 C -0.05902 0.32222 -0.05659 0.32569 -0.05347 0.32708 C -0.05208 0.32777 -0.05052 0.32801 -0.0493 0.32893 C -0.03784 0.33726 -0.03038 0.34583 -0.01736 0.3493 C -0.01458 0.35185 -0.00902 0.35671 -0.00902 0.35671 E">
                                      <p:cBhvr>
                                        <p:cTn id="43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92593E-006 C 0.00607 0.00278 0.0118 0.00533 0.01805 0.00741 C 0.02882 0.00533 0.03628 0.00764 0.04722 0.00926 C 0.04861 0.01042 0.05052 0.01112 0.05138 0.01297 C 0.05295 0.01621 0.05416 0.02408 0.05416 0.02408 C 0.05503 0.04306 0.05729 0.05973 0.05277 0.07778 C 0.05416 0.11089 0.05243 0.14075 0.05138 0.17408 C 0.05191 0.1963 0.05416 0.21852 0.05416 0.24075 C 0.05416 0.24214 0.05191 0.2588 0.05138 0.26112 C 0.05069 0.26482 0.04861 0.27223 0.04861 0.27223 C 0.04965 0.28612 0.04982 0.29769 0.05555 0.30926 C 0.05711 0.33889 0.05694 0.32663 0.05694 0.3463 E">
                                      <p:cBhvr>
                                        <p:cTn id="437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C 0.00712 0.01435 0.00156 0.00115 0.00417 0.03518 C 0.00486 0.04328 0.00781 0.05139 0.00972 0.05926 C 0.01198 0.06828 0.01163 0.07801 0.01389 0.08703 C 0.01424 0.09537 0.01875 0.13611 0.01528 0.15 C 0.01614 0.16203 0.01649 0.17361 0.01944 0.18518 C 0.01389 0.2074 0.02361 0.23148 0.01805 0.2537 C 0.01892 0.2574 0.02049 0.26088 0.02083 0.26481 C 0.02135 0.26967 0.02118 0.27477 0.02222 0.27963 C 0.02274 0.28171 0.0243 0.2831 0.025 0.28518 C 0.02569 0.28703 0.02535 0.28935 0.02639 0.29074 C 0.02812 0.29305 0.03108 0.29305 0.03333 0.29444 E">
                                      <p:cBhvr>
                                        <p:cTn id="44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7.40741E-007 C -0.00138 0.00186 -0.00242 0.0044 -0.00416 0.00556 C -0.00677 0.00741 -0.01249 0.00926 -0.01249 0.00926 C -0.02048 0.02524 -0.00989 0.00649 -0.01944 0.01667 C -0.02222 0.01968 -0.02378 0.02431 -0.02638 0.02778 C -0.02725 0.03149 -0.03177 0.03311 -0.03194 0.03704 C -0.0342 0.075 -0.03003 0.1801 -0.03888 0.22778 C -0.03836 0.23704 -0.03802 0.2463 -0.03749 0.25556 C -0.03645 0.27292 -0.03854 0.28172 -0.02638 0.28704 C -0.02499 0.28635 -0.02361 0.28449 -0.02222 0.28519 C -0.01649 0.28774 -0.00607 0.29885 -0.00138 0.30371 C 0.00122 0.30649 0.00695 0.31111 0.00695 0.31111 E">
                                      <p:cBhvr>
                                        <p:cTn id="443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257480" y="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205560" y="892080"/>
            <a:ext cx="3400200" cy="1624680"/>
            <a:chOff x="205560" y="892080"/>
            <a:chExt cx="3400200" cy="1624680"/>
          </a:xfrm>
        </p:grpSpPr>
        <p:sp>
          <p:nvSpPr>
            <p:cNvPr id="383" name="AutoShape 6"/>
            <p:cNvSpPr/>
            <p:nvPr/>
          </p:nvSpPr>
          <p:spPr>
            <a:xfrm rot="4368000">
              <a:off x="1574640" y="2700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03600" y="1243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5" name="Oval 8"/>
            <p:cNvSpPr/>
            <p:nvPr/>
          </p:nvSpPr>
          <p:spPr>
            <a:xfrm>
              <a:off x="1758960" y="151920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6" name="Oval 9"/>
            <p:cNvSpPr/>
            <p:nvPr/>
          </p:nvSpPr>
          <p:spPr>
            <a:xfrm>
              <a:off x="784440" y="17931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87" name="Oval 10"/>
          <p:cNvSpPr/>
          <p:nvPr/>
        </p:nvSpPr>
        <p:spPr>
          <a:xfrm>
            <a:off x="4286160" y="743040"/>
            <a:ext cx="152424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6496200" y="5335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The positive rod attracts the ballo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590400" y="26100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Comic Sans MS"/>
              </a:rPr>
              <a:t>So the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6781680" y="1981080"/>
            <a:ext cx="21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1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1" name="Group 49"/>
          <p:cNvGrpSpPr/>
          <p:nvPr/>
        </p:nvGrpSpPr>
        <p:grpSpPr>
          <a:xfrm>
            <a:off x="421560" y="3622680"/>
            <a:ext cx="3399840" cy="1624320"/>
            <a:chOff x="421560" y="3622680"/>
            <a:chExt cx="3399840" cy="1624320"/>
          </a:xfrm>
        </p:grpSpPr>
        <p:sp>
          <p:nvSpPr>
            <p:cNvPr id="392" name="AutoShape 50"/>
            <p:cNvSpPr/>
            <p:nvPr/>
          </p:nvSpPr>
          <p:spPr>
            <a:xfrm rot="4368000">
              <a:off x="1790280" y="2757600"/>
              <a:ext cx="66168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3" name="Oval 51"/>
            <p:cNvSpPr/>
            <p:nvPr/>
          </p:nvSpPr>
          <p:spPr>
            <a:xfrm>
              <a:off x="2919240" y="397368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4" name="Oval 52"/>
            <p:cNvSpPr/>
            <p:nvPr/>
          </p:nvSpPr>
          <p:spPr>
            <a:xfrm>
              <a:off x="1974600" y="424980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5" name="Oval 53"/>
            <p:cNvSpPr/>
            <p:nvPr/>
          </p:nvSpPr>
          <p:spPr>
            <a:xfrm>
              <a:off x="1000080" y="4523760"/>
              <a:ext cx="38196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96" name="Oval 54"/>
          <p:cNvSpPr/>
          <p:nvPr/>
        </p:nvSpPr>
        <p:spPr>
          <a:xfrm>
            <a:off x="4387680" y="3492360"/>
            <a:ext cx="152424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7" name="Group 55"/>
          <p:cNvGrpSpPr/>
          <p:nvPr/>
        </p:nvGrpSpPr>
        <p:grpSpPr>
          <a:xfrm>
            <a:off x="4681440" y="4317840"/>
            <a:ext cx="227160" cy="244800"/>
            <a:chOff x="4681440" y="4317840"/>
            <a:chExt cx="227160" cy="244800"/>
          </a:xfrm>
        </p:grpSpPr>
        <p:sp>
          <p:nvSpPr>
            <p:cNvPr id="398" name="Oval 56"/>
            <p:cNvSpPr/>
            <p:nvPr/>
          </p:nvSpPr>
          <p:spPr>
            <a:xfrm>
              <a:off x="4681440" y="431784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9" name="Line 57"/>
            <p:cNvSpPr/>
            <p:nvPr/>
          </p:nvSpPr>
          <p:spPr>
            <a:xfrm>
              <a:off x="4727520" y="44391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0" name="Group 58"/>
          <p:cNvGrpSpPr/>
          <p:nvPr/>
        </p:nvGrpSpPr>
        <p:grpSpPr>
          <a:xfrm>
            <a:off x="5119560" y="3825720"/>
            <a:ext cx="189000" cy="244800"/>
            <a:chOff x="5119560" y="3825720"/>
            <a:chExt cx="189000" cy="244800"/>
          </a:xfrm>
        </p:grpSpPr>
        <p:sp>
          <p:nvSpPr>
            <p:cNvPr id="401" name="Oval 59"/>
            <p:cNvSpPr/>
            <p:nvPr/>
          </p:nvSpPr>
          <p:spPr>
            <a:xfrm>
              <a:off x="5119560" y="382572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2" name="Line 60"/>
            <p:cNvSpPr/>
            <p:nvPr/>
          </p:nvSpPr>
          <p:spPr>
            <a:xfrm flipH="1">
              <a:off x="5132160" y="39470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 flipV="1">
              <a:off x="5212800" y="384840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4" name="Group 62"/>
          <p:cNvGrpSpPr/>
          <p:nvPr/>
        </p:nvGrpSpPr>
        <p:grpSpPr>
          <a:xfrm>
            <a:off x="4979880" y="4035600"/>
            <a:ext cx="227160" cy="244440"/>
            <a:chOff x="4979880" y="4035600"/>
            <a:chExt cx="227160" cy="244440"/>
          </a:xfrm>
        </p:grpSpPr>
        <p:sp>
          <p:nvSpPr>
            <p:cNvPr id="405" name="Oval 63"/>
            <p:cNvSpPr/>
            <p:nvPr/>
          </p:nvSpPr>
          <p:spPr>
            <a:xfrm>
              <a:off x="4979880" y="403560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>
              <a:off x="5025960" y="41565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7" name="Group 65"/>
          <p:cNvGrpSpPr/>
          <p:nvPr/>
        </p:nvGrpSpPr>
        <p:grpSpPr>
          <a:xfrm>
            <a:off x="4516560" y="4200480"/>
            <a:ext cx="188640" cy="244440"/>
            <a:chOff x="4516560" y="4200480"/>
            <a:chExt cx="188640" cy="244440"/>
          </a:xfrm>
        </p:grpSpPr>
        <p:sp>
          <p:nvSpPr>
            <p:cNvPr id="408" name="Oval 66"/>
            <p:cNvSpPr/>
            <p:nvPr/>
          </p:nvSpPr>
          <p:spPr>
            <a:xfrm>
              <a:off x="4516560" y="420048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9" name="Line 67"/>
            <p:cNvSpPr/>
            <p:nvPr/>
          </p:nvSpPr>
          <p:spPr>
            <a:xfrm flipH="1">
              <a:off x="4529520" y="432144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0" name="Line 68"/>
            <p:cNvSpPr/>
            <p:nvPr/>
          </p:nvSpPr>
          <p:spPr>
            <a:xfrm flipV="1">
              <a:off x="4609440" y="42228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1" name="Group 69"/>
          <p:cNvGrpSpPr/>
          <p:nvPr/>
        </p:nvGrpSpPr>
        <p:grpSpPr>
          <a:xfrm>
            <a:off x="5316480" y="4044960"/>
            <a:ext cx="227160" cy="244440"/>
            <a:chOff x="5316480" y="4044960"/>
            <a:chExt cx="227160" cy="244440"/>
          </a:xfrm>
        </p:grpSpPr>
        <p:sp>
          <p:nvSpPr>
            <p:cNvPr id="412" name="Oval 70"/>
            <p:cNvSpPr/>
            <p:nvPr/>
          </p:nvSpPr>
          <p:spPr>
            <a:xfrm>
              <a:off x="5316480" y="4044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71"/>
            <p:cNvSpPr/>
            <p:nvPr/>
          </p:nvSpPr>
          <p:spPr>
            <a:xfrm>
              <a:off x="5362560" y="4165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4" name="Group 72"/>
          <p:cNvGrpSpPr/>
          <p:nvPr/>
        </p:nvGrpSpPr>
        <p:grpSpPr>
          <a:xfrm>
            <a:off x="4735440" y="3562200"/>
            <a:ext cx="189000" cy="244800"/>
            <a:chOff x="4735440" y="3562200"/>
            <a:chExt cx="189000" cy="244800"/>
          </a:xfrm>
        </p:grpSpPr>
        <p:sp>
          <p:nvSpPr>
            <p:cNvPr id="415" name="Oval 73"/>
            <p:cNvSpPr/>
            <p:nvPr/>
          </p:nvSpPr>
          <p:spPr>
            <a:xfrm>
              <a:off x="4735440" y="356220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74"/>
            <p:cNvSpPr/>
            <p:nvPr/>
          </p:nvSpPr>
          <p:spPr>
            <a:xfrm flipH="1">
              <a:off x="4748040" y="3683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Line 75"/>
            <p:cNvSpPr/>
            <p:nvPr/>
          </p:nvSpPr>
          <p:spPr>
            <a:xfrm flipV="1">
              <a:off x="4828680" y="358488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8" name="Group 76"/>
          <p:cNvGrpSpPr/>
          <p:nvPr/>
        </p:nvGrpSpPr>
        <p:grpSpPr>
          <a:xfrm>
            <a:off x="4576680" y="3720960"/>
            <a:ext cx="227160" cy="244440"/>
            <a:chOff x="4576680" y="3720960"/>
            <a:chExt cx="227160" cy="244440"/>
          </a:xfrm>
        </p:grpSpPr>
        <p:sp>
          <p:nvSpPr>
            <p:cNvPr id="419" name="Oval 77"/>
            <p:cNvSpPr/>
            <p:nvPr/>
          </p:nvSpPr>
          <p:spPr>
            <a:xfrm>
              <a:off x="4576680" y="3720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0" name="Line 78"/>
            <p:cNvSpPr/>
            <p:nvPr/>
          </p:nvSpPr>
          <p:spPr>
            <a:xfrm>
              <a:off x="4622760" y="3841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1" name="Group 79"/>
          <p:cNvGrpSpPr/>
          <p:nvPr/>
        </p:nvGrpSpPr>
        <p:grpSpPr>
          <a:xfrm>
            <a:off x="5440320" y="4257720"/>
            <a:ext cx="189000" cy="244440"/>
            <a:chOff x="5440320" y="4257720"/>
            <a:chExt cx="189000" cy="244440"/>
          </a:xfrm>
        </p:grpSpPr>
        <p:sp>
          <p:nvSpPr>
            <p:cNvPr id="422" name="Oval 80"/>
            <p:cNvSpPr/>
            <p:nvPr/>
          </p:nvSpPr>
          <p:spPr>
            <a:xfrm>
              <a:off x="5440320" y="42577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Line 81"/>
            <p:cNvSpPr/>
            <p:nvPr/>
          </p:nvSpPr>
          <p:spPr>
            <a:xfrm flipH="1">
              <a:off x="5452920" y="43786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Line 82"/>
            <p:cNvSpPr/>
            <p:nvPr/>
          </p:nvSpPr>
          <p:spPr>
            <a:xfrm flipV="1">
              <a:off x="5533560" y="42800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5" name="Group 83"/>
          <p:cNvGrpSpPr/>
          <p:nvPr/>
        </p:nvGrpSpPr>
        <p:grpSpPr>
          <a:xfrm>
            <a:off x="5535720" y="3755880"/>
            <a:ext cx="226800" cy="244800"/>
            <a:chOff x="5535720" y="3755880"/>
            <a:chExt cx="226800" cy="244800"/>
          </a:xfrm>
        </p:grpSpPr>
        <p:sp>
          <p:nvSpPr>
            <p:cNvPr id="426" name="Oval 84"/>
            <p:cNvSpPr/>
            <p:nvPr/>
          </p:nvSpPr>
          <p:spPr>
            <a:xfrm>
              <a:off x="5535720" y="3755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Line 85"/>
            <p:cNvSpPr/>
            <p:nvPr/>
          </p:nvSpPr>
          <p:spPr>
            <a:xfrm>
              <a:off x="5581440" y="3877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86"/>
          <p:cNvGrpSpPr/>
          <p:nvPr/>
        </p:nvGrpSpPr>
        <p:grpSpPr>
          <a:xfrm>
            <a:off x="5424480" y="3581280"/>
            <a:ext cx="189000" cy="244440"/>
            <a:chOff x="5424480" y="3581280"/>
            <a:chExt cx="189000" cy="244440"/>
          </a:xfrm>
        </p:grpSpPr>
        <p:sp>
          <p:nvSpPr>
            <p:cNvPr id="429" name="Oval 87"/>
            <p:cNvSpPr/>
            <p:nvPr/>
          </p:nvSpPr>
          <p:spPr>
            <a:xfrm>
              <a:off x="5424480" y="358128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Line 88"/>
            <p:cNvSpPr/>
            <p:nvPr/>
          </p:nvSpPr>
          <p:spPr>
            <a:xfrm flipH="1">
              <a:off x="5437080" y="37022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89"/>
            <p:cNvSpPr/>
            <p:nvPr/>
          </p:nvSpPr>
          <p:spPr>
            <a:xfrm flipV="1">
              <a:off x="5517720" y="36036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32" name="Group 93"/>
          <p:cNvGrpSpPr/>
          <p:nvPr/>
        </p:nvGrpSpPr>
        <p:grpSpPr>
          <a:xfrm>
            <a:off x="1905120" y="4370760"/>
            <a:ext cx="3028680" cy="2687400"/>
            <a:chOff x="1905120" y="4370760"/>
            <a:chExt cx="3028680" cy="2687400"/>
          </a:xfrm>
        </p:grpSpPr>
        <p:sp>
          <p:nvSpPr>
            <p:cNvPr id="433" name="Text Box 90"/>
            <p:cNvSpPr/>
            <p:nvPr/>
          </p:nvSpPr>
          <p:spPr>
            <a:xfrm>
              <a:off x="1905120" y="5257800"/>
              <a:ext cx="3028680" cy="1800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Build up of negative charge on this sid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AutoShape 92"/>
            <p:cNvSpPr/>
            <p:nvPr/>
          </p:nvSpPr>
          <p:spPr>
            <a:xfrm rot="16948200">
              <a:off x="3707640" y="4685400"/>
              <a:ext cx="1195200" cy="685800"/>
            </a:xfrm>
            <a:prstGeom prst="rightArrow">
              <a:avLst>
                <a:gd name="adj1" fmla="val 50000"/>
                <a:gd name="adj2" fmla="val 4357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94"/>
          <p:cNvSpPr/>
          <p:nvPr/>
        </p:nvSpPr>
        <p:spPr>
          <a:xfrm>
            <a:off x="6267600" y="3638520"/>
            <a:ext cx="272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balloon is uncharg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12812 -0.00139 E">
                                      <p:cBhvr>
                                        <p:cTn id="46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07187 0 E">
                                      <p:cBhvr>
                                        <p:cTn id="52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59259E-006 L -0.11563 0.01805 E">
                                      <p:cBhvr>
                                        <p:cTn id="53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111E-006 L -0.08021 -0.00695 E">
                                      <p:cBhvr>
                                        <p:cTn id="533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533520" y="285840"/>
            <a:ext cx="79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 is Repulsion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212400" y="1734840"/>
            <a:ext cx="3430800" cy="1304280"/>
            <a:chOff x="212400" y="1734840"/>
            <a:chExt cx="3430800" cy="1304280"/>
          </a:xfrm>
        </p:grpSpPr>
        <p:sp>
          <p:nvSpPr>
            <p:cNvPr id="438" name="AutoShape 6"/>
            <p:cNvSpPr/>
            <p:nvPr/>
          </p:nvSpPr>
          <p:spPr>
            <a:xfrm rot="15600600">
              <a:off x="1560960" y="70956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9" name="Oval 7"/>
            <p:cNvSpPr/>
            <p:nvPr/>
          </p:nvSpPr>
          <p:spPr>
            <a:xfrm rot="435600">
              <a:off x="2929320" y="19965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 rot="435600">
              <a:off x="1802880" y="21459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1" name="Oval 9"/>
            <p:cNvSpPr/>
            <p:nvPr/>
          </p:nvSpPr>
          <p:spPr>
            <a:xfrm rot="435600">
              <a:off x="826920" y="23436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441360" y="4198320"/>
            <a:ext cx="3418200" cy="1221480"/>
            <a:chOff x="441360" y="4198320"/>
            <a:chExt cx="3418200" cy="1221480"/>
          </a:xfrm>
        </p:grpSpPr>
        <p:sp>
          <p:nvSpPr>
            <p:cNvPr id="443" name="AutoShape 11"/>
            <p:cNvSpPr/>
            <p:nvPr/>
          </p:nvSpPr>
          <p:spPr>
            <a:xfrm rot="4813800">
              <a:off x="1819440" y="3131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 rot="445800">
              <a:off x="2978640" y="447804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Oval 13"/>
            <p:cNvSpPr/>
            <p:nvPr/>
          </p:nvSpPr>
          <p:spPr>
            <a:xfrm rot="445800">
              <a:off x="2005920" y="46299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 rot="445800">
              <a:off x="1004400" y="47757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47" name="Oval 15"/>
          <p:cNvSpPr/>
          <p:nvPr/>
        </p:nvSpPr>
        <p:spPr>
          <a:xfrm>
            <a:off x="3733920" y="1333440"/>
            <a:ext cx="152388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3911760" y="3854520"/>
            <a:ext cx="152388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6286680" y="1924200"/>
            <a:ext cx="24001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This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6502320" y="4464000"/>
            <a:ext cx="240048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is balloon must b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51" name="Group 22"/>
          <p:cNvGrpSpPr/>
          <p:nvPr/>
        </p:nvGrpSpPr>
        <p:grpSpPr>
          <a:xfrm>
            <a:off x="7683480" y="3524400"/>
            <a:ext cx="647640" cy="704880"/>
            <a:chOff x="7683480" y="3524400"/>
            <a:chExt cx="647640" cy="704880"/>
          </a:xfrm>
        </p:grpSpPr>
        <p:sp>
          <p:nvSpPr>
            <p:cNvPr id="452" name="Line 19"/>
            <p:cNvSpPr/>
            <p:nvPr/>
          </p:nvSpPr>
          <p:spPr>
            <a:xfrm>
              <a:off x="8039160" y="3524400"/>
              <a:ext cx="0" cy="704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Line 20"/>
            <p:cNvSpPr/>
            <p:nvPr/>
          </p:nvSpPr>
          <p:spPr>
            <a:xfrm>
              <a:off x="7683480" y="3854520"/>
              <a:ext cx="6476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54" name="Line 21"/>
          <p:cNvSpPr/>
          <p:nvPr/>
        </p:nvSpPr>
        <p:spPr>
          <a:xfrm>
            <a:off x="7391520" y="1276200"/>
            <a:ext cx="68580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3625 -0.0889 E">
                                      <p:cBhvr>
                                        <p:cTn id="557" dur="3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0.36666 -0.09445 E">
                                      <p:cBhvr>
                                        <p:cTn id="577" dur="3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457200" y="9540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Uses of Static Electricity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56" name="Picture 5" descr="CAR037"/>
          <p:cNvPicPr/>
          <p:nvPr/>
        </p:nvPicPr>
        <p:blipFill>
          <a:blip r:embed="rId1"/>
          <a:stretch/>
        </p:blipFill>
        <p:spPr>
          <a:xfrm>
            <a:off x="5857920" y="1528920"/>
            <a:ext cx="2724120" cy="227628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20"/>
          <p:cNvGrpSpPr/>
          <p:nvPr/>
        </p:nvGrpSpPr>
        <p:grpSpPr>
          <a:xfrm>
            <a:off x="2324160" y="2343240"/>
            <a:ext cx="1200240" cy="914400"/>
            <a:chOff x="2324160" y="2343240"/>
            <a:chExt cx="1200240" cy="914400"/>
          </a:xfrm>
        </p:grpSpPr>
        <p:sp>
          <p:nvSpPr>
            <p:cNvPr id="458" name="Rectangle 6"/>
            <p:cNvSpPr/>
            <p:nvPr/>
          </p:nvSpPr>
          <p:spPr>
            <a:xfrm>
              <a:off x="2324160" y="2343240"/>
              <a:ext cx="1200240" cy="2286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2324160" y="2552760"/>
              <a:ext cx="380880" cy="7048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60" name="Group 26"/>
          <p:cNvGrpSpPr/>
          <p:nvPr/>
        </p:nvGrpSpPr>
        <p:grpSpPr>
          <a:xfrm>
            <a:off x="2463840" y="3257640"/>
            <a:ext cx="4762440" cy="1276200"/>
            <a:chOff x="2463840" y="3257640"/>
            <a:chExt cx="4762440" cy="1276200"/>
          </a:xfrm>
        </p:grpSpPr>
        <p:sp>
          <p:nvSpPr>
            <p:cNvPr id="461" name="Line 8"/>
            <p:cNvSpPr/>
            <p:nvPr/>
          </p:nvSpPr>
          <p:spPr>
            <a:xfrm>
              <a:off x="2495520" y="325764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H="1" flipV="1">
              <a:off x="2463840" y="4082760"/>
              <a:ext cx="1752480" cy="19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241880" y="3879720"/>
              <a:ext cx="0" cy="457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>
              <a:off x="4495680" y="369576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H="1">
              <a:off x="4483080" y="4121280"/>
              <a:ext cx="27432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H="1">
              <a:off x="7187760" y="3492360"/>
              <a:ext cx="19080" cy="628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67" name="Oval 14"/>
          <p:cNvSpPr/>
          <p:nvPr/>
        </p:nvSpPr>
        <p:spPr>
          <a:xfrm>
            <a:off x="3524400" y="234324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8" name="Oval 15"/>
          <p:cNvSpPr/>
          <p:nvPr/>
        </p:nvSpPr>
        <p:spPr>
          <a:xfrm>
            <a:off x="3530520" y="255888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9" name="Oval 16"/>
          <p:cNvSpPr/>
          <p:nvPr/>
        </p:nvSpPr>
        <p:spPr>
          <a:xfrm>
            <a:off x="3537000" y="247032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3562200" y="240048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3625920" y="248292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438120" y="87624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Spraying a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134040" y="990720"/>
            <a:ext cx="2362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ositive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38160" y="2381400"/>
            <a:ext cx="20192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Negative Spraygu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0" y="4610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The paint spreads out as each negative drop repe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95400" y="525780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Comic Sans MS"/>
              </a:rPr>
              <a:t>No paint is wasted as the positive car attracts the negative pa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26597 0.09722 E">
                                      <p:cBhvr>
                                        <p:cTn id="638" dur="5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27152 0.05648 E">
                                      <p:cBhvr>
                                        <p:cTn id="640" dur="5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26597 0.025 E">
                                      <p:cBhvr>
                                        <p:cTn id="642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3 -0.03889 E">
                                      <p:cBhvr>
                                        <p:cTn id="644" dur="5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85185E-006 L 0.27918 -0.00833 E">
                                      <p:cBhvr>
                                        <p:cTn id="646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21:43Z</dcterms:created>
  <dc:creator>Mike</dc:creator>
  <dc:description>Static</dc:description>
  <cp:keywords>Static</cp:keywords>
  <dc:language>en-US</dc:language>
  <cp:lastModifiedBy>LEGION</cp:lastModifiedBy>
  <dcterms:modified xsi:type="dcterms:W3CDTF">2015-09-21T10:12:11Z</dcterms:modified>
  <cp:revision>12</cp:revision>
  <dc:subject>Static</dc:subject>
  <dc:title>Static</dc:title>
</cp:coreProperties>
</file>