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E94F-B6F5-414A-98AB-CD59B3E39C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C88-EB2B-46DC-AA25-92803AAF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923-DC90-47A8-B687-43FE727B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78F-263A-4FF1-BE2C-C57C8F73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D6D-71FC-4ECC-A431-4ABCD3F2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DF5-4C12-45F3-B702-47BD7419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D06-B5EA-404A-B9BD-AA0F79BC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3E8-E758-45C6-A96D-1AB386AF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596-E8EC-4648-970C-D96CA688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219C-4580-4B75-BACB-09A47E0D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8214-9484-4C08-A9BF-B973092B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AFF-EDD6-4427-8D67-4AE2D7E2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29F-5A28-4581-A012-FB696776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0E6A-8F24-46B0-9E57-418CD9D5D3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The 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231920" y="1697040"/>
            <a:ext cx="6632640" cy="309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6277680" y="53211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7020000" y="4581000"/>
            <a:ext cx="0" cy="86364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79280" y="5516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loud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V="1">
            <a:off x="971640" y="4220640"/>
            <a:ext cx="287280" cy="119556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012000" y="5805360"/>
            <a:ext cx="23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Sound energ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electrical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79280" y="5877000"/>
            <a:ext cx="24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Electrical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o sound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Printed circuit board of the 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587760" y="2133720"/>
            <a:ext cx="2090880" cy="4390920"/>
          </a:xfrm>
          <a:prstGeom prst="rect">
            <a:avLst/>
          </a:prstGeom>
          <a:ln cap="sq" w="572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n Older Tele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800360"/>
            <a:ext cx="8229600" cy="41241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8480" y="333000"/>
            <a:ext cx="88851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Using an oscill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Quiet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5410080" y="1448640"/>
            <a:ext cx="3123720" cy="531360"/>
            <a:chOff x="5410080" y="1448640"/>
            <a:chExt cx="3123720" cy="531360"/>
          </a:xfrm>
        </p:grpSpPr>
        <p:grpSp>
          <p:nvGrpSpPr>
            <p:cNvPr id="63" name="Group 5"/>
            <p:cNvGrpSpPr/>
            <p:nvPr/>
          </p:nvGrpSpPr>
          <p:grpSpPr>
            <a:xfrm>
              <a:off x="5410080" y="1693800"/>
              <a:ext cx="779040" cy="286200"/>
              <a:chOff x="5410080" y="1693800"/>
              <a:chExt cx="779040" cy="286200"/>
            </a:xfrm>
          </p:grpSpPr>
          <p:sp>
            <p:nvSpPr>
              <p:cNvPr id="64" name="Arc 6"/>
              <p:cNvSpPr/>
              <p:nvPr/>
            </p:nvSpPr>
            <p:spPr>
              <a:xfrm flipV="1">
                <a:off x="580248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rc 7"/>
              <p:cNvSpPr/>
              <p:nvPr/>
            </p:nvSpPr>
            <p:spPr>
              <a:xfrm flipH="1" flipV="1">
                <a:off x="541008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8"/>
            <p:cNvGrpSpPr/>
            <p:nvPr/>
          </p:nvGrpSpPr>
          <p:grpSpPr>
            <a:xfrm>
              <a:off x="6973200" y="1693800"/>
              <a:ext cx="779040" cy="286200"/>
              <a:chOff x="6973200" y="1693800"/>
              <a:chExt cx="779040" cy="286200"/>
            </a:xfrm>
          </p:grpSpPr>
          <p:sp>
            <p:nvSpPr>
              <p:cNvPr id="67" name="Arc 9"/>
              <p:cNvSpPr/>
              <p:nvPr/>
            </p:nvSpPr>
            <p:spPr>
              <a:xfrm flipV="1">
                <a:off x="736560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rc 10"/>
              <p:cNvSpPr/>
              <p:nvPr/>
            </p:nvSpPr>
            <p:spPr>
              <a:xfrm flipH="1" flipV="1">
                <a:off x="697320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1"/>
            <p:cNvGrpSpPr/>
            <p:nvPr/>
          </p:nvGrpSpPr>
          <p:grpSpPr>
            <a:xfrm>
              <a:off x="7754760" y="1448640"/>
              <a:ext cx="779040" cy="286200"/>
              <a:chOff x="7754760" y="1448640"/>
              <a:chExt cx="779040" cy="286200"/>
            </a:xfrm>
          </p:grpSpPr>
          <p:sp>
            <p:nvSpPr>
              <p:cNvPr id="70" name="Arc 12"/>
              <p:cNvSpPr/>
              <p:nvPr/>
            </p:nvSpPr>
            <p:spPr>
              <a:xfrm>
                <a:off x="814716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rc 13"/>
              <p:cNvSpPr/>
              <p:nvPr/>
            </p:nvSpPr>
            <p:spPr>
              <a:xfrm flipH="1">
                <a:off x="775476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4"/>
            <p:cNvGrpSpPr/>
            <p:nvPr/>
          </p:nvGrpSpPr>
          <p:grpSpPr>
            <a:xfrm>
              <a:off x="6191640" y="1448640"/>
              <a:ext cx="779040" cy="286200"/>
              <a:chOff x="6191640" y="1448640"/>
              <a:chExt cx="779040" cy="286200"/>
            </a:xfrm>
          </p:grpSpPr>
          <p:sp>
            <p:nvSpPr>
              <p:cNvPr id="73" name="Arc 15"/>
              <p:cNvSpPr/>
              <p:nvPr/>
            </p:nvSpPr>
            <p:spPr>
              <a:xfrm>
                <a:off x="658404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rc 16"/>
              <p:cNvSpPr/>
              <p:nvPr/>
            </p:nvSpPr>
            <p:spPr>
              <a:xfrm flipH="1">
                <a:off x="619164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Text Box 17"/>
          <p:cNvSpPr/>
          <p:nvPr/>
        </p:nvSpPr>
        <p:spPr>
          <a:xfrm>
            <a:off x="228600" y="2743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Quiet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5257800" y="2666520"/>
            <a:ext cx="3047760" cy="610200"/>
            <a:chOff x="5257800" y="2666520"/>
            <a:chExt cx="3047760" cy="610200"/>
          </a:xfrm>
        </p:grpSpPr>
        <p:grpSp>
          <p:nvGrpSpPr>
            <p:cNvPr id="77" name="Group 19"/>
            <p:cNvGrpSpPr/>
            <p:nvPr/>
          </p:nvGrpSpPr>
          <p:grpSpPr>
            <a:xfrm>
              <a:off x="5257800" y="2666520"/>
              <a:ext cx="1523880" cy="610200"/>
              <a:chOff x="5257800" y="2666520"/>
              <a:chExt cx="1523880" cy="610200"/>
            </a:xfrm>
          </p:grpSpPr>
          <p:grpSp>
            <p:nvGrpSpPr>
              <p:cNvPr id="78" name="Group 20"/>
              <p:cNvGrpSpPr/>
              <p:nvPr/>
            </p:nvGrpSpPr>
            <p:grpSpPr>
              <a:xfrm>
                <a:off x="5257800" y="2948760"/>
                <a:ext cx="380160" cy="327960"/>
                <a:chOff x="5257800" y="2948760"/>
                <a:chExt cx="380160" cy="327960"/>
              </a:xfrm>
            </p:grpSpPr>
            <p:sp>
              <p:nvSpPr>
                <p:cNvPr id="79" name="Arc 21"/>
                <p:cNvSpPr/>
                <p:nvPr/>
              </p:nvSpPr>
              <p:spPr>
                <a:xfrm flipV="1">
                  <a:off x="544932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rc 22"/>
                <p:cNvSpPr/>
                <p:nvPr/>
              </p:nvSpPr>
              <p:spPr>
                <a:xfrm flipH="1" flipV="1">
                  <a:off x="525780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3"/>
              <p:cNvGrpSpPr/>
              <p:nvPr/>
            </p:nvGrpSpPr>
            <p:grpSpPr>
              <a:xfrm>
                <a:off x="6020280" y="2948760"/>
                <a:ext cx="380160" cy="327960"/>
                <a:chOff x="6020280" y="2948760"/>
                <a:chExt cx="380160" cy="327960"/>
              </a:xfrm>
            </p:grpSpPr>
            <p:sp>
              <p:nvSpPr>
                <p:cNvPr id="82" name="Arc 24"/>
                <p:cNvSpPr/>
                <p:nvPr/>
              </p:nvSpPr>
              <p:spPr>
                <a:xfrm flipV="1">
                  <a:off x="62118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rc 25"/>
                <p:cNvSpPr/>
                <p:nvPr/>
              </p:nvSpPr>
              <p:spPr>
                <a:xfrm flipH="1" flipV="1">
                  <a:off x="60202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6"/>
              <p:cNvGrpSpPr/>
              <p:nvPr/>
            </p:nvGrpSpPr>
            <p:grpSpPr>
              <a:xfrm>
                <a:off x="6401520" y="2666520"/>
                <a:ext cx="380160" cy="327960"/>
                <a:chOff x="6401520" y="2666520"/>
                <a:chExt cx="380160" cy="327960"/>
              </a:xfrm>
            </p:grpSpPr>
            <p:sp>
              <p:nvSpPr>
                <p:cNvPr id="85" name="Arc 27"/>
                <p:cNvSpPr/>
                <p:nvPr/>
              </p:nvSpPr>
              <p:spPr>
                <a:xfrm>
                  <a:off x="65930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rc 28"/>
                <p:cNvSpPr/>
                <p:nvPr/>
              </p:nvSpPr>
              <p:spPr>
                <a:xfrm flipH="1">
                  <a:off x="64015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9"/>
              <p:cNvGrpSpPr/>
              <p:nvPr/>
            </p:nvGrpSpPr>
            <p:grpSpPr>
              <a:xfrm>
                <a:off x="5639040" y="2666520"/>
                <a:ext cx="380160" cy="327960"/>
                <a:chOff x="5639040" y="2666520"/>
                <a:chExt cx="380160" cy="327960"/>
              </a:xfrm>
            </p:grpSpPr>
            <p:sp>
              <p:nvSpPr>
                <p:cNvPr id="88" name="Arc 30"/>
                <p:cNvSpPr/>
                <p:nvPr/>
              </p:nvSpPr>
              <p:spPr>
                <a:xfrm>
                  <a:off x="583056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Arc 31"/>
                <p:cNvSpPr/>
                <p:nvPr/>
              </p:nvSpPr>
              <p:spPr>
                <a:xfrm flipH="1">
                  <a:off x="563904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2"/>
            <p:cNvGrpSpPr/>
            <p:nvPr/>
          </p:nvGrpSpPr>
          <p:grpSpPr>
            <a:xfrm>
              <a:off x="6781680" y="2666520"/>
              <a:ext cx="1523880" cy="610200"/>
              <a:chOff x="6781680" y="2666520"/>
              <a:chExt cx="1523880" cy="610200"/>
            </a:xfrm>
          </p:grpSpPr>
          <p:grpSp>
            <p:nvGrpSpPr>
              <p:cNvPr id="91" name="Group 33"/>
              <p:cNvGrpSpPr/>
              <p:nvPr/>
            </p:nvGrpSpPr>
            <p:grpSpPr>
              <a:xfrm>
                <a:off x="6781680" y="2948760"/>
                <a:ext cx="380160" cy="327960"/>
                <a:chOff x="6781680" y="2948760"/>
                <a:chExt cx="380160" cy="327960"/>
              </a:xfrm>
            </p:grpSpPr>
            <p:sp>
              <p:nvSpPr>
                <p:cNvPr id="92" name="Arc 34"/>
                <p:cNvSpPr/>
                <p:nvPr/>
              </p:nvSpPr>
              <p:spPr>
                <a:xfrm flipV="1">
                  <a:off x="69732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rc 35"/>
                <p:cNvSpPr/>
                <p:nvPr/>
              </p:nvSpPr>
              <p:spPr>
                <a:xfrm flipH="1" flipV="1">
                  <a:off x="67816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36"/>
              <p:cNvGrpSpPr/>
              <p:nvPr/>
            </p:nvGrpSpPr>
            <p:grpSpPr>
              <a:xfrm>
                <a:off x="7544160" y="2948760"/>
                <a:ext cx="380160" cy="327960"/>
                <a:chOff x="7544160" y="2948760"/>
                <a:chExt cx="380160" cy="327960"/>
              </a:xfrm>
            </p:grpSpPr>
            <p:sp>
              <p:nvSpPr>
                <p:cNvPr id="95" name="Arc 37"/>
                <p:cNvSpPr/>
                <p:nvPr/>
              </p:nvSpPr>
              <p:spPr>
                <a:xfrm flipV="1">
                  <a:off x="773568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rc 38"/>
                <p:cNvSpPr/>
                <p:nvPr/>
              </p:nvSpPr>
              <p:spPr>
                <a:xfrm flipH="1" flipV="1">
                  <a:off x="754416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39"/>
              <p:cNvGrpSpPr/>
              <p:nvPr/>
            </p:nvGrpSpPr>
            <p:grpSpPr>
              <a:xfrm>
                <a:off x="7925400" y="2666520"/>
                <a:ext cx="380160" cy="327960"/>
                <a:chOff x="7925400" y="2666520"/>
                <a:chExt cx="380160" cy="327960"/>
              </a:xfrm>
            </p:grpSpPr>
            <p:sp>
              <p:nvSpPr>
                <p:cNvPr id="98" name="Arc 40"/>
                <p:cNvSpPr/>
                <p:nvPr/>
              </p:nvSpPr>
              <p:spPr>
                <a:xfrm>
                  <a:off x="811692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Arc 41"/>
                <p:cNvSpPr/>
                <p:nvPr/>
              </p:nvSpPr>
              <p:spPr>
                <a:xfrm flipH="1">
                  <a:off x="792540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42"/>
              <p:cNvGrpSpPr/>
              <p:nvPr/>
            </p:nvGrpSpPr>
            <p:grpSpPr>
              <a:xfrm>
                <a:off x="7162920" y="2666520"/>
                <a:ext cx="380160" cy="327960"/>
                <a:chOff x="7162920" y="2666520"/>
                <a:chExt cx="380160" cy="327960"/>
              </a:xfrm>
            </p:grpSpPr>
            <p:sp>
              <p:nvSpPr>
                <p:cNvPr id="101" name="Arc 43"/>
                <p:cNvSpPr/>
                <p:nvPr/>
              </p:nvSpPr>
              <p:spPr>
                <a:xfrm>
                  <a:off x="73544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rc 44"/>
                <p:cNvSpPr/>
                <p:nvPr/>
              </p:nvSpPr>
              <p:spPr>
                <a:xfrm flipH="1">
                  <a:off x="71629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" name="Text Box 45"/>
          <p:cNvSpPr/>
          <p:nvPr/>
        </p:nvSpPr>
        <p:spPr>
          <a:xfrm>
            <a:off x="228600" y="4343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3) Loud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6"/>
          <p:cNvGrpSpPr/>
          <p:nvPr/>
        </p:nvGrpSpPr>
        <p:grpSpPr>
          <a:xfrm>
            <a:off x="5409720" y="4038840"/>
            <a:ext cx="3047760" cy="1065960"/>
            <a:chOff x="5409720" y="4038840"/>
            <a:chExt cx="3047760" cy="1065960"/>
          </a:xfrm>
        </p:grpSpPr>
        <p:grpSp>
          <p:nvGrpSpPr>
            <p:cNvPr id="105" name="Group 47"/>
            <p:cNvGrpSpPr/>
            <p:nvPr/>
          </p:nvGrpSpPr>
          <p:grpSpPr>
            <a:xfrm>
              <a:off x="5409720" y="4531320"/>
              <a:ext cx="760320" cy="573480"/>
              <a:chOff x="5409720" y="4531320"/>
              <a:chExt cx="760320" cy="573480"/>
            </a:xfrm>
          </p:grpSpPr>
          <p:sp>
            <p:nvSpPr>
              <p:cNvPr id="106" name="Arc 48"/>
              <p:cNvSpPr/>
              <p:nvPr/>
            </p:nvSpPr>
            <p:spPr>
              <a:xfrm flipV="1">
                <a:off x="579312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rc 49"/>
              <p:cNvSpPr/>
              <p:nvPr/>
            </p:nvSpPr>
            <p:spPr>
              <a:xfrm flipH="1" flipV="1">
                <a:off x="540936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0"/>
            <p:cNvGrpSpPr/>
            <p:nvPr/>
          </p:nvGrpSpPr>
          <p:grpSpPr>
            <a:xfrm>
              <a:off x="6934680" y="4531320"/>
              <a:ext cx="760320" cy="573480"/>
              <a:chOff x="6934680" y="4531320"/>
              <a:chExt cx="760320" cy="573480"/>
            </a:xfrm>
          </p:grpSpPr>
          <p:sp>
            <p:nvSpPr>
              <p:cNvPr id="109" name="Arc 51"/>
              <p:cNvSpPr/>
              <p:nvPr/>
            </p:nvSpPr>
            <p:spPr>
              <a:xfrm flipV="1">
                <a:off x="731808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rc 52"/>
              <p:cNvSpPr/>
              <p:nvPr/>
            </p:nvSpPr>
            <p:spPr>
              <a:xfrm flipH="1" flipV="1">
                <a:off x="693432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3"/>
            <p:cNvGrpSpPr/>
            <p:nvPr/>
          </p:nvGrpSpPr>
          <p:grpSpPr>
            <a:xfrm>
              <a:off x="7697160" y="4038840"/>
              <a:ext cx="760320" cy="573480"/>
              <a:chOff x="7697160" y="4038840"/>
              <a:chExt cx="760320" cy="573480"/>
            </a:xfrm>
          </p:grpSpPr>
          <p:sp>
            <p:nvSpPr>
              <p:cNvPr id="112" name="Arc 54"/>
              <p:cNvSpPr/>
              <p:nvPr/>
            </p:nvSpPr>
            <p:spPr>
              <a:xfrm>
                <a:off x="808056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rc 55"/>
              <p:cNvSpPr/>
              <p:nvPr/>
            </p:nvSpPr>
            <p:spPr>
              <a:xfrm flipH="1">
                <a:off x="769680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6"/>
            <p:cNvGrpSpPr/>
            <p:nvPr/>
          </p:nvGrpSpPr>
          <p:grpSpPr>
            <a:xfrm>
              <a:off x="6172200" y="4038840"/>
              <a:ext cx="760320" cy="573480"/>
              <a:chOff x="6172200" y="4038840"/>
              <a:chExt cx="760320" cy="573480"/>
            </a:xfrm>
          </p:grpSpPr>
          <p:sp>
            <p:nvSpPr>
              <p:cNvPr id="115" name="Arc 57"/>
              <p:cNvSpPr/>
              <p:nvPr/>
            </p:nvSpPr>
            <p:spPr>
              <a:xfrm>
                <a:off x="655560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rc 58"/>
              <p:cNvSpPr/>
              <p:nvPr/>
            </p:nvSpPr>
            <p:spPr>
              <a:xfrm flipH="1">
                <a:off x="617184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59"/>
          <p:cNvSpPr/>
          <p:nvPr/>
        </p:nvSpPr>
        <p:spPr>
          <a:xfrm>
            <a:off x="22860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4) Loud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0"/>
          <p:cNvGrpSpPr/>
          <p:nvPr/>
        </p:nvGrpSpPr>
        <p:grpSpPr>
          <a:xfrm>
            <a:off x="5181120" y="5563080"/>
            <a:ext cx="3124080" cy="1065240"/>
            <a:chOff x="5181120" y="5563080"/>
            <a:chExt cx="3124080" cy="1065240"/>
          </a:xfrm>
        </p:grpSpPr>
        <p:grpSp>
          <p:nvGrpSpPr>
            <p:cNvPr id="119" name="Group 61"/>
            <p:cNvGrpSpPr/>
            <p:nvPr/>
          </p:nvGrpSpPr>
          <p:grpSpPr>
            <a:xfrm>
              <a:off x="5181120" y="5563080"/>
              <a:ext cx="1562040" cy="1065240"/>
              <a:chOff x="5181120" y="5563080"/>
              <a:chExt cx="1562040" cy="1065240"/>
            </a:xfrm>
          </p:grpSpPr>
          <p:grpSp>
            <p:nvGrpSpPr>
              <p:cNvPr id="120" name="Group 62"/>
              <p:cNvGrpSpPr/>
              <p:nvPr/>
            </p:nvGrpSpPr>
            <p:grpSpPr>
              <a:xfrm>
                <a:off x="5181120" y="6055200"/>
                <a:ext cx="389880" cy="573120"/>
                <a:chOff x="5181120" y="6055200"/>
                <a:chExt cx="389880" cy="573120"/>
              </a:xfrm>
            </p:grpSpPr>
            <p:sp>
              <p:nvSpPr>
                <p:cNvPr id="121" name="Arc 63"/>
                <p:cNvSpPr/>
                <p:nvPr/>
              </p:nvSpPr>
              <p:spPr>
                <a:xfrm flipV="1">
                  <a:off x="53776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rc 64"/>
                <p:cNvSpPr/>
                <p:nvPr/>
              </p:nvSpPr>
              <p:spPr>
                <a:xfrm flipH="1" flipV="1">
                  <a:off x="51807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65"/>
              <p:cNvGrpSpPr/>
              <p:nvPr/>
            </p:nvGrpSpPr>
            <p:grpSpPr>
              <a:xfrm>
                <a:off x="5962680" y="6055200"/>
                <a:ext cx="389880" cy="573120"/>
                <a:chOff x="5962680" y="6055200"/>
                <a:chExt cx="389880" cy="573120"/>
              </a:xfrm>
            </p:grpSpPr>
            <p:sp>
              <p:nvSpPr>
                <p:cNvPr id="124" name="Arc 66"/>
                <p:cNvSpPr/>
                <p:nvPr/>
              </p:nvSpPr>
              <p:spPr>
                <a:xfrm flipV="1">
                  <a:off x="615924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rc 67"/>
                <p:cNvSpPr/>
                <p:nvPr/>
              </p:nvSpPr>
              <p:spPr>
                <a:xfrm flipH="1" flipV="1">
                  <a:off x="596232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68"/>
              <p:cNvGrpSpPr/>
              <p:nvPr/>
            </p:nvGrpSpPr>
            <p:grpSpPr>
              <a:xfrm>
                <a:off x="6353280" y="5563080"/>
                <a:ext cx="389880" cy="573120"/>
                <a:chOff x="6353280" y="5563080"/>
                <a:chExt cx="389880" cy="573120"/>
              </a:xfrm>
            </p:grpSpPr>
            <p:sp>
              <p:nvSpPr>
                <p:cNvPr id="127" name="Arc 69"/>
                <p:cNvSpPr/>
                <p:nvPr/>
              </p:nvSpPr>
              <p:spPr>
                <a:xfrm>
                  <a:off x="654984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rc 70"/>
                <p:cNvSpPr/>
                <p:nvPr/>
              </p:nvSpPr>
              <p:spPr>
                <a:xfrm flipH="1">
                  <a:off x="635292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1"/>
              <p:cNvGrpSpPr/>
              <p:nvPr/>
            </p:nvGrpSpPr>
            <p:grpSpPr>
              <a:xfrm>
                <a:off x="5571720" y="5563080"/>
                <a:ext cx="389880" cy="573120"/>
                <a:chOff x="5571720" y="5563080"/>
                <a:chExt cx="389880" cy="573120"/>
              </a:xfrm>
            </p:grpSpPr>
            <p:sp>
              <p:nvSpPr>
                <p:cNvPr id="130" name="Arc 72"/>
                <p:cNvSpPr/>
                <p:nvPr/>
              </p:nvSpPr>
              <p:spPr>
                <a:xfrm>
                  <a:off x="57682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rc 73"/>
                <p:cNvSpPr/>
                <p:nvPr/>
              </p:nvSpPr>
              <p:spPr>
                <a:xfrm flipH="1">
                  <a:off x="55713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74"/>
            <p:cNvGrpSpPr/>
            <p:nvPr/>
          </p:nvGrpSpPr>
          <p:grpSpPr>
            <a:xfrm>
              <a:off x="6743160" y="5563080"/>
              <a:ext cx="1562040" cy="1065240"/>
              <a:chOff x="6743160" y="5563080"/>
              <a:chExt cx="1562040" cy="1065240"/>
            </a:xfrm>
          </p:grpSpPr>
          <p:grpSp>
            <p:nvGrpSpPr>
              <p:cNvPr id="133" name="Group 75"/>
              <p:cNvGrpSpPr/>
              <p:nvPr/>
            </p:nvGrpSpPr>
            <p:grpSpPr>
              <a:xfrm>
                <a:off x="6743160" y="6055200"/>
                <a:ext cx="389880" cy="573120"/>
                <a:chOff x="6743160" y="6055200"/>
                <a:chExt cx="389880" cy="573120"/>
              </a:xfrm>
            </p:grpSpPr>
            <p:sp>
              <p:nvSpPr>
                <p:cNvPr id="134" name="Arc 76"/>
                <p:cNvSpPr/>
                <p:nvPr/>
              </p:nvSpPr>
              <p:spPr>
                <a:xfrm flipV="1">
                  <a:off x="693972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Arc 77"/>
                <p:cNvSpPr/>
                <p:nvPr/>
              </p:nvSpPr>
              <p:spPr>
                <a:xfrm flipH="1" flipV="1">
                  <a:off x="674280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78"/>
              <p:cNvGrpSpPr/>
              <p:nvPr/>
            </p:nvGrpSpPr>
            <p:grpSpPr>
              <a:xfrm>
                <a:off x="7524720" y="6055200"/>
                <a:ext cx="389880" cy="573120"/>
                <a:chOff x="7524720" y="6055200"/>
                <a:chExt cx="389880" cy="573120"/>
              </a:xfrm>
            </p:grpSpPr>
            <p:sp>
              <p:nvSpPr>
                <p:cNvPr id="137" name="Arc 79"/>
                <p:cNvSpPr/>
                <p:nvPr/>
              </p:nvSpPr>
              <p:spPr>
                <a:xfrm flipV="1">
                  <a:off x="77212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Arc 80"/>
                <p:cNvSpPr/>
                <p:nvPr/>
              </p:nvSpPr>
              <p:spPr>
                <a:xfrm flipH="1" flipV="1">
                  <a:off x="75243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81"/>
              <p:cNvGrpSpPr/>
              <p:nvPr/>
            </p:nvGrpSpPr>
            <p:grpSpPr>
              <a:xfrm>
                <a:off x="7915320" y="5563080"/>
                <a:ext cx="389880" cy="573120"/>
                <a:chOff x="7915320" y="5563080"/>
                <a:chExt cx="389880" cy="573120"/>
              </a:xfrm>
            </p:grpSpPr>
            <p:sp>
              <p:nvSpPr>
                <p:cNvPr id="140" name="Arc 82"/>
                <p:cNvSpPr/>
                <p:nvPr/>
              </p:nvSpPr>
              <p:spPr>
                <a:xfrm>
                  <a:off x="81118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rc 83"/>
                <p:cNvSpPr/>
                <p:nvPr/>
              </p:nvSpPr>
              <p:spPr>
                <a:xfrm flipH="1">
                  <a:off x="79149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84"/>
              <p:cNvGrpSpPr/>
              <p:nvPr/>
            </p:nvGrpSpPr>
            <p:grpSpPr>
              <a:xfrm>
                <a:off x="7133760" y="5563080"/>
                <a:ext cx="389880" cy="573120"/>
                <a:chOff x="7133760" y="5563080"/>
                <a:chExt cx="389880" cy="573120"/>
              </a:xfrm>
            </p:grpSpPr>
            <p:sp>
              <p:nvSpPr>
                <p:cNvPr id="143" name="Arc 85"/>
                <p:cNvSpPr/>
                <p:nvPr/>
              </p:nvSpPr>
              <p:spPr>
                <a:xfrm>
                  <a:off x="733032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Arc 86"/>
                <p:cNvSpPr/>
                <p:nvPr/>
              </p:nvSpPr>
              <p:spPr>
                <a:xfrm flipH="1">
                  <a:off x="713340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elecommunication 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aw of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ine at right angles to the mirror is called the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0" t="0" r="0" b="50059"/>
          <a:stretch/>
        </p:blipFill>
        <p:spPr>
          <a:xfrm>
            <a:off x="4932360" y="1844640"/>
            <a:ext cx="3556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When light is incident on a glass surface, refraction or bending of the light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light comes out of the g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is however is dependent on the angle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rcRect l="0" t="7147" r="70819" b="0"/>
          <a:stretch/>
        </p:blipFill>
        <p:spPr>
          <a:xfrm>
            <a:off x="4788000" y="234936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8480" y="259920"/>
            <a:ext cx="88851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914400" y="1268280"/>
            <a:ext cx="2362320" cy="2293920"/>
            <a:chOff x="914400" y="1268280"/>
            <a:chExt cx="2362320" cy="2293920"/>
          </a:xfrm>
        </p:grpSpPr>
        <p:sp>
          <p:nvSpPr>
            <p:cNvPr id="155" name="Oval 4"/>
            <p:cNvSpPr/>
            <p:nvPr/>
          </p:nvSpPr>
          <p:spPr>
            <a:xfrm>
              <a:off x="1049040" y="1268280"/>
              <a:ext cx="2158560" cy="2293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914400" y="1268280"/>
              <a:ext cx="2362320" cy="114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"/>
          <p:cNvGrpSpPr/>
          <p:nvPr/>
        </p:nvGrpSpPr>
        <p:grpSpPr>
          <a:xfrm>
            <a:off x="914400" y="4191120"/>
            <a:ext cx="2666880" cy="2438280"/>
            <a:chOff x="914400" y="4191120"/>
            <a:chExt cx="2666880" cy="2438280"/>
          </a:xfrm>
        </p:grpSpPr>
        <p:sp>
          <p:nvSpPr>
            <p:cNvPr id="158" name="Oval 7"/>
            <p:cNvSpPr/>
            <p:nvPr/>
          </p:nvSpPr>
          <p:spPr>
            <a:xfrm>
              <a:off x="1066680" y="41911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914400" y="41911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5651640" y="4419720"/>
            <a:ext cx="2666880" cy="2438280"/>
            <a:chOff x="5651640" y="4419720"/>
            <a:chExt cx="2666880" cy="2438280"/>
          </a:xfrm>
        </p:grpSpPr>
        <p:sp>
          <p:nvSpPr>
            <p:cNvPr id="161" name="Oval 10"/>
            <p:cNvSpPr/>
            <p:nvPr/>
          </p:nvSpPr>
          <p:spPr>
            <a:xfrm>
              <a:off x="5803920" y="44197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5651640" y="44197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5651640" y="1341360"/>
            <a:ext cx="2449440" cy="2158920"/>
            <a:chOff x="5651640" y="1341360"/>
            <a:chExt cx="2449440" cy="2158920"/>
          </a:xfrm>
        </p:grpSpPr>
        <p:sp>
          <p:nvSpPr>
            <p:cNvPr id="164" name="Oval 13"/>
            <p:cNvSpPr/>
            <p:nvPr/>
          </p:nvSpPr>
          <p:spPr>
            <a:xfrm>
              <a:off x="5791320" y="1341360"/>
              <a:ext cx="2239200" cy="2158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5651640" y="1341360"/>
              <a:ext cx="2449440" cy="107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15"/>
          <p:cNvSpPr/>
          <p:nvPr/>
        </p:nvSpPr>
        <p:spPr>
          <a:xfrm flipV="1">
            <a:off x="2050920" y="184428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7020000" y="2133720"/>
            <a:ext cx="0" cy="121896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 flipV="1">
            <a:off x="228600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 flipV="1">
            <a:off x="701028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 flipV="1">
            <a:off x="1565280" y="2457000"/>
            <a:ext cx="431640" cy="13654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 flipV="1">
            <a:off x="6372360" y="2421000"/>
            <a:ext cx="60948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 flipV="1">
            <a:off x="5885280" y="5595840"/>
            <a:ext cx="1151640" cy="849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 flipV="1">
            <a:off x="1366560" y="5416200"/>
            <a:ext cx="924480" cy="109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V="1">
            <a:off x="2050920" y="1557360"/>
            <a:ext cx="914400" cy="83808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V="1">
            <a:off x="2275560" y="5390640"/>
            <a:ext cx="1240200" cy="3852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6989040" y="5569200"/>
            <a:ext cx="1046160" cy="66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 flipV="1">
            <a:off x="6979680" y="2020680"/>
            <a:ext cx="1141200" cy="48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1) Ray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5924520" y="3573360"/>
            <a:ext cx="32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4) Ray gets internally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0" y="3645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Ray still gets refracted (ju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462924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2) Ray still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1924200" y="5734080"/>
            <a:ext cx="3752640" cy="898560"/>
            <a:chOff x="1924200" y="5734080"/>
            <a:chExt cx="3752640" cy="898560"/>
          </a:xfrm>
        </p:grpSpPr>
        <p:sp>
          <p:nvSpPr>
            <p:cNvPr id="183" name="Text Box 32"/>
            <p:cNvSpPr/>
            <p:nvPr/>
          </p:nvSpPr>
          <p:spPr>
            <a:xfrm>
              <a:off x="2495520" y="5807160"/>
              <a:ext cx="318132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THE CRITICAL ANG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3"/>
            <p:cNvSpPr/>
            <p:nvPr/>
          </p:nvSpPr>
          <p:spPr>
            <a:xfrm rot="16200000">
              <a:off x="1886040" y="5772240"/>
              <a:ext cx="838080" cy="761760"/>
            </a:xfrm>
            <a:custGeom>
              <a:avLst/>
              <a:gdLst>
                <a:gd name="textAreaLeft" fmla="*/ 482400 w 838080"/>
                <a:gd name="textAreaRight" fmla="*/ 708120 w 838080"/>
                <a:gd name="textAreaTop" fmla="*/ 102960 h 761760"/>
                <a:gd name="textAreaBottom" fmla="*/ 3254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Optical fibres are made of thin flexible glass thr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y are about the size of a human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fibres have a protective coating which keeps the light inside the f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038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Interactive summ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which orbit the earth every 24____  are called ________ satell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y are above the  _____ point on the _____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use ______ dishes to _______ the microwave sig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 microwave signals travel in _______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7:39Z</dcterms:modified>
  <cp:revision>22</cp:revision>
  <dc:subject/>
  <dc:title>Telecommunication. Sound Waves.</dc:title>
</cp:coreProperties>
</file>