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19CD-9843-4333-85BF-C33F3CE1AA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ED OF E .M .WAV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 x 108m/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oo,ooo,ooo m/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 MIX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PRIMARY COLOURS – RED , GREEN , BLUE TOGETHER MAKE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UR MIX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PRIMARY COLOURS – RED , GREEN , BLUE TOGETHER MAKE WHI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AND GREEN GIVE YEL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AND BLUE GIVE 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AND BLUE GIVE 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AND GREEN GIVE YELLOW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AND BLUE GIVE MAGENT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N AND BLUE GIVE CYA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STATIONARY SATELLITES ARE AT A HEIGHT OF 36 , 000Km ABOVE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A 24 HR OR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STATIONARY SATELLITES ARE AT A HEIGHT OF 36 , 000Km ABOVE THE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HAVE A 24 HR ORB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S ARE MICROWAVE AND TRAVEL IN A STRAIGHT LINE TO AND FROM THE SATELLITE.THEY CANNOT CURVE IN THE EARTH`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GNALS ARE MICROWAVE AND TRAVEL IN A STRAIGHT LINE TO AND FROM THE SATELLITE.THEY CANNOT CURVE IN THE EARTH`S ATMOSPHE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 USED TO CARRY INFORMATION BY TOTAL INTERNAL REFLECTION. LIGHT TRAVELS AT A SPEED OF 200 , 000 , 000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TICAL FIBRES USED TO CARRY INFORMATION BY TOTAL INTERNAL REFLECTION. LIGHT TRAVELS AT A SPEED OF 200 , 000 , 000 M/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Q = I x T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V = I x 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I x V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E / 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V2 / R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I2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RT = R1 + R2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1 /RT = 1/R1 + 1/R2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Q = I x T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V = I x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I x V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E /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V2 / R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I2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T = R1 + R2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 /RT = 1/R1 + 1/R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 FOR SERIES AND PARALLEL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SPLITS UP IN A 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TAYS THE SAME IN A 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STAYS THE SAME IN A 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PLITS UP IN A 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ULES FOR SERIES AND PARALLEL CIRCUI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AGE SPLITS UP IN A SERIES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 STAYS THE SAME IN A SERIES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AGE STAYS THE SAME IN A PARALLEL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 SPLITS UP IN A PARALLEL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METERS MEASURE VOLTAGE AND GO ACROSS THE 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ETERS MEASURE CURRENT AND ARE WIRED IN SERIES WITH THE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COMPONENTS INCLUDE RESISTORS , BULB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METERS MEASURE VOLTAGE AND GO ACROSS THE COMPON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METERS MEASURE CURRENT AND ARE WIRED IN SERIES WITH THE COMPONENT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RCUIT COMPONENTS INCLUDE RESISTORS , BULBS ET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S IN THREE PIN PL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WN L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BLUE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GREEN / YELLOW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E IS A SAFETY DEVICE WIRED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P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WIRE NOT NEEDED FOR DOUBLE INSULATED APPLIANCES , THEY HAVE A PLASTIC C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RES IN THREE PIN PLU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WN LIV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BLUE NEUTR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 GREEN / YELLOW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SE IS A SAFETY DEVICE WIRED IN TH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 P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 WIRE NOT NEEDED FOR DOUBLE INSULATED APPLIANCES , THEY HAVE A PLASTIC CAS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TYPES OF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E LIGHTING CIRCUIT 15A FU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RING MAINS CIRCUIT 30A FU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OKER CIRCUIT 45A 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RE WIRED IN PARALLEL  IF ONE GOES OUT THE OTHERS STAY ON   LESS WIRE USED SO MONEY IS SA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REE TYPES OF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THE LIGHTING CIRCUIT 15A FUS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HE RING MAINS CIRCUIT 30A FUS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3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OKER CIRCUIT 45A FU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ARE WIRED IN PARALLEL  IF ONE GOES OUT THE OTHERS STAY ON   LESS WIRE USED SO MONEY IS SAV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OF SOUND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0 m/s in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ED OF SOUND WAV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40 m/s in ai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MO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IL OF WIRE CARRYING CURRENT SURROUNDED BY A PAIR OF MAG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TURNS ON THE COIL AND THE STRONGER THE MAGNET , THE FASTER THE COIL GO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MO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IL OF WIRE CARRYING CURRENT SURROUNDED BY A PAIR OF MAGNE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RE TURNS ON THE COIL AND THE STRONGER THE MAGNET , THE FASTER THE COIL GO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OILS OF WIRE WITH AN IRON CORE , THE PRIMARY COIL AND THE SECONDARY C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P /NS = VP / 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 x VP = IS x V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COILS OF WIRE WITH AN IRON CORE , THE PRIMARY COIL AND THE SECONDARY COI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FORM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P /NS = VP / V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P x VP = IS x V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HERM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E LAB THERMOME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CLINICAL THERMOMETER BOTH LIQUID IN GLASS THERMOMET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HE DIGITAL THERM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BETWEEN LAB AND CLINICAL THERMOMETERS, SIZE,SCALE, MAGNIFIER IN CLINICAL THERMOMETER,K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THERMOME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THE LAB THERMOMETER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HE CLINICAL THERMOMETER BOTH LIQUID IN GLASS THERMOMETER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THE DIGITAL THERMOME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CE BETWEEN LAB AND CLINICAL THERMOMETERS, SIZE,SCALE, MAGNIFIER IN CLINICAL THERMOMETER,KI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= f l     v = d /t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= f l     v = d /t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= the number of waves per 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Hertz (H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quency = the number of waves per sec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Hertz (HZ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WAVE –THIS TELLS YOU THE RADIO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O WAVE TELLS YOU WHAT IS ON THE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RIER WAVE –THIS TELLS YOU THE RADIO S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DIO WAVE TELLS YOU WHAT IS ON THE S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LITUDE MODULATED (AM) WAVE –A COMBINATION OF THE CARRIER AND AUDIO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PLITUDE MODULATED (AM) WAVE –A COMBINATION OF THE CARRIER AND AUDIO WA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THE RA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ERIAL -  PICKS UP ALL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UNER – SELECTS ONE PARTICULAR SIG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S OF THE RADI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AERIAL -  PICKS UP ALL SIGNA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UNER – SELECTS ONE PARTICULAR SIGN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CODER – SEPARATES CARRIER WAVE FROM AUDIO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AMPLIFIER – MAKES BIGGER COPY OF AUDIO W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DECODER – SEPARATES CARRIER WAVE FROM AUDIO WA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 AMPLIFIER – MAKES BIGGER COPY OF AUDIO WAV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BATTERY – SUPPLIES ENERGY TO AMPL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 LOUDSPEAKER – CHANGES ELECTRICAL ENERGY TO SOU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BATTERY – SUPPLIES ENERGY TO AMPLIFI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  LOUDSPEAKER – CHANGES ELECTRICAL ENERGY TO SOUND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2D7E-0064-453D-B1AA-B5C1839FF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EE8B-D7D9-49F2-8C99-1FF140A1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3C1E-E6F4-4C6F-9753-7C9E97495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6580-557B-4604-9755-5F55E585D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DD66-E225-493C-B24F-4EFB01E12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9C6A-1E00-448E-82D6-75353B36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2D03-0671-42D2-8F1D-84CC2A69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7334-4EAC-4FCB-8149-D092ADFD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DCB0-097E-4C4D-ACFF-47E54083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90F3-EFEF-447F-8DC2-5C32E9F7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F808-7820-4D64-9146-B5F6965A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B00B-F47F-46EE-ABD4-B417C5E4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0368-AC71-40C9-96E1-4226E802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70CA-5DB4-4C3E-ABDC-384595E5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276E-593C-4A6C-B3D4-82C4E167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770C-201C-4E60-87E9-2945A48F7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5B2F-F046-42F8-9D97-20C454503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CD50-C83E-4F49-8C8D-55340B64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0BB9-49A8-41C0-933C-C9F832A5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8A43-F16E-4AB9-AD89-3970C5F8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B75D-98D6-484B-8FE1-620D0729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287B-615F-4CAC-AB2D-CB170047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E217-0387-4CE8-A599-695383D2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FB45-F50A-43DC-8E13-89085FA1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979E-1A96-41A6-9D99-2472BBF0AB9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EDD0-3889-4BF6-AAB0-0FE92CAABD8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ahoma"/>
              </a:rPr>
              <a:t>SPEED OF E .M .WAV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3 x 10</a:t>
            </a:r>
            <a:r>
              <a:rPr b="0" lang="en-GB" sz="7200" spc="-1" strike="noStrike" baseline="30000">
                <a:solidFill>
                  <a:srgbClr val="0000ff"/>
                </a:solidFill>
                <a:latin typeface="Tahoma"/>
              </a:rPr>
              <a:t>8</a:t>
            </a: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m/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3oo,ooo,ooo m/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COLOUR MIXING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3 PRIMARY COLOURS – RED , GREEN , BLUE TOGETHER MAKE WHIT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RED AND GREEN GIVE YELLOW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RED AND BLUE GIVE MAGENT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GREEN AND BLUE GIVE CYA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0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77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1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77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77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77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77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GEOSTATIONARY SATELLITES ARE AT A HEIGHT OF 36 , 000Km ABOVE THE EARTH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THEY HAVE A 24 HR ORBI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SIGNALS ARE MICROWAVE AND TRAVEL IN A STRAIGHT LINE TO AND FROM THE SATELLITE.THEY CANNOT CURVE IN THE EARTH`S ATMOSPHER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OPTICAL FIBRES USED TO CARRY INFORMATION BY TOTAL INTERNAL REFLECTION. LIGHT TRAVELS AT A SPEED OF 200 , 000 , 000 M/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8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EQU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Q = I x T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V = I x 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I x V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E / 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V</a:t>
            </a:r>
            <a:r>
              <a:rPr b="0" lang="en-GB" sz="3200" spc="-1" strike="noStrike" baseline="30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/ R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I</a:t>
            </a:r>
            <a:r>
              <a:rPr b="0" lang="en-GB" sz="3200" spc="-1" strike="noStrike" baseline="30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T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= 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1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+ 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1 /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T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= 1/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+ 1/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 baseline="30000">
                <a:solidFill>
                  <a:srgbClr val="f0f515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77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4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6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77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5" dur="77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7" dur="77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9" dur="77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77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77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8" dur="77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0" dur="77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77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7" dur="77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9" dur="77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1" dur="77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77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77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0" dur="77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77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9" dur="77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1" dur="77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3" dur="77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RULES FOR SERIES AND PARALLEL CIRCU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VOLTAGE SPLITS UP IN A SERIES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CURRENT STAYS THE SAME IN A SERIES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VOLTAGE STAYS THE SAME IN A PARALLEL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CURRENT SPLITS UP IN A PARALLEL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VOLTMETERS MEASURE VOLTAGE AND GO ACROSS THE COMPON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AMMETERS MEASURE CURRENT AND ARE WIRED IN SERIES WITH THE COMPON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CIRCUIT COMPONENTS INCLUDE RESISTORS , BULBS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MAINS ELECTRIC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WIRES IN THREE PIN PLU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BROWN LIVE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2. BLUE NEUT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3.  GREEN / YELLOW EAR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FUSE IS A SAFETY DEVICE WIRED IN TH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LIVE P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EARTH WIRE NOT NEEDED FOR DOUBLE INSULATED APPLIANCES , THEY HAVE A PLASTIC CAS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77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3" dur="770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5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7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77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4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6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8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77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5" dur="77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7" dur="77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9" dur="77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77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6" dur="77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8" dur="77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0" dur="77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77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7" dur="77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9" dur="77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1" dur="77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77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8" dur="77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0" dur="77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2" dur="77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77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9" dur="77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1" dur="77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3" dur="77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77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0" dur="77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2" dur="77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4" dur="77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MAINS ELECTRI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THREE TYPES OF CIRCU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1. THE LIGHTING CIRCUIT 15A FUSE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2. THE RING MAINS CIRCUIT 30A FUSE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   3.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THE COOKER CIRCUIT 45A F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ALL ARE WIRED IN PARALLEL  IF ONE GOES OUT THE OTHERS STAY ON   LESS WIRE USED SO MONEY IS SAV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8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8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8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8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ff"/>
                </a:solidFill>
                <a:latin typeface="Tahoma"/>
              </a:rPr>
              <a:t>SPEED OF SOUND</a:t>
            </a:r>
            <a:r>
              <a:rPr b="0" lang="en-GB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4800" spc="-1" strike="noStrike">
                <a:solidFill>
                  <a:srgbClr val="0000ff"/>
                </a:solidFill>
                <a:latin typeface="Tahoma"/>
              </a:rPr>
              <a:t>WAV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2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ff"/>
                </a:solidFill>
                <a:latin typeface="Tahoma"/>
              </a:rPr>
              <a:t>340 m/s in air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ELECTRIC MO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OIL OF WIRE CARRYING CURRENT SURROUNDED BY A PAIR OF MAGN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HE MORE TURNS ON THE COIL AND THE STRONGER THE MAGNET , THE FASTER THE COIL GO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WO COILS OF WIRE WITH AN IRON CORE , THE PRIMARY COIL AND THE SECONDARY CO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RANSFORM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/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=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/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I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x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= I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x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YPES OF THERMOME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1. THE LAB THERMOMETER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2. THE CLINICAL THERMOMETER BOTH LIQUID IN GLASS THERMOMETER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3. THE DIGITAL THERMOME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IFFERENCE BETWEEN LAB AND CLINICAL THERMOMETERS, SIZE,SCALE, MAGNIFIER IN CLINICAL THERMOMETER,KIN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ff"/>
                </a:solidFill>
                <a:latin typeface="Tahoma"/>
              </a:rPr>
              <a:t>EQUATION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ff"/>
                </a:solidFill>
                <a:latin typeface="Tahoma"/>
              </a:rPr>
              <a:t>v= f</a:t>
            </a:r>
            <a:r>
              <a:rPr b="0" lang="en-GB" sz="8000" spc="-1" strike="noStrike">
                <a:solidFill>
                  <a:srgbClr val="0000ff"/>
                </a:solidFill>
                <a:latin typeface="Symbol"/>
                <a:ea typeface="Symbol"/>
              </a:rPr>
              <a:t></a:t>
            </a:r>
            <a:r>
              <a:rPr b="0" lang="en-GB" sz="8000" spc="-1" strike="noStrike">
                <a:solidFill>
                  <a:srgbClr val="0000ff"/>
                </a:solidFill>
                <a:latin typeface="Times New Roman"/>
              </a:rPr>
              <a:t>v = d /t</a:t>
            </a:r>
            <a:r>
              <a:rPr b="0" lang="en-GB" sz="8000" spc="-1" strike="noStrike">
                <a:solidFill>
                  <a:srgbClr val="0000ff"/>
                </a:solidFill>
                <a:latin typeface="Symbol"/>
                <a:ea typeface="Symbol"/>
              </a:rPr>
              <a:t>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ff"/>
                </a:solidFill>
                <a:latin typeface="Tahoma"/>
              </a:rPr>
              <a:t>Frequency = the number of waves per second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ff"/>
                </a:solidFill>
                <a:latin typeface="Tahoma"/>
              </a:rPr>
              <a:t>Measured in Hertz (HZ)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CARRIER WAVE –THIS TELLS YOU THE RADIO STA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AUDIO WAVE TELLS YOU WHAT IS ON THE STA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AMPLITUDE MODULATED (AM) WAVE –A COMBINATION OF THE CARRIER AND AUDIO WAV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PARTS OF THE RADIO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1. AERIAL -  PICKS UP ALL SIGNAL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2. TUNER – SELECTS ONE PARTICULAR SIGN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 DECODER – SEPARATES CARRIER WAVE FROM AUDIO WAV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4.  AMPLIFIER – MAKES BIGGER COPY OF AUDIO WAV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5. BATTERY – SUPPLIES ENERGY TO AMPLIFIE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6.  LOUDSPEAKER – CHANGES ELECTRICAL ENERGY TO SOUND ENERGY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RomaK</cp:lastModifiedBy>
  <dcterms:modified xsi:type="dcterms:W3CDTF">2015-09-03T12:37:57Z</dcterms:modified>
  <cp:revision>16</cp:revision>
  <dc:subject/>
  <dc:title>Slide 1</dc:title>
</cp:coreProperties>
</file>