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0E72-E67A-4995-BF1D-1BEC53654C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ED OF E .M .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 x 108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oo,ooo,ooo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213-7968-4753-A29A-941EFE6A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181-7E7E-4C0E-9DA3-AB6DC009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9BA-4A89-4094-BF59-450AE82C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07A-6405-4203-A9B8-59877632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E16F-4A35-4041-A126-8B7184C3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3590-E684-418F-9B18-C44CD77B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1D4A-A1B1-4657-9D22-01032901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A1CD-D2C0-4ED7-A34A-FBE0813C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0ECB-5F64-4357-BAE5-78A27067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C375-3D93-4448-8F46-55DF2F0E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781A-89F2-4B69-AC4F-504C7C1C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D03-62E1-4989-AD23-5185669B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5DD6-7C7A-484E-8D49-7E6D8AE7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D6ED-B51F-4E89-8442-244C54A6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5222-7382-4780-8320-FC316B7D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FD9C-DA11-45B8-991E-5CD2864A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E5C3-FE57-4FED-B47F-9D2BE3DB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30FC-EA84-4784-8D8D-B1049985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80F2-9B64-48A4-AE8F-36A312CF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79F-6DAE-4CF4-8E7F-163D1AD5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8932-884F-431A-940D-89B1B686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AA4-AABF-46D1-9785-87CF6C90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BB6-A15A-4C6F-873F-EA503611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7FE-C2A0-4D28-8C7F-780CB7E5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218E-3361-4886-9FDA-D1B1A55357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BBD3-9259-459D-9683-A85B5BAF142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ahoma"/>
              </a:rPr>
              <a:t>SPEED OF E .M .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 x 10</a:t>
            </a:r>
            <a:r>
              <a:rPr b="0" lang="en-GB" sz="7200" spc="-1" strike="noStrike" baseline="30000">
                <a:solidFill>
                  <a:srgbClr val="0000ff"/>
                </a:solidFill>
                <a:latin typeface="Tahoma"/>
              </a:rPr>
              <a:t>8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oo,ooo,ooo 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OLOUR MIXIN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 PRIMARY COLOURS – RED , GREEN , BLUE TOGETHER MAKE WHI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GREEN GIVE YELLOW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BLUE GIVE MAGENT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REEN AND BLUE GIVE CY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EOSTATIONARY SATELLITES ARE AT A HEIGHT OF 36 , 000Km ABOVE THE EART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THEY HAVE A 24 HR ORBI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SIGNALS ARE MICROWAVE AND TRAVEL IN A STRAIGHT LINE TO AND FROM THE SATELLITE.THEY CANNOT CURVE IN THE EARTH`S ATMOSPHER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OPTICAL FIBRES USED TO CARRY INFORMATION BY TOTAL INTERNAL REFLECTION. LIGHT TRAVELS AT A SPEED OF 200 , 000 , 000 M/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Q = I x 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 = I x 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 x V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E /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V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/ R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+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 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+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 baseline="30000">
                <a:solidFill>
                  <a:srgbClr val="f0f51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RULES FOR SERIES AND PARALLEL CIRCU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PLITS UP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TAYS THE SAME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TAYS THE SAME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PLITS UP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OLTMETERS MEASURE VOLTAGE AND GO ACROSS THE COMPO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MMETERS MEASURE CURRENT AND ARE WIRED IN SERIES WITH THE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CIRCUIT COMPONENTS INCLUDE RESISTORS , BULBS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WIRES IN THREE PIN PL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BROWN LIVE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2. BLUE NEUT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3.  GREEN / YELLOW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FUSE IS A SAFETY DEVICE WIRED IN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LIVE P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EARTH WIRE NOT NEEDED FOR DOUBLE INSULATED APPLIANCES , THEY HAVE A PLASTIC CA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77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77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2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77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77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REE TYPES OF CIRC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. THE LIGHTING CIRCUIT 15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2. THE RING MAINS CIRCUIT 30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   3.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E COOKER CIRCUIT 45A F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LL ARE WIRED IN PARALLEL  IF ONE GOES OUT THE OTHERS STAY ON   LESS WIRE USED SO MONEY IS SA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SPEED OF SOUND</a:t>
            </a: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WAV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Tahoma"/>
              </a:rPr>
              <a:t>340 m/s in air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LECTRIC MO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IL OF WIRE CARRYING CURRENT SURROUNDED BY A PAIR OF MAGN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E MORE TURNS ON THE COIL AND THE STRONGER THE MAGNET , THE FASTER THE COIL G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WO COILS OF WIRE WITH AN IRON CORE , THE PRIMARY COIL AND THE SECONDARY C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RANSFOR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S OF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1. THE LAB THERMOMETER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2. THE CLINICAL THERMOMETER BOTH LIQUID IN GLASS THERMOMETER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3. THE DIGITAL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IFFERENCE BETWEEN LAB AND CLINICAL THERMOMETERS, SIZE,SCALE, MAGNIFIER IN CLINICAL THERMOMETER,K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Tahoma"/>
              </a:rPr>
              <a:t>v= f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</a:t>
            </a:r>
            <a:r>
              <a:rPr b="0" lang="en-GB" sz="8000" spc="-1" strike="noStrike">
                <a:solidFill>
                  <a:srgbClr val="0000ff"/>
                </a:solidFill>
                <a:latin typeface="Times New Roman"/>
              </a:rPr>
              <a:t>v = d /t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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Frequency = the number of waves per secon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Measured in Hertz (HZ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ARRIER WAVE –THIS TELLS YOU THE RADIO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UDIO WAVE TELLS YOU WHAT IS ON THE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MPLITUDE MODULATED (AM) WAVE –A COMBINATION OF THE CARRIER AND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ARTS OF THE RADI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1. AERIAL -  PICKS UP ALL SIGNAL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2. TUNER – SELECTS ONE PARTICULAR SIG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DECODER – SEPARATES CARRIER WAVE FROM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4.  AMPLIFIER – MAKES BIGGER COPY OF AUDIO WAV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5. BATTERY – SUPPLIES ENERGY TO AMPLIFI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6.  LOUDSPEAKER – CHANGES ELECTRICAL ENERGY TO SOUND ENERG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7:57Z</dcterms:modified>
  <cp:revision>16</cp:revision>
  <dc:subject/>
  <dc:title>Slide 1</dc:title>
</cp:coreProperties>
</file>