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83B60-8300-4F77-B20F-F43C9DD8814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PEED OF E .M .WAV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3 x 108m/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3oo,ooo,ooo m/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OUR MIX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PRIMARY COLOURS – RED , GREEN , BLUE TOGETHER MAKE WH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LOUR MIXIN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 PRIMARY COLOURS – RED , GREEN , BLUE TOGETHER MAKE WHIT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 AND GREEN GIVE YELLO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 AND BLUE GIVE MAGEN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EN AND BLUE GIVE CY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D AND GREEN GIVE YELLOW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D AND BLUE GIVE MAGENT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REEN AND BLUE GIVE CYA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OSTATIONARY SATELLITES ARE AT A HEIGHT OF 36 , 000Km ABOVE THE EA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HAVE A 24 HR ORB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EOSTATIONARY SATELLITES ARE AT A HEIGHT OF 36 , 000Km ABOVE THE EARTH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Y HAVE A 24 HR ORBI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GNALS ARE MICROWAVE AND TRAVEL IN A STRAIGHT LINE TO AND FROM THE SATELLITE.THEY CANNOT CURVE IN THE EARTH`S ATM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IGNALS ARE MICROWAVE AND TRAVEL IN A STRAIGHT LINE TO AND FROM THE SATELLITE.THEY CANNOT CURVE IN THE EARTH`S ATMOSPHE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TICAL FIBRES USED TO CARRY INFORMATION BY TOTAL INTERNAL REFLECTION. LIGHT TRAVELS AT A SPEED OF 200 , 000 , 000 M/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PTICAL FIBRES USED TO CARRY INFORMATION BY TOTAL INTERNAL REFLECTION. LIGHT TRAVELS AT A SPEED OF 200 , 000 , 000 M/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ELECTRICIT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EQUATIO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Q = I x T</a:t>
            </a: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V = I x 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P = I x V</a:t>
            </a: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P = E / 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P = V2 / R</a:t>
            </a: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P = I2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RT = R1 + R2</a:t>
            </a: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1 /RT = 1/R1 + 1/R2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ELECTRI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Q = I x T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V = I x 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P = I x V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P = E / 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P = V2 / R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P = I2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RT = R1 + R2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 /RT = 1/R1 + 1/R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I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LES FOR SERIES AND PARALLEL CIRCU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LTAGE SPLITS UP IN A SERIES CIRCU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STAYS THE SAME IN A SERIES CIRCU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LTAGE STAYS THE SAME IN A PARALLEL CIRCU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SPLITS UP IN A PARALLEL CIRCU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LECTRICIT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ULES FOR SERIES AND PARALLEL CIRCUIT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OLTAGE SPLITS UP IN A SERIES CIRCUI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URRENT STAYS THE SAME IN A SERIES CIRCUI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OLTAGE STAYS THE SAME IN A PARALLEL CIRCUI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URRENT SPLITS UP IN A PARALLEL CIRCUI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I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LTMETERS MEASURE VOLTAGE AND GO ACROSS THE 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METERS MEASURE CURRENT AND ARE WIRED IN SERIES WITH THE COMPON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RCUIT COMPONENTS INCLUDE RESISTORS , BULBS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LECTRICIT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OLTMETERS MEASURE VOLTAGE AND GO ACROSS THE COMPONEN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MMETERS MEASURE CURRENT AND ARE WIRED IN SERIES WITH THE COMPONENT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IRCUIT COMPONENTS INCLUDE RESISTORS , BULBS ETC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I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S ELECTRI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RES IN THREE PIN PLU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OWN LIV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BLUE NEUT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 GREEN / YELLOW EA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SE IS A SAFETY DEVICE WIRED IN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E P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TH WIRE NOT NEEDED FOR DOUBLE INSULATED APPLIANCES , THEY HAVE A PLASTIC CA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LECTRICIT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INS ELECTRICIT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IRES IN THREE PIN PLU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ROWN LIVE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. BLUE NEUTRAL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.  GREEN / YELLOW EARTH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USE IS A SAFETY DEVICE WIRED IN TH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VE PI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ARTH WIRE NOT NEEDED FOR DOUBLE INSULATED APPLIANCES , THEY HAVE A PLASTIC CASIN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I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S ELECTRI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E TYPES OF CIRCU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THE LIGHTING CIRCUIT 15A FUS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THE RING MAINS CIRCUIT 30A FUS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3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OKER CIRCUIT 45A F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ARE WIRED IN PARALLEL  IF ONE GOES OUT THE OTHERS STAY ON   LESS WIRE USED SO MONEY IS SA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LECTRICIT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INS ELECTRICIT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REE TYPES OF CIRCUI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. THE LIGHTING CIRCUIT 15A FUSE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. THE RING MAINS CIRCUIT 30A FUSE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3.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COOKER CIRCUIT 45A FUS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L ARE WIRED IN PARALLEL  IF ONE GOES OUT THE OTHERS STAY ON   LESS WIRE USED SO MONEY IS SAVE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OF SOUND WA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40 m/s in 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PEED OF SOUND WAV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40 m/s in ai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I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IC MO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IL OF WIRE CARRYING CURRENT SURROUNDED BY A PAIR OF MAGN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RE TURNS ON THE COIL AND THE STRONGER THE MAGNET , THE FASTER THE COIL GO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LECTRICIT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LECTRIC MOTOR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IL OF WIRE CARRYING CURRENT SURROUNDED BY A PAIR OF MAGNET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MORE TURNS ON THE COIL AND THE STRONGER THE MAGNET , THE FASTER THE COIL GOE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I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COILS OF WIRE WITH AN IRON CORE , THE PRIMARY COIL AND THE SECONDARY CO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FORM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P /NS = VP / V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P x VP = IS x V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LECTRICIT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WO COILS OF WIRE WITH AN IRON CORE , THE PRIMARY COIL AND THE SECONDARY COIL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ANSFORMER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P /NS = VP / V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P x VP = IS x VS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L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THERMO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THE LAB THERMOMETE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THE CLINICAL THERMOMETER BOTH LIQUID IN GLASS THERMOMETER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THE DIGITAL THERMO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CE BETWEEN LAB AND CLINICAL THERMOMETERS, SIZE,SCALE, MAGNIFIER IN CLINICAL THERMOMETER,KIN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EALTH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YPES OF THERMOMETE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. THE LAB THERMOMETER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. THE CLINICAL THERMOMETER BOTH LIQUID IN GLASS THERMOMETERS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. THE DIGITAL THERMOMETE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FFERENCE BETWEEN LAB AND CLINICAL THERMOMETERS, SIZE,SCALE, MAGNIFIER IN CLINICAL THERMOMETER,KINK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= f l     v = d /t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EQUATIO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v= f l     v = d /t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equency = the number of waves per sec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sured in Hertz (HZ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requency = the number of waves per secon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asured in Hertz (HZ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RIER WAVE –THIS TELLS YOU THE RADIO S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DIO WAVE TELLS YOU WHAT IS ON THE S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RRIER WAVE –THIS TELLS YOU THE RADIO STA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UDIO WAVE TELLS YOU WHAT IS ON THE STA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PLITUDE MODULATED (AM) WAVE –A COMBINATION OF THE CARRIER AND AUDIO W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MPLITUDE MODULATED (AM) WAVE –A COMBINATION OF THE CARRIER AND AUDIO WAV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S OF THE RAD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AERIAL -  PICKS UP ALL SIGN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TUNER – SELECTS ONE PARTICULAR SIG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RTS OF THE RADIO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. AERIAL -  PICKS UP ALL SIGNAL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. TUNER – SELECTS ONE PARTICULAR SIGNAL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DECODER – SEPARATES CARRIER WAVE FROM AUDIO W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 AMPLIFIER – MAKES BIGGER COPY OF AUDIO WAV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DECODER – SEPARATES CARRIER WAVE FROM AUDIO WAV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.  AMPLIFIER – MAKES BIGGER COPY OF AUDIO WAVE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 BATTERY – SUPPLIES ENERGY TO AMPLIF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  LOUDSPEAKER – CHANGES ELECTRICAL ENERGY TO SOUND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5. BATTERY – SUPPLIES ENERGY TO AMPLIFIE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6.  LOUDSPEAKER – CHANGES ELECTRICAL ENERGY TO SOUND ENERG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D5AB4-EDE9-46D7-B42F-4CDF03998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1AB4A-1784-4E01-A356-F48895488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737C7-2BB8-47C2-B407-DE1A4FEAA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FD65A-92EF-417B-97D9-C57543A21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AE788-6F15-443A-8064-778B40218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64804-9E18-4252-A6F1-98BBB4E5D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48C27-4F75-4716-9886-A2DC5D087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28046-8B3E-4961-8E8D-5F862663D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BF2C8-935A-4EC5-B198-CCD55263B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2865D-9FA3-451F-8856-B9F4F230B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59FDE-BE02-47D4-AD51-744701446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D71D4-44A4-47A9-9D5B-3C34C6C62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998D2-F394-4D46-82CC-6891AAD46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56377-395D-445D-A750-7F9489FFE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ADC22-E202-446E-9F0D-F4AC3BFF1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68755-539D-4B8E-B073-1F9E0CC40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B7B04-1CE2-4A05-8067-8AF512FF2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D00F5-6C9F-4F60-89A3-0B92BE3CF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7000B-39EA-439A-9905-ED51E2564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E75AD-226D-4D1A-8DCB-9E34388A9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4E5A9-6334-41C7-91BF-ED74845D6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1810B-E3BF-4B6D-9045-BF835F355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34202-9CA9-4DF4-9871-BF2190179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AF859-BA1E-4897-85FF-3AD3B9231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EE24D-9556-4908-9CDE-BC221A408DA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37651-CFAD-4313-BAD8-ABA4D7373CE6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5"/>
          <p:cNvSpPr/>
          <p:nvPr/>
        </p:nvSpPr>
        <p:spPr>
          <a:xfrm flipV="1">
            <a:off x="1066680" y="640440"/>
            <a:ext cx="6629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f515"/>
                </a:solidFill>
                <a:latin typeface="Tahoma"/>
              </a:rPr>
              <a:t>TELECOM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ff"/>
                </a:solidFill>
                <a:latin typeface="Tahoma"/>
              </a:rPr>
              <a:t>SPEED OF E .M .WAV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ff"/>
                </a:solidFill>
                <a:latin typeface="Tahoma"/>
              </a:rPr>
              <a:t>  </a:t>
            </a:r>
            <a:r>
              <a:rPr b="0" lang="en-GB" sz="7200" spc="-1" strike="noStrike">
                <a:solidFill>
                  <a:srgbClr val="0000ff"/>
                </a:solidFill>
                <a:latin typeface="Tahoma"/>
              </a:rPr>
              <a:t>3 x 10</a:t>
            </a:r>
            <a:r>
              <a:rPr b="0" lang="en-GB" sz="7200" spc="-1" strike="noStrike" baseline="30000">
                <a:solidFill>
                  <a:srgbClr val="0000ff"/>
                </a:solidFill>
                <a:latin typeface="Tahoma"/>
              </a:rPr>
              <a:t>8</a:t>
            </a:r>
            <a:r>
              <a:rPr b="0" lang="en-GB" sz="7200" spc="-1" strike="noStrike">
                <a:solidFill>
                  <a:srgbClr val="0000ff"/>
                </a:solidFill>
                <a:latin typeface="Tahoma"/>
              </a:rPr>
              <a:t>m/s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ff"/>
                </a:solidFill>
                <a:latin typeface="Tahoma"/>
              </a:rPr>
              <a:t>3oo,ooo,ooo m/s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515"/>
                </a:solidFill>
                <a:latin typeface="Tahoma"/>
              </a:rPr>
              <a:t>TELECOM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Tahoma"/>
              </a:rPr>
              <a:t>COLOUR MIXING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Tahoma"/>
              </a:rPr>
              <a:t>3 PRIMARY COLOURS – RED , GREEN , BLUE TOGETHER MAKE WHITE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2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2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2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2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20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2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2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2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515"/>
                </a:solidFill>
                <a:latin typeface="Tahoma"/>
              </a:rPr>
              <a:t>TELECOM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Tahoma"/>
              </a:rPr>
              <a:t>RED AND GREEN GIVE YELLOW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Tahoma"/>
              </a:rPr>
              <a:t>RED AND BLUE GIVE MAGENTA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Tahoma"/>
              </a:rPr>
              <a:t>GREEN AND BLUE GIVE CYAN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77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6" dur="770" fill="hold"/>
                                        <p:tgtEl>
                                          <p:spTgt spid="11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58" dur="77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60" dur="77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77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7" dur="77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69" dur="77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7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71" dur="77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7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77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8" dur="77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80" dur="77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8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82" dur="77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8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77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9" dur="77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91" dur="77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9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93" dur="77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9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515"/>
                </a:solidFill>
                <a:latin typeface="Tahoma"/>
              </a:rPr>
              <a:t>TELECOM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Tahoma"/>
              </a:rPr>
              <a:t>GEOSTATIONARY SATELLITES ARE AT A HEIGHT OF 36 , 000Km ABOVE THE EARTH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Tahoma"/>
              </a:rPr>
              <a:t>THEY HAVE A 24 HR ORBIT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515"/>
                </a:solidFill>
                <a:latin typeface="Tahoma"/>
              </a:rPr>
              <a:t>TELECOM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Tahoma"/>
              </a:rPr>
              <a:t>SIGNALS ARE MICROWAVE AND TRAVEL IN A STRAIGHT LINE TO AND FROM THE SATELLITE.THEY CANNOT CURVE IN THE EARTH`S ATMOSPHERE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7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515"/>
                </a:solidFill>
                <a:latin typeface="Tahoma"/>
              </a:rPr>
              <a:t>TELECOM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Tahoma"/>
              </a:rPr>
              <a:t>OPTICAL FIBRES USED TO CARRY INFORMATION BY TOTAL INTERNAL REFLECTION. LIGHT TRAVELS AT A SPEED OF 200 , 000 , 000 M/S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8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5" dur="8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8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8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8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" dur="8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8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8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f515"/>
                </a:solidFill>
                <a:latin typeface="Tahoma"/>
              </a:rPr>
              <a:t>ELECTRICIT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EQUAT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Q = I x T</a:t>
            </a: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V = I x 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P = I x V</a:t>
            </a: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P = E / 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P = V</a:t>
            </a:r>
            <a:r>
              <a:rPr b="0" lang="en-GB" sz="3200" spc="-1" strike="noStrike" baseline="30000">
                <a:solidFill>
                  <a:srgbClr val="0000ff"/>
                </a:solidFill>
                <a:latin typeface="Tahoma"/>
              </a:rPr>
              <a:t>2</a:t>
            </a: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 / R</a:t>
            </a: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P = I</a:t>
            </a:r>
            <a:r>
              <a:rPr b="0" lang="en-GB" sz="3200" spc="-1" strike="noStrike" baseline="30000">
                <a:solidFill>
                  <a:srgbClr val="0000ff"/>
                </a:solidFill>
                <a:latin typeface="Tahoma"/>
              </a:rPr>
              <a:t>2</a:t>
            </a: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R</a:t>
            </a:r>
            <a:r>
              <a:rPr b="0" lang="en-GB" sz="3200" spc="-1" strike="noStrike" baseline="-25000">
                <a:solidFill>
                  <a:srgbClr val="0000ff"/>
                </a:solidFill>
                <a:latin typeface="Tahoma"/>
              </a:rPr>
              <a:t>T</a:t>
            </a: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 = R</a:t>
            </a:r>
            <a:r>
              <a:rPr b="0" lang="en-GB" sz="3200" spc="-1" strike="noStrike" baseline="-25000">
                <a:solidFill>
                  <a:srgbClr val="0000ff"/>
                </a:solidFill>
                <a:latin typeface="Tahoma"/>
              </a:rPr>
              <a:t>1 </a:t>
            </a: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+ R</a:t>
            </a:r>
            <a:r>
              <a:rPr b="0" lang="en-GB" sz="3200" spc="-1" strike="noStrike" baseline="-25000">
                <a:solidFill>
                  <a:srgbClr val="0000ff"/>
                </a:solidFill>
                <a:latin typeface="Tahoma"/>
              </a:rPr>
              <a:t>2</a:t>
            </a: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1 /R</a:t>
            </a:r>
            <a:r>
              <a:rPr b="0" lang="en-GB" sz="3200" spc="-1" strike="noStrike" baseline="-25000">
                <a:solidFill>
                  <a:srgbClr val="0000ff"/>
                </a:solidFill>
                <a:latin typeface="Tahoma"/>
              </a:rPr>
              <a:t>T</a:t>
            </a: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 = 1/R</a:t>
            </a:r>
            <a:r>
              <a:rPr b="0" lang="en-GB" sz="3200" spc="-1" strike="noStrike" baseline="-25000">
                <a:solidFill>
                  <a:srgbClr val="0000ff"/>
                </a:solidFill>
                <a:latin typeface="Tahoma"/>
              </a:rPr>
              <a:t>1</a:t>
            </a: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 + 1/R</a:t>
            </a:r>
            <a:r>
              <a:rPr b="0" lang="en-GB" sz="3200" spc="-1" strike="noStrike" baseline="-25000">
                <a:solidFill>
                  <a:srgbClr val="0000ff"/>
                </a:solidFill>
                <a:latin typeface="Tahoma"/>
              </a:rPr>
              <a:t>2</a:t>
            </a:r>
            <a:r>
              <a:rPr b="0" lang="en-GB" sz="3200" spc="-1" strike="noStrike" baseline="30000">
                <a:solidFill>
                  <a:srgbClr val="f0f515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77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74" dur="77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76" dur="77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78" dur="77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77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85" dur="77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87" dur="77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89" dur="77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77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96" dur="77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98" dur="77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00" dur="77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77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07" dur="77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0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09" dur="77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1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11" dur="77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1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770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8" dur="77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20" dur="77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22" dur="77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770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29" dur="77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31" dur="77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33" dur="77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f515"/>
                </a:solidFill>
                <a:latin typeface="Tahoma"/>
              </a:rPr>
              <a:t>ELECTRICIT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Tahoma"/>
              </a:rPr>
              <a:t>RULES FOR SERIES AND PARALLEL CIRCUI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Tahoma"/>
              </a:rPr>
              <a:t>VOLTAGE SPLITS UP IN A SERIES CIRCUI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Tahoma"/>
              </a:rPr>
              <a:t>CURRENT STAYS THE SAME IN A SERIES CIRCUI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Tahoma"/>
              </a:rPr>
              <a:t>VOLTAGE STAYS THE SAME IN A PARALLEL CIRCUI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Tahoma"/>
              </a:rPr>
              <a:t>CURRENT SPLITS UP IN A PARALLEL CIRCUI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4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4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3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2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1" dur="5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0" dur="5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f515"/>
                </a:solidFill>
                <a:latin typeface="Tahoma"/>
              </a:rPr>
              <a:t>ELECTRICIT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VOLTMETERS MEASURE VOLTAGE AND GO ACROSS THE COMPON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AMMETERS MEASURE CURRENT AND ARE WIRED IN SERIES WITH THE COMPONENT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CIRCUIT COMPONENTS INCLUDE RESISTORS , BULBS ETC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15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5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7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6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5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f515"/>
                </a:solidFill>
                <a:latin typeface="Tahoma"/>
              </a:rPr>
              <a:t>ELECTRICIT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Tahoma"/>
              </a:rPr>
              <a:t>MAINS ELECTRIC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Tahoma"/>
              </a:rPr>
              <a:t>WIRES IN THREE PIN PLU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Tahoma"/>
              </a:rPr>
              <a:t>1.</a:t>
            </a:r>
            <a:r>
              <a:rPr b="0" lang="en-GB" sz="2800" spc="-1" strike="noStrike">
                <a:solidFill>
                  <a:srgbClr val="0000ff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0000ff"/>
                </a:solidFill>
                <a:latin typeface="Tahoma"/>
              </a:rPr>
              <a:t>BROWN LIVE</a:t>
            </a:r>
            <a:r>
              <a:rPr b="0" lang="en-GB" sz="2800" spc="-1" strike="noStrike">
                <a:solidFill>
                  <a:srgbClr val="0000ff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0000ff"/>
                </a:solidFill>
                <a:latin typeface="Tahoma"/>
              </a:rPr>
              <a:t>2. BLUE NEUTR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Tahoma"/>
              </a:rPr>
              <a:t>3.  GREEN / YELLOW EART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Tahoma"/>
              </a:rPr>
              <a:t>FUSE IS A SAFETY DEVICE WIRED IN TH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Tahoma"/>
              </a:rPr>
              <a:t>LIVE PI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Tahoma"/>
              </a:rPr>
              <a:t>EARTH WIRE NOT NEEDED FOR DOUBLE INSULATED APPLIANCES , THEY HAVE A PLASTIC CAS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6" dur="indefinite" restart="never" nodeType="tmRoot">
          <p:childTnLst>
            <p:seq>
              <p:cTn id="527" dur="indefinite" nodeType="mainSeq">
                <p:childTnLst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2" dur="77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33" dur="770" fill="hold"/>
                                        <p:tgtEl>
                                          <p:spTgt spid="13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35" dur="77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37" dur="77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3" dur="77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44" dur="77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46" dur="77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48" dur="77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77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55" dur="77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57" dur="77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59" dur="77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77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66" dur="77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6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68" dur="77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6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70" dur="77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7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nodeType="clickEffect" fill="hold">
                      <p:stCondLst>
                        <p:cond delay="indefinite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6" dur="77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77" dur="77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79" dur="77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81" dur="77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7" dur="77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88" dur="77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90" dur="77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92" dur="77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nodeType="clickEffect" fill="hold">
                      <p:stCondLst>
                        <p:cond delay="indefinite"/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77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99" dur="77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01" dur="77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03" dur="77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9" dur="770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10" dur="77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12" dur="77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14" dur="77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f515"/>
                </a:solidFill>
                <a:latin typeface="Tahoma"/>
              </a:rPr>
              <a:t>ELECTRICIT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MAINS ELECTRIC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THREE TYPES OF CIRCUI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1. THE LIGHTING CIRCUIT 15A FUSE</a:t>
            </a: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2. THE RING MAINS CIRCUIT 30A FUSE</a:t>
            </a: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    3.</a:t>
            </a: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THE COOKER CIRCUIT 45A FUS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ALL ARE WIRED IN PARALLEL  IF ONE GOES OUT THE OTHERS STAY ON   LESS WIRE USED SO MONEY IS SAV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6" dur="indefinite" restart="never" nodeType="tmRoot">
          <p:childTnLst>
            <p:seq>
              <p:cTn id="617" dur="indefinite" nodeType="mainSeq">
                <p:childTnLst>
                  <p:par>
                    <p:cTn id="618" nodeType="clickEffect" fill="hold">
                      <p:stCondLst>
                        <p:cond delay="indefinite"/>
                      </p:stCondLst>
                      <p:childTnLst>
                        <p:par>
                          <p:cTn id="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1" dur="8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2" dur="8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8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8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1" dur="8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2" dur="8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8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8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nodeType="clickEffect" fill="hold">
                      <p:stCondLst>
                        <p:cond delay="indefinite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1" dur="8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2" dur="8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8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8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nodeType="clickEffect" fill="hold">
                      <p:stCondLst>
                        <p:cond delay="indefinite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1" dur="8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2" dur="8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8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8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f515"/>
                </a:solidFill>
                <a:latin typeface="Tahoma"/>
              </a:rPr>
              <a:t>TELECOM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ff"/>
                </a:solidFill>
                <a:latin typeface="Tahoma"/>
              </a:rPr>
              <a:t>SPEED OF SOUND</a:t>
            </a:r>
            <a:r>
              <a:rPr b="0" lang="en-GB" sz="4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4800" spc="-1" strike="noStrike">
                <a:solidFill>
                  <a:srgbClr val="0000ff"/>
                </a:solidFill>
                <a:latin typeface="Tahoma"/>
              </a:rPr>
              <a:t>WAVES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22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800" spc="-1" strike="noStrike">
                <a:solidFill>
                  <a:srgbClr val="0000ff"/>
                </a:solidFill>
                <a:latin typeface="Tahoma"/>
              </a:rPr>
              <a:t>340 m/s in air</a:t>
            </a:r>
            <a:endParaRPr b="0" lang="en-US" sz="8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0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5" dur="2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0" dur="2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515"/>
                </a:solidFill>
                <a:latin typeface="Tahoma"/>
              </a:rPr>
              <a:t>ELECTRICIT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ELECTRIC MOTO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COIL OF WIRE CARRYING CURRENT SURROUNDED BY A PAIR OF MAGNE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THE MORE TURNS ON THE COIL AND THE STRONGER THE MAGNET , THE FASTER THE COIL GO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7" dur="indefinite" restart="never" nodeType="tmRoot">
          <p:childTnLst>
            <p:seq>
              <p:cTn id="668" dur="indefinite" nodeType="mainSeq">
                <p:childTnLst>
                  <p:par>
                    <p:cTn id="669" nodeType="clickEffect" fill="hold">
                      <p:stCondLst>
                        <p:cond delay="indefinite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3" dur="8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4" dur="8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8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8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8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nodeType="clickEffect" fill="hold">
                      <p:stCondLst>
                        <p:cond delay="indefinite"/>
                      </p:stCondLst>
                      <p:childTnLst>
                        <p:par>
                          <p:cTn id="6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9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nodeType="clickEffect" fill="hold">
                      <p:stCondLst>
                        <p:cond delay="indefinite"/>
                      </p:stCondLst>
                      <p:childTnLst>
                        <p:par>
                          <p:cTn id="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0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515"/>
                </a:solidFill>
                <a:latin typeface="Tahoma"/>
              </a:rPr>
              <a:t>ELECTRICIT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TWO COILS OF WIRE WITH AN IRON CORE , THE PRIMARY COIL AND THE SECONDARY COI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TRANSFORM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N</a:t>
            </a:r>
            <a:r>
              <a:rPr b="0" lang="en-US" sz="3200" spc="-1" strike="noStrike" baseline="-25000">
                <a:solidFill>
                  <a:srgbClr val="0000ff"/>
                </a:solidFill>
                <a:latin typeface="Tahoma"/>
              </a:rPr>
              <a:t>P</a:t>
            </a: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 /N</a:t>
            </a:r>
            <a:r>
              <a:rPr b="0" lang="en-US" sz="3200" spc="-1" strike="noStrike" baseline="-25000">
                <a:solidFill>
                  <a:srgbClr val="0000ff"/>
                </a:solidFill>
                <a:latin typeface="Tahoma"/>
              </a:rPr>
              <a:t>S</a:t>
            </a: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 = V</a:t>
            </a:r>
            <a:r>
              <a:rPr b="0" lang="en-US" sz="3200" spc="-1" strike="noStrike" baseline="-25000">
                <a:solidFill>
                  <a:srgbClr val="0000ff"/>
                </a:solidFill>
                <a:latin typeface="Tahoma"/>
              </a:rPr>
              <a:t>P</a:t>
            </a: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 / V</a:t>
            </a:r>
            <a:r>
              <a:rPr b="0" lang="en-US" sz="3200" spc="-1" strike="noStrike" baseline="-25000">
                <a:solidFill>
                  <a:srgbClr val="0000ff"/>
                </a:solidFill>
                <a:latin typeface="Tahoma"/>
              </a:rPr>
              <a:t>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I</a:t>
            </a:r>
            <a:r>
              <a:rPr b="0" lang="en-US" sz="3200" spc="-1" strike="noStrike" baseline="-25000">
                <a:solidFill>
                  <a:srgbClr val="0000ff"/>
                </a:solidFill>
                <a:latin typeface="Tahoma"/>
              </a:rPr>
              <a:t>P</a:t>
            </a: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 x V</a:t>
            </a:r>
            <a:r>
              <a:rPr b="0" lang="en-US" sz="3200" spc="-1" strike="noStrike" baseline="-25000">
                <a:solidFill>
                  <a:srgbClr val="0000ff"/>
                </a:solidFill>
                <a:latin typeface="Tahoma"/>
              </a:rPr>
              <a:t>P</a:t>
            </a: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 = I</a:t>
            </a:r>
            <a:r>
              <a:rPr b="0" lang="en-US" sz="3200" spc="-1" strike="noStrike" baseline="-25000">
                <a:solidFill>
                  <a:srgbClr val="0000ff"/>
                </a:solidFill>
                <a:latin typeface="Tahoma"/>
              </a:rPr>
              <a:t>S</a:t>
            </a: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 x V</a:t>
            </a:r>
            <a:r>
              <a:rPr b="0" lang="en-US" sz="3200" spc="-1" strike="noStrike" baseline="-25000">
                <a:solidFill>
                  <a:srgbClr val="0000ff"/>
                </a:solidFill>
                <a:latin typeface="Tahoma"/>
              </a:rPr>
              <a:t>S</a:t>
            </a: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6" dur="indefinite" restart="never" nodeType="tmRoot">
          <p:childTnLst>
            <p:seq>
              <p:cTn id="707" dur="indefinite" nodeType="mainSeq">
                <p:childTnLst>
                  <p:par>
                    <p:cTn id="708" nodeType="clickEffect" fill="hold">
                      <p:stCondLst>
                        <p:cond delay="indefinite"/>
                      </p:stCondLst>
                      <p:childTnLst>
                        <p:par>
                          <p:cTn id="7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2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5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nodeType="clickEffect" fill="hold">
                      <p:stCondLst>
                        <p:cond delay="indefinite"/>
                      </p:stCondLst>
                      <p:childTnLst>
                        <p:par>
                          <p:cTn id="7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2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nodeType="clickEffect" fill="hold">
                      <p:stCondLst>
                        <p:cond delay="indefinite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2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nodeType="clickEffect" fill="hold">
                      <p:stCondLst>
                        <p:cond delay="indefinite"/>
                      </p:stCondLst>
                      <p:childTnLst>
                        <p:par>
                          <p:cTn id="7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3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nodeType="clickEffect" fill="hold">
                      <p:stCondLst>
                        <p:cond delay="indefinite"/>
                      </p:stCondLst>
                      <p:childTnLst>
                        <p:par>
                          <p:cTn id="7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4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515"/>
                </a:solidFill>
                <a:latin typeface="Tahoma"/>
              </a:rPr>
              <a:t>HEALTH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TYPES OF THERMOMET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1. THE LAB THERMOMETER</a:t>
            </a: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2. THE CLINICAL THERMOMETER BOTH LIQUID IN GLASS THERMOMETERS</a:t>
            </a: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3. THE DIGITAL THERMOMET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DIFFERENCE BETWEEN LAB AND CLINICAL THERMOMETERS, SIZE,SCALE, MAGNIFIER IN CLINICAL THERMOMETER,KIN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2" dur="indefinite" restart="never" nodeType="tmRoot">
          <p:childTnLst>
            <p:seq>
              <p:cTn id="753" dur="indefinite" nodeType="mainSeq">
                <p:childTnLst>
                  <p:par>
                    <p:cTn id="754" nodeType="clickEffect" fill="hold">
                      <p:stCondLst>
                        <p:cond delay="indefinite"/>
                      </p:stCondLst>
                      <p:childTnLst>
                        <p:par>
                          <p:cTn id="7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8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9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nodeType="clickEffect" fill="hold">
                      <p:stCondLst>
                        <p:cond delay="indefinite"/>
                      </p:stCondLst>
                      <p:childTnLst>
                        <p:par>
                          <p:cTn id="7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6" dur="2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7" dur="2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2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2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nodeType="clickEffect" fill="hold">
                      <p:stCondLst>
                        <p:cond delay="indefinite"/>
                      </p:stCondLst>
                      <p:childTnLst>
                        <p:par>
                          <p:cTn id="7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4" dur="20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5" dur="2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2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2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nodeType="clickEffect" fill="hold">
                      <p:stCondLst>
                        <p:cond delay="indefinite"/>
                      </p:stCondLst>
                      <p:childTnLst>
                        <p:par>
                          <p:cTn id="7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2" dur="20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3" dur="2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2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2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f515"/>
                </a:solidFill>
                <a:latin typeface="Tahoma"/>
              </a:rPr>
              <a:t>TELECOM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ff"/>
                </a:solidFill>
                <a:latin typeface="Tahoma"/>
              </a:rPr>
              <a:t>EQUATIONS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20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ff"/>
                </a:solidFill>
                <a:latin typeface="Tahoma"/>
              </a:rPr>
              <a:t>v= f</a:t>
            </a:r>
            <a:r>
              <a:rPr b="0" lang="en-GB" sz="8000" spc="-1" strike="noStrike">
                <a:solidFill>
                  <a:srgbClr val="0000ff"/>
                </a:solidFill>
                <a:latin typeface="Symbol"/>
                <a:ea typeface="Symbol"/>
              </a:rPr>
              <a:t></a:t>
            </a:r>
            <a:r>
              <a:rPr b="0" lang="en-GB" sz="8000" spc="-1" strike="noStrike">
                <a:solidFill>
                  <a:srgbClr val="0000ff"/>
                </a:solidFill>
                <a:latin typeface="Times New Roman"/>
              </a:rPr>
              <a:t>v = d /t</a:t>
            </a:r>
            <a:r>
              <a:rPr b="0" lang="en-GB" sz="8000" spc="-1" strike="noStrike">
                <a:solidFill>
                  <a:srgbClr val="0000ff"/>
                </a:solidFill>
                <a:latin typeface="Symbol"/>
                <a:ea typeface="Symbol"/>
              </a:rPr>
              <a:t>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" dur="2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7" dur="2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f515"/>
                </a:solidFill>
                <a:latin typeface="Tahoma"/>
              </a:rPr>
              <a:t>TELECOM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ctr">
              <a:spcBef>
                <a:spcPts val="15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ff"/>
                </a:solidFill>
                <a:latin typeface="Tahoma"/>
              </a:rPr>
              <a:t>Frequency = the number of waves per second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ctr">
              <a:spcBef>
                <a:spcPts val="15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ff"/>
                </a:solidFill>
                <a:latin typeface="Tahoma"/>
              </a:rPr>
              <a:t>Measured in Hertz (HZ)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4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9" dur="2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4" dur="2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515"/>
                </a:solidFill>
                <a:latin typeface="Tahoma"/>
              </a:rPr>
              <a:t>TELECOM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Tahoma"/>
              </a:rPr>
              <a:t>CARRIER WAVE –THIS TELLS YOU THE RADIO STATION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Tahoma"/>
              </a:rPr>
              <a:t>AUDIO WAVE TELLS YOU WHAT IS ON THE STATION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77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0" dur="77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2" dur="77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4" dur="77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77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1" dur="77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3" dur="77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5" dur="77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515"/>
                </a:solidFill>
                <a:latin typeface="Tahoma"/>
              </a:rPr>
              <a:t>TELECOM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Tahoma"/>
              </a:rPr>
              <a:t>AMPLITUDE MODULATED (AM) WAVE –A COMBINATION OF THE CARRIER AND AUDIO WAVE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2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515"/>
                </a:solidFill>
                <a:latin typeface="Tahoma"/>
              </a:rPr>
              <a:t>TELECOM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Tahoma"/>
              </a:rPr>
              <a:t>PARTS OF THE RADIO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Tahoma"/>
              </a:rPr>
              <a:t>1. AERIAL -  PICKS UP ALL SIGNALS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Tahoma"/>
              </a:rPr>
              <a:t>2. TUNER – SELECTS ONE PARTICULAR SIGNAL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2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7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2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7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0f515"/>
                </a:solidFill>
                <a:latin typeface="Tahoma"/>
              </a:rPr>
              <a:t>TELECOM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Tahoma"/>
              </a:rPr>
              <a:t>3.</a:t>
            </a:r>
            <a:r>
              <a:rPr b="0" lang="en-US" sz="4800" spc="-1" strike="noStrike">
                <a:solidFill>
                  <a:srgbClr val="0000ff"/>
                </a:solidFill>
                <a:latin typeface="Tahoma"/>
              </a:rPr>
              <a:t>	</a:t>
            </a:r>
            <a:r>
              <a:rPr b="0" lang="en-US" sz="4800" spc="-1" strike="noStrike">
                <a:solidFill>
                  <a:srgbClr val="0000ff"/>
                </a:solidFill>
                <a:latin typeface="Tahoma"/>
              </a:rPr>
              <a:t> DECODER – SEPARATES CARRIER WAVE FROM AUDIO WAVE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Tahoma"/>
              </a:rPr>
              <a:t>4.  AMPLIFIER – MAKES BIGGER COPY OF AUDIO WAVE</a:t>
            </a: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0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5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0f515"/>
                </a:solidFill>
                <a:latin typeface="Tahoma"/>
              </a:rPr>
              <a:t>TELECOM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Tahoma"/>
              </a:rPr>
              <a:t>5. BATTERY – SUPPLIES ENERGY TO AMPLIFIER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Tahoma"/>
              </a:rPr>
              <a:t>6.  LOUDSPEAKER – CHANGES ELECTRICAL ENERGY TO SOUND ENERGY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0T17:42:04Z</dcterms:created>
  <dc:creator>wallan</dc:creator>
  <dc:description/>
  <dc:language>en-US</dc:language>
  <cp:lastModifiedBy>RomaK</cp:lastModifiedBy>
  <dcterms:modified xsi:type="dcterms:W3CDTF">2015-09-03T12:37:57Z</dcterms:modified>
  <cp:revision>16</cp:revision>
  <dc:subject/>
  <dc:title>Slide 1</dc:title>
</cp:coreProperties>
</file>