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cashreg.wav" ContentType="audio/x-wav"/>
  <Override PartName="/ppt/media/camera.wav" ContentType="audio/x-wav"/>
  <Override PartName="/ppt/media/applause.wav" ContentType="audio/x-wav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1EC8-B196-404D-9511-79030E4ED4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9D9-AFE3-4185-AB1B-E92EA28A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5F4-EB14-43FB-96E0-0698A8CB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EC7-8D27-43A9-84ED-A537033A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ED7-1571-4474-B5C2-E575CF52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3AA-8365-4309-99D4-CED62CEE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B12-C853-4038-9AD7-1E91BC27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F1D-1187-4929-A204-715E3CFA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DE9-D30B-4E09-9BD4-C987804F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037-B121-43B4-BBF1-3E05EFE0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6CD-A0D2-4308-852F-226BEC5A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4EF-5670-4CA3-AB46-9F773DEC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160-89FE-49B2-923A-823B06E7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396C-AB6F-4FDB-A07C-7ACC0EA8DD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glas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</a:t>
            </a: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energy travels in the form of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can travel through solids , liquids and gases by vibrating the particles in the three types of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particles in the three materials vibrate in the same direction as the wav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is wave is called a Longitudinal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ongipatm"/>
          <p:cNvPicPr/>
          <p:nvPr/>
        </p:nvPicPr>
        <p:blipFill>
          <a:blip r:embed="rId1"/>
          <a:stretch/>
        </p:blipFill>
        <p:spPr>
          <a:xfrm>
            <a:off x="2987640" y="3933720"/>
            <a:ext cx="5600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82680" y="3862440"/>
            <a:ext cx="228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cann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travel 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vacu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elecommunications.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These waves then vibrate our ear drums which then activate small bones in our inne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A diagram of the ear is sh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he 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41280" y="2060640"/>
            <a:ext cx="8460000" cy="411624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1601640" y="3124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95280" y="48769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Ear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4000" y="58770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2800"/>
            </a:b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4044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waves travel very much slower than light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is can be seen by observing a thunder and lightning st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e light reaches us quickly but the sound from the thunder come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457440" cy="4089600"/>
          </a:xfrm>
          <a:prstGeom prst="rect">
            <a:avLst/>
          </a:prstGeom>
          <a:ln cap="sq"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  The speed of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The speed of sound can be measured by by using two microphones and an electronic ti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When the sound reaches the first mic, the timer starts.When the sound reaches the second mic, the timer st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If we know the distance between the two mics (say one metre) and the time , we can work out the speed.This is shown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54000" y="808200"/>
            <a:ext cx="69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ELECOMMUNICATION. THE SPEED OF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752480" y="1905120"/>
            <a:ext cx="5562720" cy="1218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 = 0.00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810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0958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6"/>
          <p:cNvCxnSpPr>
            <a:endCxn id="68" idx="1"/>
          </p:cNvCxnSpPr>
          <p:nvPr/>
        </p:nvCxnSpPr>
        <p:spPr>
          <a:xfrm flipH="1" rot="16200000">
            <a:off x="1084680" y="3714480"/>
            <a:ext cx="1715400" cy="7668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1" name="AutoShape 7"/>
          <p:cNvCxnSpPr>
            <a:endCxn id="68" idx="3"/>
          </p:cNvCxnSpPr>
          <p:nvPr/>
        </p:nvCxnSpPr>
        <p:spPr>
          <a:xfrm flipH="1" rot="16200000">
            <a:off x="1618920" y="3485520"/>
            <a:ext cx="1715400" cy="534240"/>
          </a:xfrm>
          <a:prstGeom prst="curvedConnector5">
            <a:avLst>
              <a:gd name="adj1" fmla="val 42212"/>
              <a:gd name="adj2" fmla="val 71409"/>
              <a:gd name="adj3" fmla="val 42212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2" name="AutoShape 8"/>
          <p:cNvCxnSpPr/>
          <p:nvPr/>
        </p:nvCxnSpPr>
        <p:spPr>
          <a:xfrm flipH="1">
            <a:off x="6248160" y="3048120"/>
            <a:ext cx="457920" cy="1715040"/>
          </a:xfrm>
          <a:prstGeom prst="curvedConnector5">
            <a:avLst>
              <a:gd name="adj1" fmla="val -49960"/>
              <a:gd name="adj2" fmla="val 49989"/>
              <a:gd name="adj3" fmla="val -49960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3" name="AutoShape 9"/>
          <p:cNvCxnSpPr>
            <a:endCxn id="69" idx="3"/>
          </p:cNvCxnSpPr>
          <p:nvPr/>
        </p:nvCxnSpPr>
        <p:spPr>
          <a:xfrm rot="5400000">
            <a:off x="6228720" y="3600360"/>
            <a:ext cx="1639080" cy="38160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sp>
        <p:nvSpPr>
          <p:cNvPr id="74" name="Text Box 10"/>
          <p:cNvSpPr/>
          <p:nvPr/>
        </p:nvSpPr>
        <p:spPr>
          <a:xfrm>
            <a:off x="1927080" y="524988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011640" y="4313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819520" y="5334120"/>
            <a:ext cx="327636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0240" y="545148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089880" y="54910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Distance = 1 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04920" y="4267080"/>
            <a:ext cx="838080" cy="909720"/>
          </a:xfrm>
          <a:custGeom>
            <a:avLst/>
            <a:gdLst>
              <a:gd name="textAreaLeft" fmla="*/ 83520 w 838080"/>
              <a:gd name="textAreaRight" fmla="*/ 754560 w 838080"/>
              <a:gd name="textAreaTop" fmla="*/ 363960 h 909720"/>
              <a:gd name="textAreaBottom" fmla="*/ 545760 h 909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0" y="5257800"/>
            <a:ext cx="15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200"/>
            </a:b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alculation of The Speed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Speed of Sound can be calculated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peed  =  </a:t>
            </a:r>
            <a:r>
              <a:rPr b="0" lang="en-GB" sz="3200" spc="-1" strike="noStrike" u="sng">
                <a:solidFill>
                  <a:srgbClr val="ff99ff"/>
                </a:solidFill>
                <a:uFillTx/>
                <a:latin typeface="Comic Sans MS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      1/0.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330 m / s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000" y="2514600"/>
            <a:ext cx="88963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Light is a transverse wave.The particles move at right angles to the wave as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transverspointcurated2"/>
          <p:cNvPicPr/>
          <p:nvPr/>
        </p:nvPicPr>
        <p:blipFill>
          <a:blip r:embed="rId1"/>
          <a:stretch/>
        </p:blipFill>
        <p:spPr>
          <a:xfrm>
            <a:off x="3132000" y="3716280"/>
            <a:ext cx="5349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8:05Z</dcterms:modified>
  <cp:revision>22</cp:revision>
  <dc:subject/>
  <dc:title>Telecommunication. Sound Waves.</dc:title>
</cp:coreProperties>
</file>