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glass.wav" ContentType="audio/x-wav"/>
  <Override PartName="/ppt/media/image2.png" ContentType="image/png"/>
  <Override PartName="/ppt/media/whoosh.wav" ContentType="audio/x-wav"/>
  <Override PartName="/ppt/media/image3.png" ContentType="image/png"/>
  <Override PartName="/ppt/media/cashreg.wav" ContentType="audio/x-wav"/>
  <Override PartName="/ppt/media/camera.wav" ContentType="audio/x-wav"/>
  <Override PartName="/ppt/media/applause.wav" ContentType="audio/x-wav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4A9A-4244-4599-9DD3-F2CE945429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energy travels in the form of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can travel through solids , liquids and gases by vibrating the particles in the three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energy travels in the form of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can travel through solids , liquids and gases by vibrating the particles in the three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in the three materials vibrate in the same direction as the wave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ve is called a Longitudinal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in the three materials vibrate in the same direction as the wave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ve is called a Longitudinal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aves then vibrate our ear drums which then activate small bones in 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ar is sh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aves then vibrate our ear drums which then activate small bones in 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ar is sh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 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 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travel very much slower than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be seen by observing a thunder and lightning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us quickly but the sound from the thunder comes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travel very much slower than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be seen by observing a thunder and lightning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us quickly but the sound from the thunder comes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measured by by using two microphones and an electronic ti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ound reaches the first mic, the timer starts.When the sound reaches the second mic, the timer s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stance between the two mics (say one metre) and the time , we can work out the speed.This is shown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measured by by using two microphones and an electronic ti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ound reaches the first mic, the timer starts.When the sound reaches the second mic, the timer s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stance between the two mics (say one metre) and the time , we can work out the speed.This is shown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= 0.00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= 1 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= 0.00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= 1 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calculated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1/0.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330 m /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calculated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1/0.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330 m /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transverse wave.The particles move at right angles to the wave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transverse wave.The particles move at right angles to the wave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48F-2E95-4EF5-A72E-140EAAE6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18A-9489-4D34-B983-72574A89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23F6-D25A-4183-B445-126C006D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DEED-6141-4F5E-8686-816A28BA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2A77-0587-4BA5-9CA4-1B054866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136E-0016-4F7B-88B8-F6A64F5A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B4A-4D81-421E-9CC9-B570F609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535-1600-439A-B38A-2500C9C5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8206-1CC8-4E65-99C0-CF87D62E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141-970C-48E1-9705-E8A4F11B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4A83-F956-4483-A555-3299217F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951-C499-466F-BD92-C887B0F7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D425-D12D-4533-9986-8EA043278B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glas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Sound Waves</a:t>
            </a:r>
            <a:r>
              <a:rPr b="0" lang="en-GB" sz="44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ound energy travels in the form of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ound can travel through solids , liquids and gases by vibrating the particles in the three types of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Sound Wav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e particles in the three materials vibrate in the same direction as the wave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is wave is called a Longitudinal W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ongipatm"/>
          <p:cNvPicPr/>
          <p:nvPr/>
        </p:nvPicPr>
        <p:blipFill>
          <a:blip r:embed="rId1"/>
          <a:stretch/>
        </p:blipFill>
        <p:spPr>
          <a:xfrm>
            <a:off x="2987640" y="3933720"/>
            <a:ext cx="5600880" cy="266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82680" y="3862440"/>
            <a:ext cx="2289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S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canno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travel i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vacu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elecommunications.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ound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These waves then vibrate our ear drums which then activate small bones in our inner 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A diagram of the ear is show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The 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41280" y="2060640"/>
            <a:ext cx="8460000" cy="411624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sp>
        <p:nvSpPr>
          <p:cNvPr id="58" name="Text Box 4"/>
          <p:cNvSpPr/>
          <p:nvPr/>
        </p:nvSpPr>
        <p:spPr>
          <a:xfrm>
            <a:off x="1601640" y="31240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b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295280" y="48769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Ear d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4000" y="587700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Outer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2800"/>
            </a:b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The difference between sound and light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404496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Sound waves travel very much slower than light w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This can be seen by observing a thunder and lightning st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The light reaches us quickly but the sound from the thunder comes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2349360"/>
            <a:ext cx="3457440" cy="4089600"/>
          </a:xfrm>
          <a:prstGeom prst="rect">
            <a:avLst/>
          </a:prstGeom>
          <a:ln cap="sq"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elecommunication  The speed of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The speed of sound can be measured by by using two microphones and an electronic ti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When the sound reaches the first mic, the timer starts.When the sound reaches the second mic, the timer st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If we know the distance between the two mics (say one metre) and the time , we can work out the speed.This is shown on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954000" y="808200"/>
            <a:ext cx="69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TELECOMMUNICATION. THE SPEED OF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752480" y="1905120"/>
            <a:ext cx="5562720" cy="1218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ime = 0.003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981080" y="4343400"/>
            <a:ext cx="762120" cy="5335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6095880" y="4343400"/>
            <a:ext cx="762120" cy="5335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6"/>
          <p:cNvCxnSpPr>
            <a:endCxn id="68" idx="1"/>
          </p:cNvCxnSpPr>
          <p:nvPr/>
        </p:nvCxnSpPr>
        <p:spPr>
          <a:xfrm flipH="1" rot="16200000">
            <a:off x="1084680" y="3714480"/>
            <a:ext cx="1715400" cy="76680"/>
          </a:xfrm>
          <a:prstGeom prst="curvedConnector2">
            <a:avLst/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1" name="AutoShape 7"/>
          <p:cNvCxnSpPr>
            <a:endCxn id="68" idx="3"/>
          </p:cNvCxnSpPr>
          <p:nvPr/>
        </p:nvCxnSpPr>
        <p:spPr>
          <a:xfrm flipH="1" rot="16200000">
            <a:off x="1618920" y="3485520"/>
            <a:ext cx="1715400" cy="534240"/>
          </a:xfrm>
          <a:prstGeom prst="curvedConnector5">
            <a:avLst>
              <a:gd name="adj1" fmla="val 42212"/>
              <a:gd name="adj2" fmla="val 71409"/>
              <a:gd name="adj3" fmla="val 42212"/>
            </a:avLst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2" name="AutoShape 8"/>
          <p:cNvCxnSpPr/>
          <p:nvPr/>
        </p:nvCxnSpPr>
        <p:spPr>
          <a:xfrm flipH="1">
            <a:off x="6248160" y="3048120"/>
            <a:ext cx="457920" cy="1715040"/>
          </a:xfrm>
          <a:prstGeom prst="curvedConnector5">
            <a:avLst>
              <a:gd name="adj1" fmla="val -49960"/>
              <a:gd name="adj2" fmla="val 49989"/>
              <a:gd name="adj3" fmla="val -49960"/>
            </a:avLst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3" name="AutoShape 9"/>
          <p:cNvCxnSpPr>
            <a:endCxn id="69" idx="3"/>
          </p:cNvCxnSpPr>
          <p:nvPr/>
        </p:nvCxnSpPr>
        <p:spPr>
          <a:xfrm rot="5400000">
            <a:off x="6228720" y="3600360"/>
            <a:ext cx="1639080" cy="381600"/>
          </a:xfrm>
          <a:prstGeom prst="curvedConnector2">
            <a:avLst/>
          </a:prstGeom>
          <a:ln cap="sq" w="38160">
            <a:solidFill>
              <a:srgbClr val="ffff00"/>
            </a:solidFill>
            <a:miter/>
          </a:ln>
        </p:spPr>
      </p:cxnSp>
      <p:sp>
        <p:nvSpPr>
          <p:cNvPr id="74" name="Text Box 10"/>
          <p:cNvSpPr/>
          <p:nvPr/>
        </p:nvSpPr>
        <p:spPr>
          <a:xfrm>
            <a:off x="1927080" y="5249880"/>
            <a:ext cx="18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011640" y="43131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819520" y="5334120"/>
            <a:ext cx="327636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270240" y="545148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089880" y="54910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Distance = 1 m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304920" y="4267080"/>
            <a:ext cx="838080" cy="909720"/>
          </a:xfrm>
          <a:custGeom>
            <a:avLst/>
            <a:gdLst>
              <a:gd name="textAreaLeft" fmla="*/ 83520 w 838080"/>
              <a:gd name="textAreaRight" fmla="*/ 754560 w 838080"/>
              <a:gd name="textAreaTop" fmla="*/ 363960 h 909720"/>
              <a:gd name="textAreaBottom" fmla="*/ 545760 h 909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0" y="5257800"/>
            <a:ext cx="15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Soun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3200"/>
            </a:b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Calculation of The Speed of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020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e Speed of Sound can be calculated as shown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peed  =  </a:t>
            </a:r>
            <a:r>
              <a:rPr b="0" lang="en-GB" sz="3200" spc="-1" strike="noStrike" u="sng">
                <a:solidFill>
                  <a:srgbClr val="ff99ff"/>
                </a:solidFill>
                <a:uFillTx/>
                <a:latin typeface="Comic Sans MS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=         1/0.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=   330 m / s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he difference between sound and light wa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5000" y="2514600"/>
            <a:ext cx="88963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Light is a transverse wave.The particles move at right angles to the wave as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transverspointcurated2"/>
          <p:cNvPicPr/>
          <p:nvPr/>
        </p:nvPicPr>
        <p:blipFill>
          <a:blip r:embed="rId1"/>
          <a:stretch/>
        </p:blipFill>
        <p:spPr>
          <a:xfrm>
            <a:off x="3132000" y="3716280"/>
            <a:ext cx="53499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9:14:23Z</dcterms:created>
  <dc:creator> </dc:creator>
  <dc:description/>
  <dc:language>en-US</dc:language>
  <cp:lastModifiedBy>RomaK</cp:lastModifiedBy>
  <dcterms:modified xsi:type="dcterms:W3CDTF">2015-09-03T12:38:05Z</dcterms:modified>
  <cp:revision>22</cp:revision>
  <dc:subject/>
  <dc:title>Telecommunication. Sound Waves.</dc:title>
</cp:coreProperties>
</file>