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27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34.jpeg" ContentType="image/jpeg"/>
  <Override PartName="/ppt/media/image28.jpeg" ContentType="image/jpeg"/>
  <Override PartName="/ppt/media/image12.jpeg" ContentType="image/jpeg"/>
  <Override PartName="/ppt/media/image8.jpeg" ContentType="image/jpeg"/>
  <Override PartName="/ppt/media/image10.png" ContentType="image/pn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25.png" ContentType="image/png"/>
  <Override PartName="/ppt/media/image19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61FD2-BFD2-418C-AA50-F29DA94B37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it and where does it come from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activ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t out and sort the pictures under the correct columns.   Label the effects of the electric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and green tables write a sentence describing the effect. E.g. The mains electricity causes the iron to heat up so it can iron the wrinkles out of cloth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safe around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can be very dangerous. You should never put anything into electric sockets, except plu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touch appliances, wires or electrical switches with wet hands or fe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sources of electricity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ssil fuels: coal, oil and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s of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 kind of energy. It is made in power st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lectricity and how is it m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electricity is connected to our ho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is also made in batt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ins electricity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ctricity produced in power stations is carried through wires into building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can connect to it by using a pl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called mains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batteries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a battery are two different chemicals. When you put a battery into an appliance a circuit is ma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chemicals begin to change into new chemicals. As they change an electrical current flows along the circuit making the appliance 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we need electric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modern world we rely on electricity for nearly every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ype of electricity do these appliances us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it for important things lik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igerator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battery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appliances that use batteri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that use mains electric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see in this classroom that uses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things do you have at home that use mains electricit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ECD8-408B-42F8-97F1-1C0DD513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0E40-D935-4AA6-A7D1-4F3DB8F87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DDDD-8413-455C-9027-07F004F26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FBF9-49E5-4ED8-832A-D3FA301FF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816-BE19-4ED7-9D3C-C307608A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79B-82EF-4F65-81F7-48957DF9D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0080-2AC8-4789-BA74-44619BEC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4A9-DDD1-40B9-A7AF-6C0098E1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7041-A2F0-4801-8B69-D96AAEAD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DF41-F814-43CA-A049-C2FC3D39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371-003F-44E2-AE53-507535AE1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8F5E-69EA-4490-8E2D-FF0540AD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219B-3FF1-4ABC-B2E4-7769EDD0D99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www.free-pictures-photos.com/water/water-08.jpg&amp;imgrefurl=http://www.free-pictures-photos.com/water/index.htm&amp;h=930&amp;w=1420&amp;sz=1763&amp;hl=en&amp;start=1&amp;tbnid=jYxoAI8Ylir_vM:&amp;tbnh=98&amp;tbnw=150&amp;prev=/images%3Fq%3Dwater%26svnum%3D10%26hl%3De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uk/imgres?imgurl=http://www.noaanews.noaa.gov/stories2005/images/sun-soho011905-1919z.jpg&amp;imgrefurl=http://www.noaanews.noaa.gov/stories2005/s2372.htm&amp;h=1024&amp;w=1024&amp;sz=118&amp;hl=en&amp;start=1&amp;tbnid=kqJKIgDY4i45dM:&amp;tbnh=150&amp;tbnw=150&amp;prev=/images%3Fq%3DSun%26svnum%3D10%26hl%3De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at is it and where does it come from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403280" y="765000"/>
            <a:ext cx="6438960" cy="168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Electricity </a:t>
            </a:r>
            <a:endParaRPr b="0" lang="en-US" sz="96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4"/>
          <p:cNvSpPr txBox="1"/>
          <p:nvPr/>
        </p:nvSpPr>
        <p:spPr>
          <a:xfrm>
            <a:off x="2195640" y="333360"/>
            <a:ext cx="45910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Independent activ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42920" y="3645000"/>
            <a:ext cx="74167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ut out and sort the pictures under the correct columns.   Label the effects of the electrici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Comic Sans MS"/>
              </a:rPr>
              <a:t>Blu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gree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bles write a sentence describing the effect. E.g. </a:t>
            </a:r>
            <a:r>
              <a:rPr b="0" lang="en-GB" sz="2400" spc="-1" strike="noStrike">
                <a:solidFill>
                  <a:srgbClr val="800080"/>
                </a:solidFill>
                <a:latin typeface="Comic Sans MS"/>
              </a:rPr>
              <a:t>The mains electricity causes the iron to heat up so it can iron the wrinkles out of cloth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050920" y="1125360"/>
          <a:ext cx="4392720" cy="2352960"/>
        </p:xfrm>
        <a:graphic>
          <a:graphicData uri="http://schemas.openxmlformats.org/drawingml/2006/table">
            <a:tbl>
              <a:tblPr/>
              <a:tblGrid>
                <a:gridCol w="2197080"/>
                <a:gridCol w="21956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ai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atter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3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und, mov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Picture 24" descr="3010"/>
          <p:cNvPicPr/>
          <p:nvPr/>
        </p:nvPicPr>
        <p:blipFill>
          <a:blip r:embed="rId3"/>
          <a:stretch/>
        </p:blipFill>
        <p:spPr>
          <a:xfrm>
            <a:off x="2484360" y="19162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4" descr="silvergaucho"/>
          <p:cNvPicPr/>
          <p:nvPr/>
        </p:nvPicPr>
        <p:blipFill>
          <a:blip r:embed="rId4"/>
          <a:stretch/>
        </p:blipFill>
        <p:spPr>
          <a:xfrm>
            <a:off x="4500720" y="1916280"/>
            <a:ext cx="1265040" cy="103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6" descr="Zapped"/>
          <p:cNvPicPr/>
          <p:nvPr/>
        </p:nvPicPr>
        <p:blipFill>
          <a:blip r:embed="rId1"/>
          <a:stretch/>
        </p:blipFill>
        <p:spPr>
          <a:xfrm>
            <a:off x="684360" y="549360"/>
            <a:ext cx="1847880" cy="1762200"/>
          </a:xfrm>
          <a:prstGeom prst="rect">
            <a:avLst/>
          </a:prstGeom>
          <a:ln w="0">
            <a:noFill/>
          </a:ln>
        </p:spPr>
      </p:pic>
      <p:sp>
        <p:nvSpPr>
          <p:cNvPr id="52" name="WordArt 8"/>
          <p:cNvSpPr txBox="1"/>
          <p:nvPr/>
        </p:nvSpPr>
        <p:spPr>
          <a:xfrm>
            <a:off x="2843280" y="765000"/>
            <a:ext cx="55436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Be safe around electricity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1187280" y="278136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can be very dangerous. You should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put anything into electric sockets, except plu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1187280" y="4581360"/>
            <a:ext cx="68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Never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uch appliances, wires or electrical switches with wet hands or fe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024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re are many sources of electricity such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water-0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2492280"/>
            <a:ext cx="2305080" cy="1506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sun-soho011905-1919z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26920" y="2421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wind_tur"/>
          <p:cNvPicPr/>
          <p:nvPr/>
        </p:nvPicPr>
        <p:blipFill>
          <a:blip r:embed="rId5"/>
          <a:stretch/>
        </p:blipFill>
        <p:spPr>
          <a:xfrm>
            <a:off x="2701800" y="2421000"/>
            <a:ext cx="2314800" cy="1444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mvc-002f"/>
          <p:cNvPicPr/>
          <p:nvPr/>
        </p:nvPicPr>
        <p:blipFill>
          <a:blip r:embed="rId6"/>
          <a:stretch/>
        </p:blipFill>
        <p:spPr>
          <a:xfrm>
            <a:off x="826920" y="5157720"/>
            <a:ext cx="1305000" cy="981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23"/>
          <p:cNvSpPr/>
          <p:nvPr/>
        </p:nvSpPr>
        <p:spPr>
          <a:xfrm>
            <a:off x="1619280" y="4076640"/>
            <a:ext cx="57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ossil fuels: coal, oil and w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5" descr="DYRYNDA%20Oil%20suction%20WEB"/>
          <p:cNvPicPr/>
          <p:nvPr/>
        </p:nvPicPr>
        <p:blipFill>
          <a:blip r:embed="rId7"/>
          <a:stretch/>
        </p:blipFill>
        <p:spPr>
          <a:xfrm>
            <a:off x="2987640" y="4724280"/>
            <a:ext cx="2448000" cy="160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tree%20bark"/>
          <p:cNvPicPr/>
          <p:nvPr/>
        </p:nvPicPr>
        <p:blipFill>
          <a:blip r:embed="rId8"/>
          <a:stretch/>
        </p:blipFill>
        <p:spPr>
          <a:xfrm>
            <a:off x="6012000" y="4869000"/>
            <a:ext cx="1734840" cy="1164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28"/>
          <p:cNvSpPr txBox="1"/>
          <p:nvPr/>
        </p:nvSpPr>
        <p:spPr>
          <a:xfrm>
            <a:off x="2050920" y="765000"/>
            <a:ext cx="4819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Sources of electricity 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763640" y="2205000"/>
            <a:ext cx="38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755640" y="119700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 kind of energy. It is made in power st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9"/>
          <p:cNvSpPr txBox="1"/>
          <p:nvPr/>
        </p:nvSpPr>
        <p:spPr>
          <a:xfrm>
            <a:off x="900000" y="549360"/>
            <a:ext cx="7505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at is electricity and how is it made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3780000" y="5084640"/>
            <a:ext cx="45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How do you think electricity is connected to our ho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4" descr="coal"/>
          <p:cNvPicPr/>
          <p:nvPr/>
        </p:nvPicPr>
        <p:blipFill>
          <a:blip r:embed="rId3"/>
          <a:stretch/>
        </p:blipFill>
        <p:spPr>
          <a:xfrm>
            <a:off x="684360" y="2276640"/>
            <a:ext cx="3600360" cy="252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6" descr="alkaline-batteries"/>
          <p:cNvPicPr/>
          <p:nvPr/>
        </p:nvPicPr>
        <p:blipFill>
          <a:blip r:embed="rId4"/>
          <a:stretch/>
        </p:blipFill>
        <p:spPr>
          <a:xfrm>
            <a:off x="4643280" y="2205000"/>
            <a:ext cx="2880000" cy="26398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8"/>
          <p:cNvSpPr/>
          <p:nvPr/>
        </p:nvSpPr>
        <p:spPr>
          <a:xfrm>
            <a:off x="2268360" y="1628640"/>
            <a:ext cx="52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lectricity is also made in batte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WordArt 4"/>
          <p:cNvSpPr txBox="1"/>
          <p:nvPr/>
        </p:nvSpPr>
        <p:spPr>
          <a:xfrm>
            <a:off x="1547640" y="765000"/>
            <a:ext cx="596268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mains electricity works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539640" y="1628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electricity produced in power stations is carried through wires into building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uk-plug"/>
          <p:cNvPicPr/>
          <p:nvPr/>
        </p:nvPicPr>
        <p:blipFill>
          <a:blip r:embed="rId3"/>
          <a:stretch/>
        </p:blipFill>
        <p:spPr>
          <a:xfrm>
            <a:off x="6516720" y="3357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elec3"/>
          <p:cNvPicPr/>
          <p:nvPr/>
        </p:nvPicPr>
        <p:blipFill>
          <a:blip r:embed="rId4"/>
          <a:stretch/>
        </p:blipFill>
        <p:spPr>
          <a:xfrm>
            <a:off x="3635280" y="3213000"/>
            <a:ext cx="2303640" cy="2303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pylons"/>
          <p:cNvPicPr/>
          <p:nvPr/>
        </p:nvPicPr>
        <p:blipFill>
          <a:blip r:embed="rId5"/>
          <a:stretch/>
        </p:blipFill>
        <p:spPr>
          <a:xfrm>
            <a:off x="755640" y="2997360"/>
            <a:ext cx="2527200" cy="31683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4"/>
          <p:cNvSpPr/>
          <p:nvPr/>
        </p:nvSpPr>
        <p:spPr>
          <a:xfrm>
            <a:off x="179280" y="2421000"/>
            <a:ext cx="1096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we can connect to it by using a plu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0"/>
          <p:cNvSpPr/>
          <p:nvPr/>
        </p:nvSpPr>
        <p:spPr>
          <a:xfrm>
            <a:off x="4698000" y="2060640"/>
            <a:ext cx="43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is called mains electr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1547640" y="620640"/>
            <a:ext cx="57531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How batteries work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79" name="Picture 5" descr="batteries"/>
          <p:cNvPicPr/>
          <p:nvPr/>
        </p:nvPicPr>
        <p:blipFill>
          <a:blip r:embed="rId3"/>
          <a:stretch/>
        </p:blipFill>
        <p:spPr>
          <a:xfrm>
            <a:off x="6659640" y="5084640"/>
            <a:ext cx="1920960" cy="15876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3780000" y="1413000"/>
            <a:ext cx="417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side a battery are two different chemicals. When you put a battery into an appliance a circuit is m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battery1"/>
          <p:cNvPicPr/>
          <p:nvPr/>
        </p:nvPicPr>
        <p:blipFill>
          <a:blip r:embed="rId4"/>
          <a:srcRect l="3561" t="22732" r="28743" b="24232"/>
          <a:stretch/>
        </p:blipFill>
        <p:spPr>
          <a:xfrm>
            <a:off x="611280" y="1484280"/>
            <a:ext cx="2800080" cy="3949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battery1"/>
          <p:cNvPicPr/>
          <p:nvPr/>
        </p:nvPicPr>
        <p:blipFill>
          <a:blip r:embed="rId5"/>
          <a:srcRect l="0" t="90926" r="60810" b="0"/>
          <a:stretch/>
        </p:blipFill>
        <p:spPr>
          <a:xfrm>
            <a:off x="611280" y="5734080"/>
            <a:ext cx="2158920" cy="706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8"/>
          <p:cNvSpPr/>
          <p:nvPr/>
        </p:nvSpPr>
        <p:spPr>
          <a:xfrm>
            <a:off x="3924360" y="3141720"/>
            <a:ext cx="4751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two chemicals begin to change into new chemicals. As they change an electrical current flows along the circuit making the appliance 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4"/>
          <p:cNvSpPr txBox="1"/>
          <p:nvPr/>
        </p:nvSpPr>
        <p:spPr>
          <a:xfrm>
            <a:off x="1403280" y="620640"/>
            <a:ext cx="60674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Why do we need electricity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63640" y="1700280"/>
            <a:ext cx="403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611280" y="155736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In the modern world we rely on electricity for nearly everyth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9" descr="HDC190"/>
          <p:cNvPicPr/>
          <p:nvPr/>
        </p:nvPicPr>
        <p:blipFill>
          <a:blip r:embed="rId3"/>
          <a:stretch/>
        </p:blipFill>
        <p:spPr>
          <a:xfrm>
            <a:off x="755640" y="3573360"/>
            <a:ext cx="1905120" cy="21639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" descr="wolves_lamp"/>
          <p:cNvPicPr/>
          <p:nvPr/>
        </p:nvPicPr>
        <p:blipFill>
          <a:blip r:embed="rId4"/>
          <a:stretch/>
        </p:blipFill>
        <p:spPr>
          <a:xfrm>
            <a:off x="6588000" y="3357720"/>
            <a:ext cx="1671840" cy="2187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9"/>
          <p:cNvSpPr/>
          <p:nvPr/>
        </p:nvSpPr>
        <p:spPr>
          <a:xfrm>
            <a:off x="2916360" y="5516640"/>
            <a:ext cx="532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What type of electricity do these appliances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1"/>
          <p:cNvSpPr/>
          <p:nvPr/>
        </p:nvSpPr>
        <p:spPr>
          <a:xfrm>
            <a:off x="611280" y="242100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 need it for important things lik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4" descr="000000209120050124161105"/>
          <p:cNvPicPr/>
          <p:nvPr/>
        </p:nvPicPr>
        <p:blipFill>
          <a:blip r:embed="rId5"/>
          <a:stretch/>
        </p:blipFill>
        <p:spPr>
          <a:xfrm>
            <a:off x="3492360" y="3573360"/>
            <a:ext cx="1951200" cy="1903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25"/>
          <p:cNvSpPr/>
          <p:nvPr/>
        </p:nvSpPr>
        <p:spPr>
          <a:xfrm>
            <a:off x="684360" y="306864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friger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6"/>
          <p:cNvSpPr/>
          <p:nvPr/>
        </p:nvSpPr>
        <p:spPr>
          <a:xfrm>
            <a:off x="3635280" y="306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6732720" y="2852640"/>
            <a:ext cx="172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igh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5"/>
          <p:cNvSpPr txBox="1"/>
          <p:nvPr/>
        </p:nvSpPr>
        <p:spPr>
          <a:xfrm>
            <a:off x="1116000" y="765000"/>
            <a:ext cx="650556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battery power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755640" y="1844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Can you think of appliances that use batter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Remote%20control%20philips"/>
          <p:cNvPicPr/>
          <p:nvPr/>
        </p:nvPicPr>
        <p:blipFill>
          <a:blip r:embed="rId3"/>
          <a:stretch/>
        </p:blipFill>
        <p:spPr>
          <a:xfrm>
            <a:off x="684360" y="2708280"/>
            <a:ext cx="1993680" cy="149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5" descr="wwwwwww$818133129"/>
          <p:cNvPicPr/>
          <p:nvPr/>
        </p:nvPicPr>
        <p:blipFill>
          <a:blip r:embed="rId4"/>
          <a:stretch/>
        </p:blipFill>
        <p:spPr>
          <a:xfrm>
            <a:off x="5796000" y="2492280"/>
            <a:ext cx="1789200" cy="212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diving_torch"/>
          <p:cNvPicPr/>
          <p:nvPr/>
        </p:nvPicPr>
        <p:blipFill>
          <a:blip r:embed="rId5"/>
          <a:stretch/>
        </p:blipFill>
        <p:spPr>
          <a:xfrm>
            <a:off x="3564000" y="2565360"/>
            <a:ext cx="1828800" cy="153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1258920" y="620640"/>
            <a:ext cx="6219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Things that use mains electricity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01" name="Picture 6" descr="intermediate-pc"/>
          <p:cNvPicPr/>
          <p:nvPr/>
        </p:nvPicPr>
        <p:blipFill>
          <a:blip r:embed="rId3"/>
          <a:stretch/>
        </p:blipFill>
        <p:spPr>
          <a:xfrm>
            <a:off x="1073160" y="2624040"/>
            <a:ext cx="2806560" cy="2476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projectors"/>
          <p:cNvPicPr/>
          <p:nvPr/>
        </p:nvPicPr>
        <p:blipFill>
          <a:blip r:embed="rId4"/>
          <a:stretch/>
        </p:blipFill>
        <p:spPr>
          <a:xfrm>
            <a:off x="5003640" y="2205000"/>
            <a:ext cx="3384720" cy="2185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900000" y="141300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can you see in this classroom that uses mains electrici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324650_3"/>
          <p:cNvPicPr/>
          <p:nvPr/>
        </p:nvPicPr>
        <p:blipFill>
          <a:blip r:embed="rId5"/>
          <a:stretch/>
        </p:blipFill>
        <p:spPr>
          <a:xfrm>
            <a:off x="3851280" y="4437000"/>
            <a:ext cx="2168640" cy="14400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539640" y="558972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What things do you have at home that use mains electricity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2:57:45Z</dcterms:created>
  <dc:creator>Uel User</dc:creator>
  <dc:description/>
  <dc:language>en-US</dc:language>
  <cp:lastModifiedBy>RomaK</cp:lastModifiedBy>
  <dcterms:modified xsi:type="dcterms:W3CDTF">2015-09-03T12:38:12Z</dcterms:modified>
  <cp:revision>35</cp:revision>
  <dc:subject/>
  <dc:title> </dc:title>
</cp:coreProperties>
</file>