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6D84-9D36-4BAA-8546-E8887A0C08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AE0C-4E06-4561-8629-F2C5B26B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4C1-71F5-4400-81EE-6137BDA3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3F3-A94E-438D-BCAF-C9693E50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8F2-D412-4CBE-93A0-26202CF3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70A3-4865-4918-9874-74E31E42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6619-F748-482A-9285-37D54409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6D8E-D42D-48FA-A8CC-7B26C66E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EF47-909A-4212-AEFA-33E52048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D698-CA3C-4EB2-900A-9C0D3CA3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4232-5965-4DF4-A2AE-6CB44B22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8A48-9309-4235-A565-EE09E552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D9C2-AF05-474F-AA70-B5B1FB3C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C702-7CDF-4805-B94D-41CB923A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BB3E-BA12-4CFD-9560-072C56CC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09D3-56FA-4050-B8D1-6C788D27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15E2-CFA3-401F-AE1D-B426422F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CB89-2113-4C86-88F6-2C6D7C4A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F33-A909-4F73-B74D-CAB29C0C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A63-3134-4086-985B-CF213C72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62A-53B3-4DAB-80ED-146AB0C2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FE1-41CA-4903-9AE2-335A3865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890-AE79-4C5D-AB8D-03B04FE0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1ED-9900-4DE0-8EB9-E99D838D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A26-9285-4BB1-A07A-461365E9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9AE6-31E0-448A-B0A5-4510805D11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EDCD-8C63-4B72-A06B-BE1A079053A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ment of average spee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one by measuring a distance with a tape then measuring the time with a stop clock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EN AVERAGE SPEED =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istance /tim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d in metres per second (m/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nstantaneous speed is the speed over a small distance e.g. 5c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done with a light gate attached to a compu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Accelera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is is the change in speed divide by the time tak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8:26Z</dcterms:modified>
  <cp:revision>26</cp:revision>
  <dc:subject/>
  <dc:title>Slide 1</dc:title>
</cp:coreProperties>
</file>