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gif" ContentType="image/gif"/>
  <Override PartName="/ppt/media/image2.gif" ContentType="image/gif"/>
  <Override PartName="/ppt/media/image3.gif" ContentType="image/gif"/>
  <Override PartName="/ppt/media/image4.png" ContentType="image/png"/>
  <Override PartName="/ppt/media/image5.gif" ContentType="image/gif"/>
  <Override PartName="/ppt/media/image10.gif" ContentType="image/gif"/>
  <Override PartName="/ppt/media/image6.gif" ContentType="image/gif"/>
  <Override PartName="/ppt/media/image11.gif" ContentType="image/gif"/>
  <Override PartName="/ppt/media/image7.gif" ContentType="image/gif"/>
  <Override PartName="/ppt/media/image12.gif" ContentType="image/gif"/>
  <Override PartName="/ppt/media/image8.gif" ContentType="image/gif"/>
  <Override PartName="/ppt/media/image9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C62DC-8763-4A39-AFBC-3DB4439E0F1F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ypes of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7 Environment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je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Types of Energy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Y7 Environmental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Project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GEL 2007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ESTIO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o we need to mov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N E R G 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do we get this energy from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 O O 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QUESTION?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What do we need to move?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E N E R G Y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Where do we get this energy from?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F O O D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uld happen withou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fact …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H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would happen without 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In fact …..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                 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NOTHING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ENERGY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INETIC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AL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ND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AT &amp; LIGHT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IN A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KINETIC ENERGY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ELECTRICAL ENERGY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OUND ENERGY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HEAT &amp; LIGHT ENERGY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ENERGY IN ACTION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ORED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VITATIONAL POTENTIAL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EMICAL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RAIN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AR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TORED ENERGY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GRAVITATIONAL POTENTIAL ENERGY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CHEMICAL ENERGY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TRAIN ENERGY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NUCLEAR ENERGY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6544C-609B-4264-A57D-2B9789D32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C5193-7F6D-490F-ADEB-0D312EC53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ECA04-0169-49DA-8FD0-D2BDBAFE3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DF5E3-4625-4A08-953E-3C9BB84F1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470EB-20B1-4E1B-9B3B-9D84E53D1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F3B1B-365D-4429-960F-B34B82299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510E9-5045-48D8-ABCD-21FD09155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E8FB2-EBE6-4EE7-ADF6-9DD46DF62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DD730-A744-41F5-A8EB-D0C78BA35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1959A-AFA8-41A2-8391-F5012A9AE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6EF26-8F55-4CAD-9F34-6C584F28A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90873-C6A9-4F20-BE25-71A6AE37E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138A1-B0F0-4017-B9CA-E3608333A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0F537-E6D8-4919-A6F3-1FA387208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04C73-E8ED-45F0-904C-A5DCAC33E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879D0-F864-488C-9B23-7B8B0EF53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220AC-02B3-49AB-ABDB-45C3B8CAF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0E4124-2BA8-42A4-8965-540C3A988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5A6C14-8239-454F-9C2D-D34F31B0E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6D200F-4D38-4ACE-8784-75BB0D61E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E6C852-1816-49D1-8993-F640054B0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562C62-C4A9-4A23-BB3B-1456E0C98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EEFDE-1820-4482-AB65-044BFA0B0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AB7F76-00ED-4126-BE26-91CAF85E0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C459EE-5629-414C-A22E-513E09327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4F53B6-2930-4EA2-B738-4E87F19AD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8E95E9-FF5B-41C4-8337-A21CFDB74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728970-0C58-4AC0-A029-0E5308EBB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1B6A81-A1D3-4256-8445-13011CD56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50ADA1-9EFA-47B3-95B1-97A6F587B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0E967-AE8E-464E-B9C9-99CF8C094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74C90-250D-4B4E-AD1E-805FA411C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C9040-2C98-4D90-8E9A-4760BEB8E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5747B-A0BD-4E78-BE3B-C983217D5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98E4A-07DC-4675-9377-B3ABF32F2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9BDCC-4C42-478D-A835-E36D0FAAA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6273360" y="-21240"/>
            <a:ext cx="2870280" cy="3275280"/>
            <a:chOff x="6273360" y="-21240"/>
            <a:chExt cx="2870280" cy="3275280"/>
          </a:xfrm>
        </p:grpSpPr>
        <p:grpSp>
          <p:nvGrpSpPr>
            <p:cNvPr id="1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Oval 5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Group 12"/>
            <p:cNvGrpSpPr/>
            <p:nvPr/>
          </p:nvGrpSpPr>
          <p:grpSpPr>
            <a:xfrm>
              <a:off x="6273360" y="-21240"/>
              <a:ext cx="2870280" cy="2268360"/>
              <a:chOff x="6273360" y="-21240"/>
              <a:chExt cx="2870280" cy="2268360"/>
            </a:xfrm>
          </p:grpSpPr>
          <p:grpSp>
            <p:nvGrpSpPr>
              <p:cNvPr id="11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Oval 15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Group 16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Group 17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Freeform 18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Group 20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Freeform 21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Group 23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Freeform 24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Group 26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Freeform 27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Group 29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Freeform 30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Group 32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Freeform 33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Group 35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Freeform 36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Freeform 37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Group 38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Freeform 39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Freeform 40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Group 41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Freeform 42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Group 44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Freeform 45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Freeform 46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Group 47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Freeform 48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Freeform 49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Group 50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Freeform 51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Freeform 52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Group 53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Freeform 54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Freeform 55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Group 56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Freeform 57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Freeform 58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Group 59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Freeform 60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Freeform 61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Group 62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Freeform 63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Freeform 64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Group 65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Freeform 66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Freeform 67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Freeform 69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Freeform 70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Group 71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Freeform 72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Freeform 73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Group 74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Freeform 75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Group 77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Freeform 78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Freeform 79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Freeform 81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Group 82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Freeform 83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Freeform 84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Group 85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Freeform 86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Freeform 87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Group 88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Freeform 89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80" bIns="-28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Freeform 90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Group 91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Freeform 92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Freeform 93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Group 94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Freeform 95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Freeform 96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Group 97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Freeform 98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Freeform 99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Group 100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Freeform 101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Freeform 102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Group 103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Freeform 104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Group 106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Freeform 107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Freeform 108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Group 109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Freeform 110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11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Group 112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Freeform 113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Freeform 114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Freeform 115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Arc 116"/>
              <p:cNvSpPr/>
              <p:nvPr/>
            </p:nvSpPr>
            <p:spPr>
              <a:xfrm flipH="1">
                <a:off x="6844680" y="950040"/>
                <a:ext cx="1090080" cy="118188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/>
                <a:ahLst/>
                <a:rect l="l" t="t" r="r" b="b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lnTo>
                      <a:pt x="36729" y="1045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Arc 118"/>
              <p:cNvSpPr/>
              <p:nvPr/>
            </p:nvSpPr>
            <p:spPr>
              <a:xfrm flipH="1">
                <a:off x="6954480" y="759240"/>
                <a:ext cx="637200" cy="122112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Arc 119"/>
              <p:cNvSpPr/>
              <p:nvPr/>
            </p:nvSpPr>
            <p:spPr>
              <a:xfrm flipH="1">
                <a:off x="6502320" y="821880"/>
                <a:ext cx="1035000" cy="1219680"/>
              </a:xfrm>
              <a:custGeom>
                <a:avLst/>
                <a:gdLst/>
                <a:ahLst/>
                <a:rect l="l" t="t" r="r" b="b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lnTo>
                      <a:pt x="-1" y="1906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Arc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Arc 122"/>
              <p:cNvSpPr/>
              <p:nvPr/>
            </p:nvSpPr>
            <p:spPr>
              <a:xfrm>
                <a:off x="7813080" y="765720"/>
                <a:ext cx="515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Arc 123"/>
              <p:cNvSpPr/>
              <p:nvPr/>
            </p:nvSpPr>
            <p:spPr>
              <a:xfrm>
                <a:off x="7858800" y="605880"/>
                <a:ext cx="731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Freeform 124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Freeform 125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/>
                <a:ahLst/>
                <a:rect l="l" t="t" r="r" b="b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lnTo>
                      <a:pt x="0" y="6283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Arc 127"/>
              <p:cNvSpPr/>
              <p:nvPr/>
            </p:nvSpPr>
            <p:spPr>
              <a:xfrm flipH="1">
                <a:off x="6708960" y="160560"/>
                <a:ext cx="948600" cy="1181880"/>
              </a:xfrm>
              <a:custGeom>
                <a:avLst/>
                <a:gdLst/>
                <a:ahLst/>
                <a:rect l="l" t="t" r="r" b="b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lnTo>
                      <a:pt x="-1" y="1001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Arc 128"/>
              <p:cNvSpPr/>
              <p:nvPr/>
            </p:nvSpPr>
            <p:spPr>
              <a:xfrm>
                <a:off x="7722360" y="657000"/>
                <a:ext cx="391320" cy="1182960"/>
              </a:xfrm>
              <a:custGeom>
                <a:avLst/>
                <a:gdLst/>
                <a:ahLst/>
                <a:rect l="l" t="t" r="r" b="b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Freeform 129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Freeform 130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Freeform 133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Freeform 134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Freeform 135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Freeform 136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6C577-43CD-4D4A-927E-B60159667761}" type="slidenum">
              <a:rPr b="0" lang="en-GB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871F3-644F-4404-8CE5-F63AD2609BC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7" name="Group 2"/>
          <p:cNvGrpSpPr/>
          <p:nvPr/>
        </p:nvGrpSpPr>
        <p:grpSpPr>
          <a:xfrm>
            <a:off x="2010960" y="245520"/>
            <a:ext cx="6896160" cy="5452200"/>
            <a:chOff x="2010960" y="245520"/>
            <a:chExt cx="6896160" cy="5452200"/>
          </a:xfrm>
        </p:grpSpPr>
        <p:grpSp>
          <p:nvGrpSpPr>
            <p:cNvPr id="218" name="Group 3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219" name="Oval 4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20" name="Oval 5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221" name="Group 6"/>
            <p:cNvGrpSpPr/>
            <p:nvPr/>
          </p:nvGrpSpPr>
          <p:grpSpPr>
            <a:xfrm>
              <a:off x="2010960" y="245520"/>
              <a:ext cx="6896160" cy="5452200"/>
              <a:chOff x="2010960" y="245520"/>
              <a:chExt cx="6896160" cy="5452200"/>
            </a:xfrm>
          </p:grpSpPr>
          <p:grpSp>
            <p:nvGrpSpPr>
              <p:cNvPr id="222" name="Group 7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223" name="Group 8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224" name="Oval 9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" name="Oval 10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6" name="Group 11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227" name="Group 12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228" name="Freeform 13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9" name="Freeform 14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0" name="Group 15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231" name="Freeform 16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2" name="Freeform 17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3" name="Group 18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234" name="Freeform 19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5" name="Freeform 20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6" name="Group 21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237" name="Freeform 22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8" name="Freeform 23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9" name="Group 24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240" name="Freeform 25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1" name="Freeform 26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2" name="Group 27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43" name="Freeform 28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4" name="Freeform 29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5" name="Group 30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46" name="Freeform 31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7" name="Freeform 32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8" name="Group 33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49" name="Freeform 34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0" name="Freeform 35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1" name="Group 36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52" name="Freeform 37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Freeform 38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Group 39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55" name="Freeform 40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Freeform 41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Group 42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58" name="Freeform 43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Freeform 44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Group 45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61" name="Freeform 46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Freeform 47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Group 48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64" name="Freeform 49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Freeform 50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Group 51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67" name="Freeform 52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Freeform 53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Group 54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70" name="Freeform 55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Freeform 56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Group 57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73" name="Freeform 58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Freeform 59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Group 60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76" name="Freeform 61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Freeform 62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Group 63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79" name="Freeform 64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Freeform 65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Group 66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82" name="Freeform 67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Freeform 68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4" name="Group 69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85" name="Freeform 70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6" name="Freeform 71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7" name="Group 72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88" name="Freeform 73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9" name="Freeform 74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90" name="Freeform 75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76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92" name="Group 77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93" name="Freeform 78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4" name="Freeform 79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5" name="Group 80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96" name="Freeform 81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7" name="Freeform 82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8" name="Group 83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99" name="Freeform 84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0" name="Freeform 85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1" name="Group 86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302" name="Freeform 87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3" name="Freeform 88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4" name="Group 89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305" name="Freeform 90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6" name="Freeform 91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7" name="Group 92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308" name="Freeform 93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9" name="Freeform 94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0" name="Group 95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311" name="Freeform 96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2" name="Freeform 97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3" name="Group 98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314" name="Freeform 99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5" name="Freeform 100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6" name="Group 101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317" name="Freeform 102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8" name="Freeform 103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9" name="Group 104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320" name="Freeform 105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1" name="Freeform 106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2" name="Group 107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323" name="Freeform 108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4" name="Freeform 109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325" name="Group 110"/>
              <p:cNvGrpSpPr/>
              <p:nvPr/>
            </p:nvGrpSpPr>
            <p:grpSpPr>
              <a:xfrm>
                <a:off x="2175480" y="682560"/>
                <a:ext cx="6731640" cy="4521240"/>
                <a:chOff x="2175480" y="682560"/>
                <a:chExt cx="6731640" cy="4521240"/>
              </a:xfrm>
            </p:grpSpPr>
            <p:grpSp>
              <p:nvGrpSpPr>
                <p:cNvPr id="326" name="Group 111"/>
                <p:cNvGrpSpPr/>
                <p:nvPr/>
              </p:nvGrpSpPr>
              <p:grpSpPr>
                <a:xfrm>
                  <a:off x="2175480" y="682560"/>
                  <a:ext cx="6731640" cy="4521240"/>
                  <a:chOff x="2175480" y="682560"/>
                  <a:chExt cx="6731640" cy="4521240"/>
                </a:xfrm>
              </p:grpSpPr>
              <p:sp>
                <p:nvSpPr>
                  <p:cNvPr id="327" name="Arc 112"/>
                  <p:cNvSpPr/>
                  <p:nvPr/>
                </p:nvSpPr>
                <p:spPr>
                  <a:xfrm flipV="1">
                    <a:off x="5741640" y="857880"/>
                    <a:ext cx="3165480" cy="25225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</a:path>
                      <a:path stroke="0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  <a:lnTo>
                          <a:pt x="17826" y="0"/>
                        </a:lnTo>
                        <a:lnTo>
                          <a:pt x="36729" y="1045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8" name="Arc 113"/>
                  <p:cNvSpPr/>
                  <p:nvPr/>
                </p:nvSpPr>
                <p:spPr>
                  <a:xfrm flipH="1">
                    <a:off x="2561760" y="2270520"/>
                    <a:ext cx="248580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</a:path>
                      <a:path stroke="0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  <a:lnTo>
                          <a:pt x="8873" y="21600"/>
                        </a:lnTo>
                        <a:lnTo>
                          <a:pt x="-1" y="1906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9" name="Arc 114"/>
                  <p:cNvSpPr/>
                  <p:nvPr/>
                </p:nvSpPr>
                <p:spPr>
                  <a:xfrm>
                    <a:off x="5819400" y="1752840"/>
                    <a:ext cx="175824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</a:path>
                      <a:path stroke="0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0" name="Arc 115"/>
                  <p:cNvSpPr/>
                  <p:nvPr/>
                </p:nvSpPr>
                <p:spPr>
                  <a:xfrm flipH="1">
                    <a:off x="2175480" y="1298880"/>
                    <a:ext cx="313200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</a:path>
                      <a:path stroke="0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  <a:lnTo>
                          <a:pt x="15230" y="21600"/>
                        </a:lnTo>
                        <a:lnTo>
                          <a:pt x="0" y="6283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1" name="Arc 116"/>
                  <p:cNvSpPr/>
                  <p:nvPr/>
                </p:nvSpPr>
                <p:spPr>
                  <a:xfrm flipH="1">
                    <a:off x="3058560" y="682560"/>
                    <a:ext cx="2280960" cy="2840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</a:path>
                      <a:path stroke="0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  <a:lnTo>
                          <a:pt x="18231" y="21600"/>
                        </a:lnTo>
                        <a:lnTo>
                          <a:pt x="-1" y="10015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Arc 117"/>
                  <p:cNvSpPr/>
                  <p:nvPr/>
                </p:nvSpPr>
                <p:spPr>
                  <a:xfrm>
                    <a:off x="5491080" y="1875960"/>
                    <a:ext cx="941760" cy="2840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</a:path>
                      <a:path stroke="0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3" name="Freeform 118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4" name="Freeform 119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5" name="Group 120"/>
            <p:cNvGrpSpPr/>
            <p:nvPr/>
          </p:nvGrpSpPr>
          <p:grpSpPr>
            <a:xfrm>
              <a:off x="2342880" y="712800"/>
              <a:ext cx="6410160" cy="4708080"/>
              <a:chOff x="2342880" y="712800"/>
              <a:chExt cx="6410160" cy="4708080"/>
            </a:xfrm>
          </p:grpSpPr>
          <p:sp>
            <p:nvSpPr>
              <p:cNvPr id="336" name="Freeform 121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37" name="Arc 122"/>
              <p:cNvSpPr/>
              <p:nvPr/>
            </p:nvSpPr>
            <p:spPr>
              <a:xfrm flipH="1">
                <a:off x="3384000" y="2579760"/>
                <a:ext cx="2616480" cy="284112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38" name="Arc 123"/>
              <p:cNvSpPr/>
              <p:nvPr/>
            </p:nvSpPr>
            <p:spPr>
              <a:xfrm flipH="1">
                <a:off x="3645360" y="2122200"/>
                <a:ext cx="1533600" cy="293400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39" name="Arc 124"/>
              <p:cNvSpPr/>
              <p:nvPr/>
            </p:nvSpPr>
            <p:spPr>
              <a:xfrm flipH="1">
                <a:off x="2342520" y="1737720"/>
                <a:ext cx="2930040" cy="293364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40" name="Arc 125"/>
              <p:cNvSpPr/>
              <p:nvPr/>
            </p:nvSpPr>
            <p:spPr>
              <a:xfrm>
                <a:off x="5586480" y="2150640"/>
                <a:ext cx="469800" cy="29340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41" name="Arc 126"/>
              <p:cNvSpPr/>
              <p:nvPr/>
            </p:nvSpPr>
            <p:spPr>
              <a:xfrm>
                <a:off x="5709960" y="2136960"/>
                <a:ext cx="1237680" cy="29340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42" name="Freeform 127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43" name="Freeform 128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44" name="Freeform 129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45" name="Freeform 130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46" name="Freeform 131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47" name="Freeform 132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48" name="Freeform 133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49" name="Freeform 134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12A4C-BA73-44FB-978F-10C5A02B1F7D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image" Target="../media/image7.gif"/><Relationship Id="rId4" Type="http://schemas.openxmlformats.org/officeDocument/2006/relationships/image" Target="../media/image8.gif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image" Target="../media/image11.gif"/><Relationship Id="rId4" Type="http://schemas.openxmlformats.org/officeDocument/2006/relationships/image" Target="../media/image12.gif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0" y="98100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Arial Black"/>
              </a:rPr>
              <a:t>Types of Energy</a:t>
            </a:r>
            <a:endParaRPr b="0" lang="en-US" sz="5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7 Environmenta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rojec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GEL 2007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400" name="Picture 5" descr="fireworks_1"/>
          <p:cNvPicPr/>
          <p:nvPr/>
        </p:nvPicPr>
        <p:blipFill>
          <a:blip r:embed="rId1"/>
          <a:stretch/>
        </p:blipFill>
        <p:spPr>
          <a:xfrm>
            <a:off x="8101080" y="5815080"/>
            <a:ext cx="1042920" cy="104292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6" descr="fireworks_1"/>
          <p:cNvPicPr/>
          <p:nvPr/>
        </p:nvPicPr>
        <p:blipFill>
          <a:blip r:embed="rId2"/>
          <a:stretch/>
        </p:blipFill>
        <p:spPr>
          <a:xfrm>
            <a:off x="468360" y="0"/>
            <a:ext cx="1817640" cy="14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5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3000" fill="hold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3000" fill="hold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3000" fill="hold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3000" fill="hold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3000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5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3000" fill="hold"/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3000" fill="hold"/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3000" fill="hold"/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3000" fill="hold"/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3000"/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5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3000" fill="hold"/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3000" fill="hold"/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3000" fill="hold"/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3000" fill="hold"/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3000"/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5"/>
          <p:cNvSpPr/>
          <p:nvPr/>
        </p:nvSpPr>
        <p:spPr>
          <a:xfrm>
            <a:off x="539640" y="2492280"/>
            <a:ext cx="2016360" cy="1584360"/>
          </a:xfrm>
          <a:prstGeom prst="rect">
            <a:avLst/>
          </a:prstGeom>
          <a:solidFill>
            <a:srgbClr val="ff8b17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Arial Black"/>
              </a:rPr>
              <a:t>QUESTION?</a:t>
            </a:r>
            <a:endParaRPr b="0" lang="en-US" sz="5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-360" y="1628280"/>
            <a:ext cx="845820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cc00"/>
                </a:solidFill>
                <a:latin typeface="Arial Black"/>
              </a:rPr>
              <a:t>What do we need to move?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405" name="Picture 4" descr=""/>
          <p:cNvPicPr/>
          <p:nvPr/>
        </p:nvPicPr>
        <p:blipFill>
          <a:blip r:embed="rId1"/>
          <a:stretch/>
        </p:blipFill>
        <p:spPr>
          <a:xfrm>
            <a:off x="971640" y="2708280"/>
            <a:ext cx="1384200" cy="1174680"/>
          </a:xfrm>
          <a:prstGeom prst="rect">
            <a:avLst/>
          </a:prstGeom>
          <a:ln w="0">
            <a:noFill/>
          </a:ln>
        </p:spPr>
      </p:pic>
      <p:sp>
        <p:nvSpPr>
          <p:cNvPr id="406" name="Text Box 6"/>
          <p:cNvSpPr/>
          <p:nvPr/>
        </p:nvSpPr>
        <p:spPr>
          <a:xfrm>
            <a:off x="3132000" y="2708280"/>
            <a:ext cx="6012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3399"/>
                </a:solidFill>
                <a:latin typeface="Ravie"/>
              </a:rPr>
              <a:t>E N E R G Y</a:t>
            </a:r>
            <a:endParaRPr b="0" lang="en-US" sz="60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407" name="Picture 7" descr=""/>
          <p:cNvPicPr/>
          <p:nvPr/>
        </p:nvPicPr>
        <p:blipFill>
          <a:blip r:embed="rId2"/>
          <a:stretch/>
        </p:blipFill>
        <p:spPr>
          <a:xfrm>
            <a:off x="6907320" y="3429000"/>
            <a:ext cx="2236680" cy="3095640"/>
          </a:xfrm>
          <a:prstGeom prst="rect">
            <a:avLst/>
          </a:prstGeom>
          <a:ln w="0">
            <a:noFill/>
          </a:ln>
        </p:spPr>
      </p:pic>
      <p:sp>
        <p:nvSpPr>
          <p:cNvPr id="408" name="Text Box 8"/>
          <p:cNvSpPr/>
          <p:nvPr/>
        </p:nvSpPr>
        <p:spPr>
          <a:xfrm>
            <a:off x="0" y="42926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cc00"/>
                </a:solidFill>
                <a:latin typeface="Arial Black"/>
              </a:rPr>
              <a:t>Where do we get this energy from?</a:t>
            </a:r>
            <a:endParaRPr b="0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9" name="Text Box 9"/>
          <p:cNvSpPr/>
          <p:nvPr/>
        </p:nvSpPr>
        <p:spPr>
          <a:xfrm>
            <a:off x="324000" y="5445000"/>
            <a:ext cx="676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3399"/>
                </a:solidFill>
                <a:latin typeface="Ravie"/>
              </a:rPr>
              <a:t>        </a:t>
            </a:r>
            <a:r>
              <a:rPr b="0" lang="en-GB" sz="6000" spc="-1" strike="noStrike">
                <a:solidFill>
                  <a:srgbClr val="ff3399"/>
                </a:solidFill>
                <a:latin typeface="Ravie"/>
              </a:rPr>
              <a:t>F O O D</a:t>
            </a:r>
            <a:endParaRPr b="0" lang="en-US" sz="60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1400"/>
                            </p:stCondLst>
                            <p:childTnLst>
                              <p:par>
                                <p:cTn id="5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 4.44444E-006 L -0.01267 -0.00162 E">
                                      <p:cBhvr>
                                        <p:cTn id="57" dur="2000" fill="hold"/>
                                        <p:tgtEl>
                                          <p:spTgt spid="4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Text Box 4"/>
          <p:cNvSpPr/>
          <p:nvPr/>
        </p:nvSpPr>
        <p:spPr>
          <a:xfrm>
            <a:off x="2050920" y="1989000"/>
            <a:ext cx="4753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GB" sz="4800" spc="-1" strike="noStrike">
                <a:solidFill>
                  <a:srgbClr val="ffcc00"/>
                </a:solidFill>
                <a:latin typeface="Wide Latin"/>
              </a:rPr>
              <a:t>would happen without</a:t>
            </a:r>
            <a:r>
              <a:rPr b="0" lang="en-GB" sz="1800" spc="-1" strike="noStrike">
                <a:solidFill>
                  <a:srgbClr val="ffcc00"/>
                </a:solidFill>
                <a:latin typeface="That Darn Cat!"/>
              </a:rPr>
              <a:t> 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1" name="Text Box 5"/>
          <p:cNvSpPr/>
          <p:nvPr/>
        </p:nvSpPr>
        <p:spPr>
          <a:xfrm>
            <a:off x="0" y="0"/>
            <a:ext cx="622764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LHF Action Movie"/>
              </a:rPr>
              <a:t>In fact …..</a:t>
            </a:r>
            <a:endParaRPr b="0" lang="en-US" sz="48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LHF Action Movie"/>
              </a:rPr>
              <a:t>                 </a:t>
            </a:r>
            <a:r>
              <a:rPr b="0" lang="en-GB" sz="4800" spc="-1" strike="noStrike">
                <a:solidFill>
                  <a:srgbClr val="ffffff"/>
                </a:solidFill>
                <a:latin typeface="LHF Action Movie"/>
              </a:rPr>
              <a:t>NOTHING</a:t>
            </a:r>
            <a:endParaRPr b="0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2" name="Text Box 6"/>
          <p:cNvSpPr/>
          <p:nvPr/>
        </p:nvSpPr>
        <p:spPr>
          <a:xfrm>
            <a:off x="2519280" y="4724280"/>
            <a:ext cx="662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MidnightSnack BB"/>
              </a:rPr>
              <a:t>ENERGY</a:t>
            </a:r>
            <a:endParaRPr b="0" lang="en-US" sz="96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413" name="j009727.wav" descr=""/>
          <p:cNvPicPr/>
          <p:nvPr/>
        </p:nvPicPr>
        <p:blipFill>
          <a:blip r:embed="rId1"/>
          <a:stretch/>
        </p:blipFill>
        <p:spPr>
          <a:xfrm>
            <a:off x="395280" y="6165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18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4" dur="2132" fill="hold"/>
                                        <p:tgtEl>
                                          <p:spTgt spid="4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Line 4"/>
          <p:cNvSpPr/>
          <p:nvPr/>
        </p:nvSpPr>
        <p:spPr>
          <a:xfrm>
            <a:off x="457200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5" name="Line 5"/>
          <p:cNvSpPr/>
          <p:nvPr/>
        </p:nvSpPr>
        <p:spPr>
          <a:xfrm flipV="1">
            <a:off x="0" y="3357720"/>
            <a:ext cx="953928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6" name="Text Box 6"/>
          <p:cNvSpPr/>
          <p:nvPr/>
        </p:nvSpPr>
        <p:spPr>
          <a:xfrm>
            <a:off x="468360" y="2708280"/>
            <a:ext cx="3960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0000"/>
                </a:solidFill>
                <a:latin typeface="Arial"/>
              </a:rPr>
              <a:t>KINETIC ENERGY</a:t>
            </a:r>
            <a:endParaRPr b="0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7" name="Text Box 7"/>
          <p:cNvSpPr/>
          <p:nvPr/>
        </p:nvSpPr>
        <p:spPr>
          <a:xfrm>
            <a:off x="4716360" y="2781360"/>
            <a:ext cx="4427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0000"/>
                </a:solidFill>
                <a:latin typeface="Arial"/>
              </a:rPr>
              <a:t>ELECTRICAL ENERGY</a:t>
            </a:r>
            <a:endParaRPr b="0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8" name="Text Box 8"/>
          <p:cNvSpPr/>
          <p:nvPr/>
        </p:nvSpPr>
        <p:spPr>
          <a:xfrm>
            <a:off x="250920" y="6308640"/>
            <a:ext cx="4427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0000"/>
                </a:solidFill>
                <a:latin typeface="Arial"/>
              </a:rPr>
              <a:t>SOUND ENERGY</a:t>
            </a:r>
            <a:endParaRPr b="0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9" name="Text Box 9"/>
          <p:cNvSpPr/>
          <p:nvPr/>
        </p:nvSpPr>
        <p:spPr>
          <a:xfrm>
            <a:off x="4643280" y="6308640"/>
            <a:ext cx="4751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0000"/>
                </a:solidFill>
                <a:latin typeface="Arial"/>
              </a:rPr>
              <a:t>HEAT &amp; LIGHT ENERGY</a:t>
            </a:r>
            <a:endParaRPr b="0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420" name="Picture 10" descr=""/>
          <p:cNvPicPr/>
          <p:nvPr/>
        </p:nvPicPr>
        <p:blipFill>
          <a:blip r:embed="rId1"/>
          <a:stretch/>
        </p:blipFill>
        <p:spPr>
          <a:xfrm>
            <a:off x="1116000" y="620640"/>
            <a:ext cx="2449440" cy="172080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11" descr=""/>
          <p:cNvPicPr/>
          <p:nvPr/>
        </p:nvPicPr>
        <p:blipFill>
          <a:blip r:embed="rId2"/>
          <a:stretch/>
        </p:blipFill>
        <p:spPr>
          <a:xfrm>
            <a:off x="5940360" y="476280"/>
            <a:ext cx="1944720" cy="194472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12" descr=""/>
          <p:cNvPicPr/>
          <p:nvPr/>
        </p:nvPicPr>
        <p:blipFill>
          <a:blip r:embed="rId3"/>
          <a:stretch/>
        </p:blipFill>
        <p:spPr>
          <a:xfrm>
            <a:off x="1403280" y="3860640"/>
            <a:ext cx="1833480" cy="183384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13" descr=""/>
          <p:cNvPicPr/>
          <p:nvPr/>
        </p:nvPicPr>
        <p:blipFill>
          <a:blip r:embed="rId4"/>
          <a:stretch/>
        </p:blipFill>
        <p:spPr>
          <a:xfrm>
            <a:off x="6156360" y="3860640"/>
            <a:ext cx="1422360" cy="1951200"/>
          </a:xfrm>
          <a:prstGeom prst="rect">
            <a:avLst/>
          </a:prstGeom>
          <a:ln w="0">
            <a:noFill/>
          </a:ln>
        </p:spPr>
      </p:pic>
      <p:sp>
        <p:nvSpPr>
          <p:cNvPr id="424" name="Text Box 14"/>
          <p:cNvSpPr/>
          <p:nvPr/>
        </p:nvSpPr>
        <p:spPr>
          <a:xfrm>
            <a:off x="0" y="0"/>
            <a:ext cx="385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cc00"/>
                </a:solidFill>
                <a:latin typeface="Arial"/>
              </a:rPr>
              <a:t>ENERGY IN ACTION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Line 4"/>
          <p:cNvSpPr/>
          <p:nvPr/>
        </p:nvSpPr>
        <p:spPr>
          <a:xfrm>
            <a:off x="457200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26" name="Line 5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27" name="Text Box 6"/>
          <p:cNvSpPr/>
          <p:nvPr/>
        </p:nvSpPr>
        <p:spPr>
          <a:xfrm>
            <a:off x="0" y="0"/>
            <a:ext cx="29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cc00"/>
                </a:solidFill>
                <a:latin typeface="Arial"/>
              </a:rPr>
              <a:t>STORED ENERGY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28" name="Text Box 8"/>
          <p:cNvSpPr/>
          <p:nvPr/>
        </p:nvSpPr>
        <p:spPr>
          <a:xfrm>
            <a:off x="0" y="2421000"/>
            <a:ext cx="45007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0000"/>
                </a:solidFill>
                <a:latin typeface="Arial"/>
              </a:rPr>
              <a:t>GRAVITATIONAL POTENTIAL ENERGY</a:t>
            </a:r>
            <a:endParaRPr b="0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29" name="Text Box 9"/>
          <p:cNvSpPr/>
          <p:nvPr/>
        </p:nvSpPr>
        <p:spPr>
          <a:xfrm>
            <a:off x="4572000" y="2924280"/>
            <a:ext cx="4572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0000"/>
                </a:solidFill>
                <a:latin typeface="Arial"/>
              </a:rPr>
              <a:t>CHEMICAL ENERGY</a:t>
            </a:r>
            <a:endParaRPr b="0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0" name="Text Box 10"/>
          <p:cNvSpPr/>
          <p:nvPr/>
        </p:nvSpPr>
        <p:spPr>
          <a:xfrm>
            <a:off x="324000" y="6308640"/>
            <a:ext cx="3995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0000"/>
                </a:solidFill>
                <a:latin typeface="Arial"/>
              </a:rPr>
              <a:t>STRAIN ENERGY</a:t>
            </a:r>
            <a:endParaRPr b="0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1" name="Text Box 11"/>
          <p:cNvSpPr/>
          <p:nvPr/>
        </p:nvSpPr>
        <p:spPr>
          <a:xfrm>
            <a:off x="4788000" y="6308640"/>
            <a:ext cx="4032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0000"/>
                </a:solidFill>
                <a:latin typeface="Arial"/>
              </a:rPr>
              <a:t>NUCLEAR ENERGY</a:t>
            </a:r>
            <a:endParaRPr b="0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432" name="Picture 12" descr="colony"/>
          <p:cNvPicPr/>
          <p:nvPr/>
        </p:nvPicPr>
        <p:blipFill>
          <a:blip r:embed="rId1"/>
          <a:stretch/>
        </p:blipFill>
        <p:spPr>
          <a:xfrm>
            <a:off x="755640" y="620640"/>
            <a:ext cx="2951280" cy="1673280"/>
          </a:xfrm>
          <a:prstGeom prst="rect">
            <a:avLst/>
          </a:prstGeom>
          <a:ln w="0">
            <a:noFill/>
          </a:ln>
        </p:spPr>
      </p:pic>
      <p:pic>
        <p:nvPicPr>
          <p:cNvPr id="433" name="Picture 13" descr=""/>
          <p:cNvPicPr/>
          <p:nvPr/>
        </p:nvPicPr>
        <p:blipFill>
          <a:blip r:embed="rId2"/>
          <a:stretch/>
        </p:blipFill>
        <p:spPr>
          <a:xfrm>
            <a:off x="5508720" y="620640"/>
            <a:ext cx="2663640" cy="191304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14" descr=""/>
          <p:cNvPicPr/>
          <p:nvPr/>
        </p:nvPicPr>
        <p:blipFill>
          <a:blip r:embed="rId3"/>
          <a:stretch/>
        </p:blipFill>
        <p:spPr>
          <a:xfrm>
            <a:off x="1187280" y="3933720"/>
            <a:ext cx="2160720" cy="198936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15" descr=""/>
          <p:cNvPicPr/>
          <p:nvPr/>
        </p:nvPicPr>
        <p:blipFill>
          <a:blip r:embed="rId4"/>
          <a:stretch/>
        </p:blipFill>
        <p:spPr>
          <a:xfrm>
            <a:off x="5796000" y="3645000"/>
            <a:ext cx="237636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7T14:27:11Z</dcterms:created>
  <dc:creator>gelms</dc:creator>
  <dc:description/>
  <dc:language>en-US</dc:language>
  <cp:lastModifiedBy>RomaK</cp:lastModifiedBy>
  <dcterms:modified xsi:type="dcterms:W3CDTF">2015-09-03T12:38:47Z</dcterms:modified>
  <cp:revision>11</cp:revision>
  <dc:subject/>
  <dc:title>Types of Energy</dc:title>
</cp:coreProperties>
</file>