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86FA-A5CF-4E79-8E2B-34ECAD940B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THERE BE (INVISIBLE) LIGH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esentation Brought To You By RE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RE BE (INVISIBLE) LIGH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esentation Brought To You By RE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V’s Effects on Human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or effects on sk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’s Effects on Human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or effects on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tamin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400-100 nm on the spectr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V part of spectrum divided into reg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d by high temperature continuous pr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400-100 nm on the spectr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part of spectrum divided into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high temperature continuous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: The P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ann Wilhelm Ritter (180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ver Chlor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lloni and Becquerel (184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20’s: Ballo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46: Rocket 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62: Orbiting Solar Observatory (NAS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Extreme Data Coll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78: International Ultraviolet Explor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92: Extreme Ultraviolet Explor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: The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ann Wilhelm Ritter (18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ver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loni and Becquerel (18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0’s: Balloon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6: Rocket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62: Orbiting Solar Observatory (NAS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Extreme Data Col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8: International Ultraviolet Explor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2: Extreme Ultraviolet Explor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zone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-30 Mi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V-A, UV-B, UV-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9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zon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30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-A, UV-B, UV-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al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entic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escent La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osco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(GF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lithograp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ri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ent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orescent L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s (GF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lith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Ins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V in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since the 1960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erni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pkins UV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in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ince the 196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erni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kins UV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gram of H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of H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BA6F-19B3-47D9-957F-5DF070DFC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0F3A-5B13-4219-A424-785F3E64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D814-545D-4F9F-B16D-D554FC588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7769-461A-465C-B167-4DB7B9D7E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32DB-1601-49B7-95B3-2C5A2DFE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DD9D-F305-401E-AF4B-DBB44DC3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3AB3-B549-4ECB-A9E3-5C818EBF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6F54-5FA0-4E01-870E-DD7C4687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2861-6733-4445-8777-D798FB11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D719-20AD-41CB-95FB-2A813F63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2007-9E4D-48EF-BB0F-D140E8EF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34D3-D07A-4F4E-931A-D838F56E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B264-4E42-4275-9273-4A74020BA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ULTRAVIOLET</a:t>
            </a:r>
            <a:br>
              <a:rPr sz="5400"/>
            </a:b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LET THERE BE </a:t>
            </a: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(INVISIBLE)</a:t>
            </a: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 LIG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57909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imSun"/>
              </a:rPr>
              <a:t>A Presentation Brought To You By R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jballantyne09"/>
          <p:cNvPicPr/>
          <p:nvPr/>
        </p:nvPicPr>
        <p:blipFill>
          <a:blip r:embed="rId1"/>
          <a:stretch/>
        </p:blipFill>
        <p:spPr>
          <a:xfrm>
            <a:off x="1828800" y="1523880"/>
            <a:ext cx="556272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stellar"/>
              </a:rPr>
              <a:t>UV’s Effects on Human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00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Minor effects on 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Ey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Vitamin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mature cataract"/>
          <p:cNvPicPr/>
          <p:nvPr/>
        </p:nvPicPr>
        <p:blipFill>
          <a:blip r:embed="rId1"/>
          <a:stretch/>
        </p:blipFill>
        <p:spPr>
          <a:xfrm>
            <a:off x="457200" y="1768320"/>
            <a:ext cx="409572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THE E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stellar"/>
              </a:rPr>
              <a:t>Ultraviolet Rad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between 400-100 nm on the spectr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UV part of spectrum divided into reg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Produced by high temperature continuous pr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uv sun"/>
          <p:cNvPicPr/>
          <p:nvPr/>
        </p:nvPicPr>
        <p:blipFill>
          <a:blip r:embed="rId1"/>
          <a:stretch/>
        </p:blipFill>
        <p:spPr>
          <a:xfrm>
            <a:off x="533520" y="1905120"/>
            <a:ext cx="377172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Ultraviolet: The P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Johann Wilhelm Ritter (18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astel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stellar"/>
              </a:rPr>
              <a:t>Silver Chlo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Melloni and Becquerel (18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20’s: Balloon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46: Rocket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62: Orbiting Solar Observatory (NA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astel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stellar"/>
              </a:rPr>
              <a:t>First Extreme Data Coll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78: International Ultraviolet Explo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92: Extreme Ultraviolet Explo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The Ozone 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Strat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0-30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UV-A, UV-B, UV-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9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Telescopes in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ozn_layr"/>
          <p:cNvPicPr/>
          <p:nvPr/>
        </p:nvPicPr>
        <p:blipFill>
          <a:blip r:embed="rId1"/>
          <a:stretch/>
        </p:blipFill>
        <p:spPr>
          <a:xfrm>
            <a:off x="5257800" y="1828800"/>
            <a:ext cx="35528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Practical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hent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orescent L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trosc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erals (G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otolith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ical Ins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r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8" descr="j0315447"/>
          <p:cNvPicPr/>
          <p:nvPr/>
        </p:nvPicPr>
        <p:blipFill>
          <a:blip r:embed="rId1"/>
          <a:stretch/>
        </p:blipFill>
        <p:spPr>
          <a:xfrm>
            <a:off x="5181480" y="2033640"/>
            <a:ext cx="3581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UV in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since the 196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erni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pkins UV tele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telescope"/>
          <p:cNvPicPr/>
          <p:nvPr/>
        </p:nvPicPr>
        <p:blipFill>
          <a:blip r:embed="rId1"/>
          <a:stretch/>
        </p:blipFill>
        <p:spPr>
          <a:xfrm>
            <a:off x="685800" y="1143000"/>
            <a:ext cx="7772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Diagram of H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telescope diagram"/>
          <p:cNvPicPr/>
          <p:nvPr/>
        </p:nvPicPr>
        <p:blipFill>
          <a:blip r:embed="rId1"/>
          <a:stretch/>
        </p:blipFill>
        <p:spPr>
          <a:xfrm>
            <a:off x="457200" y="2327400"/>
            <a:ext cx="822960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spectrorev_small"/>
          <p:cNvPicPr/>
          <p:nvPr/>
        </p:nvPicPr>
        <p:blipFill>
          <a:blip r:embed="rId1"/>
          <a:stretch/>
        </p:blipFill>
        <p:spPr>
          <a:xfrm>
            <a:off x="1143000" y="304920"/>
            <a:ext cx="685800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young supernova"/>
          <p:cNvPicPr/>
          <p:nvPr/>
        </p:nvPicPr>
        <p:blipFill>
          <a:blip r:embed="rId1"/>
          <a:stretch/>
        </p:blipFill>
        <p:spPr>
          <a:xfrm>
            <a:off x="1000080" y="343080"/>
            <a:ext cx="7143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22:54:19Z</dcterms:created>
  <dc:creator>Elliott Okantey</dc:creator>
  <dc:description/>
  <dc:language>en-US</dc:language>
  <cp:lastModifiedBy>RomaK</cp:lastModifiedBy>
  <dcterms:modified xsi:type="dcterms:W3CDTF">2015-09-03T12:38:56Z</dcterms:modified>
  <cp:revision>12</cp:revision>
  <dc:subject/>
  <dc:title>Ultraviolet Radiation</dc:title>
</cp:coreProperties>
</file>