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ED9A-EFDF-4DF3-BCB7-B59F79DEA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sible Light &amp;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BJECTIV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&amp;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whi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white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colors ROY G BIV being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2. Whit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the colors ROY G BIV being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BLACK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BLACK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bl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black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 of rainbow being 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3.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 of rainbow being ABSORB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/Wint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/Summ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 Fash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4. How do we se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4. HOW DO WE SE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ABSOR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ABSORB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Po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mallest band of the Electromagnetic spectr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Quick Review Point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: How We Se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s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(s) go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(s) go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W: How We Se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 Balloon Tos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Balloon T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&amp; Col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vi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 – No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reflected to eye. (white light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 – All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– No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reflected to eye. (white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– All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lors are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ctivity Instruct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nfused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’s okay…let’s give it a sh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okay…let’s give it a s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absorbed excep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t’s get started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close atten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MAIN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AST O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Read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MORE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DD MORE Slid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1. What is visible light?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-smallest part of the EM spectrum that the human eyes can se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to Violet (ROYGBIV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visible ligh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mallest part of the EM spectrum that the human eyes can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to Violet (ROYGB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What are the different colors of visible ligh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– lowest energy, long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rang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Yello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Gre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Blu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Indig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olet – highest energy, short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OY G BIV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ifferent colors of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lowest energy, long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– highest energy, short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 G B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most energy and short/small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most energy and short/small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     the HIGHEST energy… and SHOR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Violet      the HIGHEST energy… and SHOR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lowest energy and long/big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lowest energy and long/big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     the LOWEST energy… and LONG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d      the LOWEST energy… and LONG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WHITE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WHITE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F7E-713F-45CC-B879-78D7560B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925-8CF0-42D6-94F0-EBADAE2B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403-7BF4-473C-BC67-F63E6A20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DD3-645A-44CB-8858-61A1A7F3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69BD-88FD-4426-989D-26EED968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E3CF-4B66-405E-85E7-62F1D0F9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9F1C-3532-4330-A2BC-AD42CD9D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EDCF-347E-49FD-B9B5-95B8938C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E5E4-F623-4C9C-8D3B-2AB6F38D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7D5C-8DD6-4240-BD2C-D18474B4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F8D5-57E5-4836-8B5C-1F2A21A6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D70-4BCF-400A-AE5D-1527E47B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DDAF-C4E4-4D0F-9A33-17F6FAB3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A1E6-9338-40F7-85C9-4829B093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AC9A-8AE3-434B-8656-FDB35B56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3970-51A6-4131-AF07-201CEF5A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1EA8-B54A-4177-8695-B382DB49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917-DF7E-47D2-8FA9-091B03B9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B9D-0E18-4D53-A694-A51554AB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CC5-4511-4CDF-8803-D33779D3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519-932D-41C8-947E-97398982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D25-4209-4BD2-876A-D4DC15E7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067-A63B-4415-9A48-A71DD8BB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A87-7F4C-4F56-83FB-EAAFCFC3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6113-6EE3-4FB4-BF30-9BE187B3D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7167-5888-47CC-8678-244877DCB03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V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1" lang="en-US" sz="66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1" lang="en-US" sz="6600" spc="-1" strike="noStrike">
                <a:solidFill>
                  <a:srgbClr val="486bb2"/>
                </a:solidFill>
                <a:latin typeface="Arial Black"/>
              </a:rPr>
              <a:t>l</a:t>
            </a:r>
            <a:r>
              <a:rPr b="1" lang="en-US" sz="6600" spc="-1" strike="noStrike">
                <a:solidFill>
                  <a:srgbClr val="660066"/>
                </a:solidFill>
                <a:latin typeface="Arial Black"/>
              </a:rPr>
              <a:t>e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Light &amp; Color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040" y="30481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OBJECTIVE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SWBAT identify the different colors of the visible light and compare each of its frequency and waveleng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whit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. Whit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ALL</a:t>
            </a:r>
            <a:r>
              <a:rPr b="0" lang="en-US" sz="4700" spc="-1" strike="noStrike">
                <a:solidFill>
                  <a:srgbClr val="ffcc00"/>
                </a:solidFill>
                <a:latin typeface="Arial Black"/>
              </a:rPr>
              <a:t> the colors ROY G BIV being </a:t>
            </a:r>
            <a:r>
              <a:rPr b="0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REFLECTED</a:t>
            </a:r>
            <a:endParaRPr b="0" lang="en-US" sz="4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BLACK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black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. Bl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colors  of rainbow being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BSORB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 Fash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9807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3962520" y="55627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307120" y="2362320"/>
            <a:ext cx="3822480" cy="32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057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. How do we see color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4. HOW DO WE SEE COLOR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First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light goes from the source (sun, lamp, etc.) to the object.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457200" y="3276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Second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the color we see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reflect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and the rest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absorb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by the object. 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REFLECT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WHIT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ABSORB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BLACK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 Ques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Quick Review Poi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W: How We Se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 Balloon To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color of that objec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bsorbed except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, which is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No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 colors are reflected to eye. (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ligh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 Black"/>
              </a:rPr>
              <a:t>Black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 Instru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absorb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cover the balloon with your body.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</a:t>
            </a:r>
            <a:r>
              <a:rPr b="0" lang="ja-JP" sz="2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 POP IT!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reflect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reflect the balloon into the air above you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fuse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okay…le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give it a sho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Let</a:t>
            </a:r>
            <a:r>
              <a:rPr b="0" i="1" lang="ja-JP" sz="4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s get start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T ONE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D MORE Slid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1. What is visible ligh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200" y="1905120"/>
            <a:ext cx="8762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extile"/>
              </a:rPr>
              <a:t>-smallest part of the EM spectrum that the human eyes can se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85800" y="312408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extile"/>
              </a:rPr>
              <a:t>Red to Violet (ROYGBIV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What are the different colors of visible ligh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6648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d – lowest energy, long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ang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ell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l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dig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olet – highest energy, short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276720" y="32767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7000" spc="-1" strike="noStrike">
                <a:solidFill>
                  <a:srgbClr val="ff6600"/>
                </a:solidFill>
                <a:latin typeface="Arial Black"/>
              </a:rPr>
              <a:t>O</a:t>
            </a:r>
            <a:r>
              <a:rPr b="0" lang="en-US" sz="7000" spc="-1" strike="noStrike">
                <a:solidFill>
                  <a:srgbClr val="ffff00"/>
                </a:solidFill>
                <a:latin typeface="Arial Black"/>
              </a:rPr>
              <a:t>Y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8000"/>
                </a:solidFill>
                <a:latin typeface="Arial Black"/>
              </a:rPr>
              <a:t>G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0090"/>
                </a:solidFill>
                <a:latin typeface="Arial Black"/>
              </a:rPr>
              <a:t>B</a:t>
            </a:r>
            <a:r>
              <a:rPr b="0" lang="en-US" sz="7000" spc="-1" strike="noStrike">
                <a:solidFill>
                  <a:srgbClr val="660066"/>
                </a:solidFill>
                <a:latin typeface="Arial Black"/>
              </a:rPr>
              <a:t>I</a:t>
            </a:r>
            <a:r>
              <a:rPr b="0" lang="en-US" sz="7000" spc="-1" strike="noStrike">
                <a:solidFill>
                  <a:srgbClr val="ff3fdc"/>
                </a:solidFill>
                <a:latin typeface="Arial Black"/>
              </a:rPr>
              <a:t>V</a:t>
            </a: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most energy and short/small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609480" y="1828800"/>
            <a:ext cx="7543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fdc"/>
                </a:solidFill>
                <a:latin typeface="Arial Black"/>
              </a:rPr>
              <a:t>Violet      the HIGHEST energy… and SHORT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Right Arrow 3"/>
          <p:cNvSpPr/>
          <p:nvPr/>
        </p:nvSpPr>
        <p:spPr>
          <a:xfrm>
            <a:off x="2971800" y="21337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lowest energy and long/big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680" y="2361960"/>
            <a:ext cx="73152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 Black"/>
              </a:rPr>
              <a:t>Red      the LOWEST energy… and LONG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ight Arrow 1"/>
          <p:cNvSpPr/>
          <p:nvPr/>
        </p:nvSpPr>
        <p:spPr>
          <a:xfrm>
            <a:off x="3048120" y="26668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WHITE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0:11:57Z</dcterms:created>
  <dc:creator>Charles</dc:creator>
  <dc:description/>
  <dc:language>en-US</dc:language>
  <cp:lastModifiedBy>RomaK</cp:lastModifiedBy>
  <cp:lastPrinted>2010-09-22T18:15:49Z</cp:lastPrinted>
  <dcterms:modified xsi:type="dcterms:W3CDTF">2015-09-03T12:39:03Z</dcterms:modified>
  <cp:revision>38</cp:revision>
  <dc:subject/>
  <dc:title>Color Balloon Toss</dc:title>
</cp:coreProperties>
</file>