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6B422-2FC7-4E1A-A97B-7AB271A1FE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Visible Light &amp; Color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OBJECTIVE: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SWBAT identify the different colors of the visible light and compare each of its frequency and wavelength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ible Light &amp; Co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BAT identify the different colors of the visible light and compare each of its frequency and waveleng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get whi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How do we get white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??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White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colors ROY G BIV being REF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2. White light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LL the colors ROY G BIV being REFLECTED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when you wear BLACK on a hot d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at happens when you wear BLACK on a hot day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get blac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How do we get black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??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Bl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olors  of rainbow being ABSORB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3. Black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LL colors  of rainbow being ABSORBED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Fash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ll/Winter Col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ing/Summer Col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Example: Fashion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Fall/Winter Color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Spring/Summer Color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How do we see col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4. How do we see color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4. HOW DO WE SEE COLORS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First, light goes from the source (sun, lamp, etc.) to the object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Second, the color we see is reflected and the rest is absorbed by the object.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HOW DO WE SEE COL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light goes from the source (sun, lamp, etc.) to the o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, the color we see is reflected and the rest is absorbed by the objec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ll colors are REF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WH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IT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en all colors are REFLECTED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e see WHIT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ll colors are ABSORB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BL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BLACK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en all colors are ABSORBED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e see BLACK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sential Ques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perceive col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Essential Question: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How do we perceive colors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the essential ques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perceive col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Summary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nswer the essential question: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How do we perceive color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the essential ques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perceive col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from sun reflects off object and we see the color that is refl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Review Poi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smallest band of the Electromagnetic spectru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Summary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nswer the essential question: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How do we perceive color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Light from sun reflects off object and we see the color that is reflected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Quick Review Point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at is the smallest band of the Electromagnetic spectrum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W: How We See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House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lor(s) go 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lor (s) go ou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HW: How We See Light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1. House Plant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at color(s) go in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at color (s) go out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Color Balloon Tos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Light &amp; Color!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r Balloon To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&amp; Col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Review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en white light hits an object, all the colors are absorbed except for the color of that object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Example: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Blue – All colors absorbed except blue, which is reflected to eye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ite – No colors are absorbed. 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ll colors are reflected to eye. (white light)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Black – All colors are absorbed. 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No colors are reflected to eye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hite light hits an object, all the colors are absorbed except for the color of that o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e – All colors absorbed except blue, which is reflected to ey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– No colors are absorb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olors are reflected to eye. (white ligh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– All colors are absorb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olors are reflected to ey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ctivity Instruction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For this activity, you will be given a colored balloon.  You will see objects of various colors on the screen. 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If the color you have is absorbed by the object, you need to cover the balloon with your body. DON’T POP IT!!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If the color you have is reflected by the object, you need to reflect the balloon into the air above you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Instru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is activity, you will be given a colored balloon.  You will see objects of various colors on the scree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color you have is absorbed by the object, you need to cover the balloon with your body. DON’T POP IT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color you have is reflected by the object, you need to reflect the balloon into the air above y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Confused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It’s okay…let’s give it a shot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ll colors are absorbed except…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us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okay…let’s give it a sh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olors are absorbed excep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Let’s get started…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Pay close attention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o the MAIN color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get started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y close atten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the MAIN co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LAST ONE…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Get Ready!!!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 ON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Ready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MORE Sl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DD MORE Slide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1. What is visible light?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-smallest part of the EM spectrum that the human eyes can se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Red to Violet (ROYGBIV)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What is visible light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mallest part of the EM spectrum that the human eyes can s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to Violet (ROYGBI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What are the different colors of visible light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Red – lowest energy, longest wavelength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Orange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Yellow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Green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Blu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Indigo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Violet – highest energy, shortest wavelength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ROY G BIV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different colors of visible l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– lowest energy, longest wave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et – highest energy, shortest wave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Y G B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color has the most energy and short/small wavelength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ich color has the most energy and short/small wavelength??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et      the HIGHEST energy… and SHORT wave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Color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Violet      the HIGHEST energy… and SHORT wavelength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color has the lowest energy and long/big wavelength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ich color has the lowest energy and long/big wavelength??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     the LOWEST energy… and LONG wave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Color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Red      the LOWEST energy… and LONG wavelength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when you wear WHITE on a hot d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at happens when you wear WHITE on a hot day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2A2D-7F50-4AED-9AC1-2F6C1CBFE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1953-4238-41FB-A620-E38B4738F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DD1E-32B4-48EF-9E2C-027A5A55A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7CBC-90DC-4BF8-8077-110AC4B75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57F17-2B0A-488F-AABC-74C611889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A9482-8AB6-4539-9768-E8EDFE21C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5D83D-6CDA-4495-93DA-D4337C5BA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00976-87DA-4DEA-AC63-A22DFC06B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28B86-B8E6-4ACA-817A-ED67E19D7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5E9FF-356A-4B58-8B9B-904438B93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0F606-01D8-4628-9E33-1769403B4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0C58-3511-43C7-B47E-BDB73439B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DA8C1-FB0B-40CD-9C68-D9A462A1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B375B-85D3-43D6-BB5F-74C006DDA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8C12B-DE93-4C0D-9CB6-BCE0F7D88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69561-0CAA-4DC7-9314-F76D45A58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2EBB1-9A97-4C36-A38C-7C986365C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DC50-0847-4A41-8052-CBC45378B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3E2F-7743-480D-977A-2DFFBC10B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8D9A-01AA-4BC6-90E8-1E01133C5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83DA-3839-4BD5-8390-BE729F94A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87DF-9AF5-4018-A207-0E380B50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D349-8C8B-4EB8-8E70-1155B5B9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CDD0-38E0-43BD-A062-F435E9279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000" y="-21600"/>
            <a:ext cx="2870640" cy="3275640"/>
            <a:chOff x="6273000" y="-21600"/>
            <a:chExt cx="287064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5040" y="2829600"/>
                <a:ext cx="2448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200" y="177300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48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000" y="-21600"/>
              <a:ext cx="2870640" cy="2269080"/>
              <a:chOff x="6273000" y="-21600"/>
              <a:chExt cx="287064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000" y="-21600"/>
                <a:ext cx="2868120" cy="2269080"/>
                <a:chOff x="6273000" y="-21600"/>
                <a:chExt cx="286812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0840"/>
                  <a:chOff x="7834680" y="842760"/>
                  <a:chExt cx="1064160" cy="114084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880" y="1132560"/>
                    <a:ext cx="8838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280"/>
                    <a:ext cx="47520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0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680" y="795960"/>
                    <a:ext cx="42516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640" cy="184320"/>
                  <a:chOff x="7871760" y="632880"/>
                  <a:chExt cx="110664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692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120" y="419400"/>
                  <a:ext cx="983880" cy="327240"/>
                  <a:chOff x="7845120" y="419400"/>
                  <a:chExt cx="983880" cy="32724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080" y="564480"/>
                    <a:ext cx="63324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4040" y="456120"/>
                    <a:ext cx="33948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7600" y="905760"/>
                  <a:ext cx="1064520" cy="1141200"/>
                  <a:chOff x="6537600" y="905760"/>
                  <a:chExt cx="1064520" cy="114120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1760" y="1195560"/>
                    <a:ext cx="8838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5960" y="1664640"/>
                    <a:ext cx="4744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480"/>
                  <a:ext cx="1266120" cy="1052640"/>
                  <a:chOff x="6303960" y="861480"/>
                  <a:chExt cx="1266120" cy="105264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2600" y="1112400"/>
                    <a:ext cx="93060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6320" y="826920"/>
                  <a:ext cx="1288080" cy="829080"/>
                  <a:chOff x="6286320" y="826920"/>
                  <a:chExt cx="1288080" cy="82908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5120" y="1319040"/>
                    <a:ext cx="477360" cy="243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000" y="787320"/>
                  <a:ext cx="1304280" cy="668520"/>
                  <a:chOff x="6273000" y="787320"/>
                  <a:chExt cx="130428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480" y="915840"/>
                    <a:ext cx="86040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2880" y="1121040"/>
                    <a:ext cx="46152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520" y="749520"/>
                  <a:ext cx="1223640" cy="416160"/>
                  <a:chOff x="6338520" y="749520"/>
                  <a:chExt cx="122364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960" y="801720"/>
                    <a:ext cx="79200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7760"/>
                    <a:ext cx="425160" cy="25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280" cy="184320"/>
                  <a:chOff x="6436440" y="722880"/>
                  <a:chExt cx="110628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692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160" y="222120"/>
                  <a:ext cx="901800" cy="627480"/>
                  <a:chOff x="6752160" y="222120"/>
                  <a:chExt cx="901800" cy="62748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040" y="572760"/>
                    <a:ext cx="6339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020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600"/>
                  <a:ext cx="466200" cy="809640"/>
                  <a:chOff x="7287480" y="-21600"/>
                  <a:chExt cx="466200" cy="80964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9360"/>
                    <a:ext cx="5439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520" y="59400"/>
                    <a:ext cx="2926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2160"/>
                  <a:ext cx="964080" cy="462600"/>
                  <a:chOff x="7792920" y="272160"/>
                  <a:chExt cx="964080" cy="46260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000" y="32940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480" y="136080"/>
                  <a:ext cx="916200" cy="605160"/>
                  <a:chOff x="7737480" y="136080"/>
                  <a:chExt cx="916200" cy="60516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400" y="470520"/>
                    <a:ext cx="6336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48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520"/>
                  <a:ext cx="497520" cy="791280"/>
                  <a:chOff x="7665480" y="-11520"/>
                  <a:chExt cx="497520" cy="79128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3320" cy="1249200"/>
                  <a:chOff x="6711120" y="929880"/>
                  <a:chExt cx="913320" cy="124920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6040"/>
                    <a:ext cx="88488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3640" y="178740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960" y="979200"/>
                  <a:ext cx="616680" cy="1248120"/>
                  <a:chOff x="7014960" y="979200"/>
                  <a:chExt cx="616680" cy="124812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560" y="1307880"/>
                    <a:ext cx="8190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1800"/>
                  <a:chOff x="7786800" y="956160"/>
                  <a:chExt cx="73260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520"/>
                    <a:ext cx="84600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7720"/>
                    <a:ext cx="7545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440"/>
                    <a:ext cx="40500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840"/>
                  <a:ext cx="276120" cy="1131480"/>
                  <a:chOff x="7500960" y="107784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720" y="1929240"/>
                    <a:ext cx="39528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599"/>
                    </a:cubicBezTo>
                    <a:cubicBezTo>
                      <a:pt x="10696" y="21599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599"/>
                    </a:cubicBezTo>
                    <a:cubicBezTo>
                      <a:pt x="10696" y="21599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576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-1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-1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860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-1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-1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-1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-1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696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4640" cy="42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-1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-1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-1"/>
                    </a:cubicBezTo>
                    <a:cubicBezTo>
                      <a:pt x="23204" y="-1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-1"/>
                    </a:cubicBezTo>
                    <a:cubicBezTo>
                      <a:pt x="23204" y="-1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0240" cy="118188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0409" y="-1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0409" y="-1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6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40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1FC4B-E4AE-4F31-A657-3E7AA86BF5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160"/>
            <a:ext cx="6895800" cy="5452200"/>
            <a:chOff x="2010960" y="245160"/>
            <a:chExt cx="689580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576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160"/>
              <a:ext cx="6895800" cy="5452200"/>
              <a:chOff x="2010960" y="245160"/>
              <a:chExt cx="689580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160"/>
                <a:ext cx="6891120" cy="5452200"/>
                <a:chOff x="2010960" y="24516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480" y="2234880"/>
                    <a:ext cx="712440" cy="500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160"/>
                  <a:ext cx="6891120" cy="5452200"/>
                  <a:chOff x="2010960" y="24516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1440" y="2322360"/>
                    <a:ext cx="2558880" cy="2742480"/>
                    <a:chOff x="5761440" y="2322360"/>
                    <a:chExt cx="2558880" cy="274248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3960" y="3020040"/>
                      <a:ext cx="21276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12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120"/>
                    <a:ext cx="3040560" cy="2529720"/>
                    <a:chOff x="5787720" y="2148120"/>
                    <a:chExt cx="3040560" cy="252972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480"/>
                      <a:ext cx="2236320" cy="42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2720" y="3721680"/>
                      <a:ext cx="1201320" cy="67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680"/>
                    <a:ext cx="3096360" cy="1991880"/>
                    <a:chOff x="5776200" y="2065680"/>
                    <a:chExt cx="3096360" cy="199188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440"/>
                      <a:ext cx="213984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880" y="3246120"/>
                      <a:ext cx="114876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360" y="2212920"/>
                      <a:ext cx="102384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256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6960"/>
                    <a:chOff x="5788440" y="1303920"/>
                    <a:chExt cx="2364120" cy="78696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12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8640" y="1392480"/>
                      <a:ext cx="81648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360" y="2473920"/>
                    <a:ext cx="2556720" cy="2741760"/>
                    <a:chOff x="2646360" y="2473920"/>
                    <a:chExt cx="2556720" cy="274176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3680" y="3170880"/>
                      <a:ext cx="21258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1360" y="4295520"/>
                      <a:ext cx="11415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0200" cy="2530080"/>
                    <a:chOff x="2085120" y="2366640"/>
                    <a:chExt cx="3040200" cy="253008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8560" y="2970000"/>
                      <a:ext cx="223632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8280" y="3940920"/>
                      <a:ext cx="1201320" cy="67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120" y="2283480"/>
                    <a:ext cx="3097080" cy="1992240"/>
                    <a:chOff x="2040120" y="2283480"/>
                    <a:chExt cx="3097080" cy="199224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0320" y="346392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8120"/>
                    <a:chOff x="2010960" y="2188440"/>
                    <a:chExt cx="3134160" cy="160812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4040" y="299088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183"/>
                  <p:cNvGrpSpPr/>
                  <p:nvPr/>
                </p:nvGrpSpPr>
                <p:grpSpPr>
                  <a:xfrm>
                    <a:off x="2166840" y="2097720"/>
                    <a:ext cx="2940480" cy="1002600"/>
                    <a:chOff x="2166840" y="2097720"/>
                    <a:chExt cx="2940480" cy="100260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920" y="2223720"/>
                      <a:ext cx="1905120" cy="38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2480" y="2430000"/>
                      <a:ext cx="102420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70720"/>
                      <a:ext cx="1730880" cy="26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1200" y="1522440"/>
                    <a:ext cx="2363400" cy="787320"/>
                    <a:chOff x="2761200" y="1522440"/>
                    <a:chExt cx="236340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8280" y="1611000"/>
                      <a:ext cx="81612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560" y="1236600"/>
                    <a:ext cx="2324880" cy="1083960"/>
                    <a:chOff x="2887560" y="1236600"/>
                    <a:chExt cx="2324880" cy="108396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040" y="1787760"/>
                      <a:ext cx="152100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5080" y="1370520"/>
                      <a:ext cx="81684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1160" y="831240"/>
                    <a:ext cx="2170080" cy="1508040"/>
                    <a:chOff x="3161160" y="831240"/>
                    <a:chExt cx="217008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28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600" y="1022760"/>
                      <a:ext cx="81612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280" y="436320"/>
                    <a:ext cx="1987560" cy="1831320"/>
                    <a:chOff x="3437280" y="436320"/>
                    <a:chExt cx="198756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360"/>
                      <a:ext cx="82836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7320" y="335160"/>
                    <a:ext cx="1460520" cy="1886400"/>
                    <a:chOff x="4027320" y="335160"/>
                    <a:chExt cx="1460520" cy="188640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7640" y="1444320"/>
                      <a:ext cx="13557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720" y="545400"/>
                      <a:ext cx="72756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160"/>
                    <a:ext cx="1122120" cy="1946520"/>
                    <a:chOff x="4448160" y="245160"/>
                    <a:chExt cx="112212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6520" y="1402200"/>
                      <a:ext cx="1307160" cy="26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200" y="439920"/>
                      <a:ext cx="70236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200"/>
                    <a:ext cx="2316960" cy="1112400"/>
                    <a:chOff x="5661720" y="952200"/>
                    <a:chExt cx="2316960" cy="111240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520"/>
                      <a:ext cx="15192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2880" y="1090440"/>
                      <a:ext cx="81684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760"/>
                    <a:ext cx="2199600" cy="1450800"/>
                    <a:chOff x="5529600" y="626760"/>
                    <a:chExt cx="2199600" cy="145080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4240" y="1429920"/>
                      <a:ext cx="15192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4480" y="810720"/>
                      <a:ext cx="81576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7480" y="1466640"/>
                    <a:ext cx="126504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360"/>
                    <a:ext cx="1196280" cy="1901160"/>
                    <a:chOff x="5355720" y="27036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7160" y="1418400"/>
                      <a:ext cx="1309680" cy="22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520" y="486000"/>
                      <a:ext cx="702360" cy="35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9160"/>
                    <a:ext cx="1892520" cy="1796400"/>
                    <a:chOff x="5347440" y="389160"/>
                    <a:chExt cx="1892520" cy="179640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8880"/>
                      <a:ext cx="1424880" cy="33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3320" y="585000"/>
                      <a:ext cx="766080" cy="522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7320" cy="1795680"/>
                    <a:chOff x="5458320" y="292680"/>
                    <a:chExt cx="427320" cy="1795680"/>
                  </a:xfrm>
                </p:grpSpPr>
                <p:sp>
                  <p:nvSpPr>
                    <p:cNvPr id="258" name="Freeform 222"/>
                    <p:cNvSpPr/>
                    <p:nvPr/>
                  </p:nvSpPr>
                  <p:spPr>
                    <a:xfrm rot="16696200">
                      <a:off x="5007600" y="1445400"/>
                      <a:ext cx="117576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223"/>
                    <p:cNvSpPr/>
                    <p:nvPr/>
                  </p:nvSpPr>
                  <p:spPr>
                    <a:xfrm rot="16696200">
                      <a:off x="5442480" y="533520"/>
                      <a:ext cx="631080" cy="1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520" y="2530800"/>
                    <a:ext cx="2196000" cy="3002400"/>
                    <a:chOff x="3062520" y="2530800"/>
                    <a:chExt cx="2196000" cy="300240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9640" y="3314880"/>
                      <a:ext cx="2126520" cy="38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1800"/>
                      <a:ext cx="113904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680"/>
                    <a:ext cx="1482120" cy="2999880"/>
                    <a:chOff x="3791520" y="2650680"/>
                    <a:chExt cx="1482120" cy="299988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520" y="3441240"/>
                      <a:ext cx="1967400" cy="38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160"/>
                      <a:ext cx="105588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600"/>
                    <a:ext cx="874080" cy="2926800"/>
                    <a:chOff x="4509000" y="2703600"/>
                    <a:chExt cx="874080" cy="292680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080" y="3489480"/>
                      <a:ext cx="188676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6800" y="4809600"/>
                      <a:ext cx="1012320" cy="54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7920" y="2483640"/>
                    <a:ext cx="2280600" cy="2952720"/>
                    <a:chOff x="5677920" y="2483640"/>
                    <a:chExt cx="2280600" cy="295272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120" y="3251160"/>
                      <a:ext cx="212652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1480" y="4498560"/>
                      <a:ext cx="11397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7680" y="2593440"/>
                    <a:ext cx="1758600" cy="3032640"/>
                    <a:chOff x="5647680" y="2593440"/>
                    <a:chExt cx="1758600" cy="303264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000" y="3395880"/>
                      <a:ext cx="2034720" cy="36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20320"/>
                      <a:ext cx="1090800" cy="57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5080" cy="2986560"/>
                    <a:chOff x="5576400" y="2710800"/>
                    <a:chExt cx="1225080" cy="298656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6840" y="3543120"/>
                      <a:ext cx="1973520" cy="30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720" y="4881960"/>
                      <a:ext cx="105948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400"/>
                    <a:ext cx="696960" cy="2778120"/>
                    <a:chOff x="5521320" y="2840400"/>
                    <a:chExt cx="696960" cy="277812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720" y="3607200"/>
                      <a:ext cx="1812960" cy="30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4320"/>
                      <a:ext cx="97380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2040" y="3665160"/>
                      <a:ext cx="1771920" cy="23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560" y="4932360"/>
                      <a:ext cx="950760" cy="36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280" cy="4521240"/>
                <a:chOff x="2175480" y="682560"/>
                <a:chExt cx="673128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280" cy="4521240"/>
                  <a:chOff x="2175480" y="682560"/>
                  <a:chExt cx="673128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0920" y="857880"/>
                    <a:ext cx="3165840" cy="25239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599"/>
                        </a:cubicBezTo>
                        <a:cubicBezTo>
                          <a:pt x="10696" y="21599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599"/>
                        </a:cubicBezTo>
                        <a:cubicBezTo>
                          <a:pt x="10696" y="21599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652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-1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-1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8680" y="1752840"/>
                    <a:ext cx="175788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-1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-1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7800"/>
                    <a:ext cx="313272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-1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-1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7120" y="682560"/>
                    <a:ext cx="228204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-1"/>
                        </a:cubicBezTo>
                        <a:cubicBezTo>
                          <a:pt x="23204" y="-1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-1"/>
                        </a:cubicBezTo>
                        <a:cubicBezTo>
                          <a:pt x="23204" y="-1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800" y="1875960"/>
                    <a:ext cx="94068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-1"/>
                        </a:cubicBezTo>
                        <a:cubicBezTo>
                          <a:pt x="20409" y="-1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-1"/>
                        </a:cubicBezTo>
                        <a:cubicBezTo>
                          <a:pt x="20409" y="-1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272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7200" y="2181240"/>
                  <a:ext cx="54612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14240"/>
              <a:ext cx="6411960" cy="4708440"/>
              <a:chOff x="2343960" y="714240"/>
              <a:chExt cx="6411960" cy="470844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36400"/>
                <a:ext cx="59832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81200"/>
                <a:ext cx="2617200" cy="28414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23640"/>
                <a:ext cx="153432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-1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-1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40240"/>
                <a:ext cx="2930760" cy="293400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-1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-1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5208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38400"/>
                <a:ext cx="123804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5640" y="3548520"/>
                <a:ext cx="59832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6840" y="2948760"/>
                <a:ext cx="543600" cy="10339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385800"/>
                <a:ext cx="133848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000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09320"/>
                <a:ext cx="1242000" cy="1974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11400"/>
                <a:ext cx="187236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14240"/>
                <a:ext cx="819000" cy="1768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3920" y="2155680"/>
                <a:ext cx="54396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718B0-16C1-47E9-9D25-0BA7E5F3F166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586728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 Black"/>
              </a:rPr>
              <a:t>V</a:t>
            </a:r>
            <a:r>
              <a:rPr b="1" lang="en-US" sz="6600" spc="-1" strike="noStrike">
                <a:solidFill>
                  <a:srgbClr val="ff6600"/>
                </a:solidFill>
                <a:latin typeface="Arial Black"/>
              </a:rPr>
              <a:t>i</a:t>
            </a:r>
            <a:r>
              <a:rPr b="1" lang="en-US" sz="6600" spc="-1" strike="noStrike">
                <a:solidFill>
                  <a:srgbClr val="ffff00"/>
                </a:solidFill>
                <a:latin typeface="Arial Black"/>
              </a:rPr>
              <a:t>s</a:t>
            </a:r>
            <a:r>
              <a:rPr b="1" lang="en-US" sz="6600" spc="-1" strike="noStrike">
                <a:solidFill>
                  <a:srgbClr val="008000"/>
                </a:solidFill>
                <a:latin typeface="Arial Black"/>
              </a:rPr>
              <a:t>i</a:t>
            </a:r>
            <a:r>
              <a:rPr b="1" lang="en-US" sz="6600" spc="-1" strike="noStrike">
                <a:solidFill>
                  <a:srgbClr val="0000ff"/>
                </a:solidFill>
                <a:latin typeface="Arial Black"/>
              </a:rPr>
              <a:t>b</a:t>
            </a:r>
            <a:r>
              <a:rPr b="1" lang="en-US" sz="6600" spc="-1" strike="noStrike">
                <a:solidFill>
                  <a:srgbClr val="486bb2"/>
                </a:solidFill>
                <a:latin typeface="Arial Black"/>
              </a:rPr>
              <a:t>l</a:t>
            </a:r>
            <a:r>
              <a:rPr b="1" lang="en-US" sz="6600" spc="-1" strike="noStrike">
                <a:solidFill>
                  <a:srgbClr val="660066"/>
                </a:solidFill>
                <a:latin typeface="Arial Black"/>
              </a:rPr>
              <a:t>e</a:t>
            </a:r>
            <a:r>
              <a:rPr b="1" lang="en-US" sz="5400" spc="-1" strike="noStrike">
                <a:solidFill>
                  <a:srgbClr val="ffffff"/>
                </a:solidFill>
                <a:latin typeface="Arial Black"/>
              </a:rPr>
              <a:t> Light &amp; Color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914040" y="3048120"/>
            <a:ext cx="74674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Bradley Hand ITC TT-Bold"/>
              </a:rPr>
              <a:t>OBJECTIVE: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Bradley Hand ITC TT-Bold"/>
              </a:rPr>
              <a:t>SWBAT identify the different colors of the visible light and compare each of its frequency and wavelength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35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ow do we get white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9144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0" spc="-1" strike="noStrike">
                <a:solidFill>
                  <a:srgbClr val="ffcc00"/>
                </a:solidFill>
                <a:latin typeface="Arial Black"/>
              </a:rPr>
              <a:t>???</a:t>
            </a:r>
            <a:endParaRPr b="0" lang="en-US" sz="25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2. White ligh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1447920" y="1600200"/>
            <a:ext cx="579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 u="sng">
                <a:solidFill>
                  <a:srgbClr val="ffcc00"/>
                </a:solidFill>
                <a:uFillTx/>
                <a:latin typeface="Arial Black"/>
              </a:rPr>
              <a:t>ALL</a:t>
            </a:r>
            <a:r>
              <a:rPr b="0" lang="en-US" sz="4700" spc="-1" strike="noStrike">
                <a:solidFill>
                  <a:srgbClr val="ffcc00"/>
                </a:solidFill>
                <a:latin typeface="Arial Black"/>
              </a:rPr>
              <a:t> the colors ROY G BIV being </a:t>
            </a:r>
            <a:r>
              <a:rPr b="0" lang="en-US" sz="4700" spc="-1" strike="noStrike" u="sng">
                <a:solidFill>
                  <a:srgbClr val="ffcc00"/>
                </a:solidFill>
                <a:uFillTx/>
                <a:latin typeface="Arial Black"/>
              </a:rPr>
              <a:t>REFLECTED</a:t>
            </a:r>
            <a:endParaRPr b="0" lang="en-US" sz="47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3520" y="25142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happens when you wear BLACK on a hot day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35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ow do we get black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9144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0" spc="-1" strike="noStrike">
                <a:solidFill>
                  <a:srgbClr val="ffcc00"/>
                </a:solidFill>
                <a:latin typeface="Arial Black"/>
              </a:rPr>
              <a:t>???</a:t>
            </a:r>
            <a:endParaRPr b="0" lang="en-US" sz="25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3. Black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LL colors  of rainbow being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ABSORBED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xample: Fash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152280" y="1980720"/>
            <a:ext cx="426744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all/Winter Color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7" name="Content Placeholder 2"/>
          <p:cNvSpPr/>
          <p:nvPr/>
        </p:nvSpPr>
        <p:spPr>
          <a:xfrm>
            <a:off x="3962520" y="5562720"/>
            <a:ext cx="5638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pring/Summer Color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8" name="Picture 4" descr=""/>
          <p:cNvPicPr/>
          <p:nvPr/>
        </p:nvPicPr>
        <p:blipFill>
          <a:blip r:embed="rId1"/>
          <a:stretch/>
        </p:blipFill>
        <p:spPr>
          <a:xfrm>
            <a:off x="5307120" y="2362320"/>
            <a:ext cx="3822480" cy="327636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5" descr=""/>
          <p:cNvPicPr/>
          <p:nvPr/>
        </p:nvPicPr>
        <p:blipFill>
          <a:blip r:embed="rId2"/>
          <a:stretch/>
        </p:blipFill>
        <p:spPr>
          <a:xfrm>
            <a:off x="304920" y="2666880"/>
            <a:ext cx="305748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-3240" y="2282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4. How do we see color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 Bold"/>
              </a:rPr>
              <a:t>4. HOW DO WE SEE COLORS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3818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ff"/>
                </a:solidFill>
                <a:latin typeface="Textile"/>
              </a:rPr>
              <a:t>First,</a:t>
            </a:r>
            <a:r>
              <a:rPr b="1" lang="en-US" sz="3500" spc="-1" strike="noStrike">
                <a:solidFill>
                  <a:srgbClr val="ffcc00"/>
                </a:solidFill>
                <a:latin typeface="Textile"/>
              </a:rPr>
              <a:t> light goes from the source (sun, lamp, etc.) to the object.</a:t>
            </a: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3" name="Rectangle 5"/>
          <p:cNvSpPr/>
          <p:nvPr/>
        </p:nvSpPr>
        <p:spPr>
          <a:xfrm>
            <a:off x="457200" y="3276720"/>
            <a:ext cx="83818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ff"/>
                </a:solidFill>
                <a:latin typeface="Textile"/>
              </a:rPr>
              <a:t>Second,</a:t>
            </a:r>
            <a:r>
              <a:rPr b="1" lang="en-US" sz="3500" spc="-1" strike="noStrike">
                <a:solidFill>
                  <a:srgbClr val="ffcc00"/>
                </a:solidFill>
                <a:latin typeface="Textile"/>
              </a:rPr>
              <a:t> the color we see is </a:t>
            </a:r>
            <a:r>
              <a:rPr b="1" lang="en-US" sz="3500" spc="-1" strike="noStrike" u="sng">
                <a:solidFill>
                  <a:srgbClr val="ffcc00"/>
                </a:solidFill>
                <a:uFillTx/>
                <a:latin typeface="Textile"/>
              </a:rPr>
              <a:t>reflected</a:t>
            </a:r>
            <a:r>
              <a:rPr b="1" lang="en-US" sz="3500" spc="-1" strike="noStrike">
                <a:solidFill>
                  <a:srgbClr val="ffcc00"/>
                </a:solidFill>
                <a:latin typeface="Textile"/>
              </a:rPr>
              <a:t> and the rest is </a:t>
            </a:r>
            <a:r>
              <a:rPr b="1" lang="en-US" sz="3500" spc="-1" strike="noStrike" u="sng">
                <a:solidFill>
                  <a:srgbClr val="ffcc00"/>
                </a:solidFill>
                <a:uFillTx/>
                <a:latin typeface="Textile"/>
              </a:rPr>
              <a:t>absorbed</a:t>
            </a:r>
            <a:r>
              <a:rPr b="1" lang="en-US" sz="3500" spc="-1" strike="noStrike">
                <a:solidFill>
                  <a:srgbClr val="ffcc00"/>
                </a:solidFill>
                <a:latin typeface="Textile"/>
              </a:rPr>
              <a:t> by the object. </a:t>
            </a: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-3240" y="2282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ITE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5" name="TextBox 2"/>
          <p:cNvSpPr/>
          <p:nvPr/>
        </p:nvSpPr>
        <p:spPr>
          <a:xfrm>
            <a:off x="380880" y="1981080"/>
            <a:ext cx="35053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When all colors ar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 Black"/>
              </a:rPr>
              <a:t>REFLECTED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We see WHITE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-3240" y="2282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LACK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7" name="TextBox 2"/>
          <p:cNvSpPr/>
          <p:nvPr/>
        </p:nvSpPr>
        <p:spPr>
          <a:xfrm>
            <a:off x="380880" y="1981080"/>
            <a:ext cx="35053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When all colors ar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 Black"/>
              </a:rPr>
              <a:t>ABSORBED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We see BLACK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ssential Question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ow do we perceive colors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46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ummar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nswer the essential question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ow do we perceive color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46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ummar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nswer the essential question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ow do we perceive color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Light from sun reflects off object and we see the color that is reflected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 Black"/>
              </a:rPr>
              <a:t>Quick Review Point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74320" indent="-27432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hat is the smallest band of the Electromagnetic spectrum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W: How We See Ligh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1. House Plan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hat color(s) go in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hat color (s) go out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lor Balloon Tos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Light &amp; Color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Review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When white light hits an object, all the colors are absorbed except for the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 Black"/>
              </a:rPr>
              <a:t>color of that object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Example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cc"/>
                </a:solidFill>
                <a:latin typeface="Arial Black"/>
              </a:rPr>
              <a:t>Blue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– All colors absorbed except </a:t>
            </a:r>
            <a:r>
              <a:rPr b="0" lang="en-US" sz="2400" spc="-1" strike="noStrike">
                <a:solidFill>
                  <a:srgbClr val="0000cc"/>
                </a:solidFill>
                <a:latin typeface="Arial Black"/>
              </a:rPr>
              <a:t>blue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, which is reflected to eye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hite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– No colors are absorbed. 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All colors are reflected to eye. (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hite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light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5f5f5f"/>
                </a:solidFill>
                <a:latin typeface="Arial Black"/>
              </a:rPr>
              <a:t>Black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– All colors are absorbed. 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No colors are reflected to eye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4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ctivity Instructio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For this activity, you will be given a colored balloon.  You will see objects of various colors on the screen. 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i="1" lang="en-US" sz="2400" spc="-1" strike="noStrike" u="sng">
                <a:solidFill>
                  <a:srgbClr val="ffcc00"/>
                </a:solidFill>
                <a:uFillTx/>
                <a:latin typeface="Arial Black"/>
              </a:rPr>
              <a:t>If the color you have is </a:t>
            </a:r>
            <a:r>
              <a:rPr b="0" i="1" lang="en-US" sz="2400" spc="-1" strike="noStrike" u="sng">
                <a:solidFill>
                  <a:srgbClr val="fe1f08"/>
                </a:solidFill>
                <a:uFillTx/>
                <a:latin typeface="Arial Black"/>
              </a:rPr>
              <a:t>absorbed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by the object, you need to cover the balloon with your body.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DON</a:t>
            </a:r>
            <a:r>
              <a:rPr b="0" lang="ja-JP" sz="2400" spc="-1" strike="noStrike">
                <a:solidFill>
                  <a:srgbClr val="ffffff"/>
                </a:solidFill>
                <a:latin typeface="Arial Black"/>
              </a:rPr>
              <a:t>’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 POP IT!!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i="1" lang="en-US" sz="2400" spc="-1" strike="noStrike" u="sng">
                <a:solidFill>
                  <a:srgbClr val="ffcc00"/>
                </a:solidFill>
                <a:uFillTx/>
                <a:latin typeface="Arial Black"/>
              </a:rPr>
              <a:t>If the color you have is </a:t>
            </a:r>
            <a:r>
              <a:rPr b="0" i="1" lang="en-US" sz="2400" spc="-1" strike="noStrike" u="sng">
                <a:solidFill>
                  <a:srgbClr val="fe1f08"/>
                </a:solidFill>
                <a:uFillTx/>
                <a:latin typeface="Arial Black"/>
              </a:rPr>
              <a:t>reflected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by the object, you need to reflect the balloon into the air above you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nfused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t</a:t>
            </a:r>
            <a:r>
              <a:rPr b="0" lang="ja-JP" sz="2800" spc="-1" strike="noStrike">
                <a:solidFill>
                  <a:srgbClr val="ffcc00"/>
                </a:solidFill>
                <a:latin typeface="Arial Black"/>
              </a:rPr>
              <a:t>’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 okay…let</a:t>
            </a:r>
            <a:r>
              <a:rPr b="0" lang="ja-JP" sz="2800" spc="-1" strike="noStrike">
                <a:solidFill>
                  <a:srgbClr val="ffcc00"/>
                </a:solidFill>
                <a:latin typeface="Arial Black"/>
              </a:rPr>
              <a:t>’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 give it a shot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ll colors are absorbed except…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12" name="Picture 4" descr=""/>
          <p:cNvPicPr/>
          <p:nvPr/>
        </p:nvPicPr>
        <p:blipFill>
          <a:blip r:embed="rId1"/>
          <a:stretch/>
        </p:blipFill>
        <p:spPr>
          <a:xfrm>
            <a:off x="2666880" y="220968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 Black"/>
              </a:rPr>
              <a:t>Let</a:t>
            </a:r>
            <a:r>
              <a:rPr b="0" i="1" lang="ja-JP" sz="4400" spc="-1" strike="noStrike">
                <a:solidFill>
                  <a:srgbClr val="ffffff"/>
                </a:solidFill>
                <a:latin typeface="Arial Black"/>
              </a:rPr>
              <a:t>’</a:t>
            </a:r>
            <a:r>
              <a:rPr b="0" i="1" lang="en-US" sz="4400" spc="-1" strike="noStrike">
                <a:solidFill>
                  <a:srgbClr val="ffffff"/>
                </a:solidFill>
                <a:latin typeface="Arial Black"/>
              </a:rPr>
              <a:t>s get started…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00"/>
                </a:solidFill>
                <a:latin typeface="Arial Black"/>
              </a:rPr>
              <a:t>Pay close attention 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00"/>
                </a:solidFill>
                <a:latin typeface="Arial Black"/>
              </a:rPr>
              <a:t>to the MAIN color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AST ONE…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Get Ready!!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DD MORE Slid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 Bold"/>
              </a:rPr>
              <a:t>1. What is visible light?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5200" y="1905120"/>
            <a:ext cx="876276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extile"/>
              </a:rPr>
              <a:t>-smallest part of the EM spectrum that the human eyes can see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3" name="Rectangle 6"/>
          <p:cNvSpPr/>
          <p:nvPr/>
        </p:nvSpPr>
        <p:spPr>
          <a:xfrm>
            <a:off x="685800" y="3124080"/>
            <a:ext cx="80773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extile"/>
              </a:rPr>
              <a:t>Red to Violet (ROYGBIV)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 Bold"/>
              </a:rPr>
              <a:t>What are the different colors of visible light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66480" y="1828800"/>
            <a:ext cx="8762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ed – lowest energy, longest wavelength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Orange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Yellow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Gree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lu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ndigo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Violet – highest energy, shortest wavelength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TextBox 2"/>
          <p:cNvSpPr/>
          <p:nvPr/>
        </p:nvSpPr>
        <p:spPr>
          <a:xfrm>
            <a:off x="3276720" y="3276720"/>
            <a:ext cx="586728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0000"/>
                </a:solidFill>
                <a:latin typeface="Arial Black"/>
              </a:rPr>
              <a:t>R</a:t>
            </a:r>
            <a:r>
              <a:rPr b="0" lang="en-US" sz="7000" spc="-1" strike="noStrike">
                <a:solidFill>
                  <a:srgbClr val="ff6600"/>
                </a:solidFill>
                <a:latin typeface="Arial Black"/>
              </a:rPr>
              <a:t>O</a:t>
            </a:r>
            <a:r>
              <a:rPr b="0" lang="en-US" sz="7000" spc="-1" strike="noStrike">
                <a:solidFill>
                  <a:srgbClr val="ffff00"/>
                </a:solidFill>
                <a:latin typeface="Arial Black"/>
              </a:rPr>
              <a:t>Y</a:t>
            </a:r>
            <a:r>
              <a:rPr b="0" lang="en-US" sz="70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7000" spc="-1" strike="noStrike">
                <a:solidFill>
                  <a:srgbClr val="008000"/>
                </a:solidFill>
                <a:latin typeface="Arial Black"/>
              </a:rPr>
              <a:t>G</a:t>
            </a:r>
            <a:r>
              <a:rPr b="0" lang="en-US" sz="70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7000" spc="-1" strike="noStrike">
                <a:solidFill>
                  <a:srgbClr val="000090"/>
                </a:solidFill>
                <a:latin typeface="Arial Black"/>
              </a:rPr>
              <a:t>B</a:t>
            </a:r>
            <a:r>
              <a:rPr b="0" lang="en-US" sz="7000" spc="-1" strike="noStrike">
                <a:solidFill>
                  <a:srgbClr val="660066"/>
                </a:solidFill>
                <a:latin typeface="Arial Black"/>
              </a:rPr>
              <a:t>I</a:t>
            </a:r>
            <a:r>
              <a:rPr b="0" lang="en-US" sz="7000" spc="-1" strike="noStrike">
                <a:solidFill>
                  <a:srgbClr val="ff3fdc"/>
                </a:solidFill>
                <a:latin typeface="Arial Black"/>
              </a:rPr>
              <a:t>V</a:t>
            </a:r>
            <a:endParaRPr b="0" lang="en-US" sz="70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ich color has the most energy and short/small wavelength??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olor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TextBox 11"/>
          <p:cNvSpPr/>
          <p:nvPr/>
        </p:nvSpPr>
        <p:spPr>
          <a:xfrm>
            <a:off x="609480" y="1828800"/>
            <a:ext cx="75438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3fdc"/>
                </a:solidFill>
                <a:latin typeface="Arial Black"/>
              </a:rPr>
              <a:t>Violet      the HIGHEST energy… and SHORT wavelength</a:t>
            </a:r>
            <a:endParaRPr b="0" lang="en-US" sz="5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Right Arrow 3"/>
          <p:cNvSpPr/>
          <p:nvPr/>
        </p:nvSpPr>
        <p:spPr>
          <a:xfrm>
            <a:off x="2971800" y="2133720"/>
            <a:ext cx="914400" cy="30456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ff8b17"/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19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ich color has the lowest energy and long/big wavelength??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lo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066680" y="2361960"/>
            <a:ext cx="731520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Arial Black"/>
              </a:rPr>
              <a:t>Red      the LOWEST energy… and LONG wavelength</a:t>
            </a:r>
            <a:endParaRPr b="0" lang="en-US" sz="5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Right Arrow 1"/>
          <p:cNvSpPr/>
          <p:nvPr/>
        </p:nvSpPr>
        <p:spPr>
          <a:xfrm>
            <a:off x="3048120" y="2666880"/>
            <a:ext cx="914400" cy="30492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ff8b17"/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3520" y="25142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happens when you wear WHITE on a hot day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1T20:11:57Z</dcterms:created>
  <dc:creator>Charles</dc:creator>
  <dc:description/>
  <dc:language>en-US</dc:language>
  <cp:lastModifiedBy>RomaK</cp:lastModifiedBy>
  <cp:lastPrinted>2010-09-22T18:15:49Z</cp:lastPrinted>
  <dcterms:modified xsi:type="dcterms:W3CDTF">2015-09-03T12:39:03Z</dcterms:modified>
  <cp:revision>38</cp:revision>
  <dc:subject/>
  <dc:title>Color Balloon Toss</dc:title>
</cp:coreProperties>
</file>