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26.png" ContentType="image/png"/>
  <Override PartName="/ppt/media/image7.png" ContentType="image/png"/>
  <Override PartName="/ppt/media/TSUNAMI.WAV" ContentType="audio/x-wav"/>
  <Override PartName="/ppt/media/image6.wmf" ContentType="image/x-wmf"/>
  <Override PartName="/ppt/media/image10.png" ContentType="image/png"/>
  <Override PartName="/ppt/media/image27.jpeg" ContentType="image/jpeg"/>
  <Override PartName="/ppt/media/image5.png" ContentType="image/png"/>
  <Override PartName="/ppt/media/image13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png" ContentType="image/png"/>
  <Override PartName="/ppt/media/image21.jpeg" ContentType="image/jpeg"/>
  <Override PartName="/ppt/media/image20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25.wmf" ContentType="image/x-wmf"/>
  <Override PartName="/ppt/media/image24.wmf" ContentType="image/x-wmf"/>
  <Override PartName="/ppt/media/image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71800" y="686160"/>
            <a:ext cx="4514040" cy="338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288680"/>
            <a:ext cx="548604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- the number of complete vibrations per uni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oted by f and measured in units of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 - the shortest time interval du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he motion of the wave repeats it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oted by T and measured in units of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1/f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1/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locity - the speed of the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oted by v and measured in units of dist/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d/t = l/T = f 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ed of a wave depends on the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medium through which it is trave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ning back of a wave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aches the boundary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um through which it is trave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Ref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gle of incidence is 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angle of ref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wo types of ref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-end Ter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flected wav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ted when it refl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more dense me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-end Ter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flected wav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right when it refl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less dense me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view these types of ref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nding of a wave as it passes obliquely from one medium into another of different propagation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refraction to occur, the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change speed and must 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w medium at an oblique 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reading of a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ound a barrier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an op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the super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wo or more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position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placement of the medium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waves pass thr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t the same time is the algebra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 of the displacements ca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individual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tru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in a larger ampl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tru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in a smaller ampl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more about interference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view the 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 resulting from the super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wo transverse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and here to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s of the interferenc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circular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turbance that propag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a material medium or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s transfer energy with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k transport of m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for a mechanical wave to exist, energy is needed to create a disturbance in an elastic med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view reflec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on, diffrac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nterference using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 and circular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view a 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p of an actual ripple tank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pple t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can be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investig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nding wave i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two wave trains of the 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, frequency, and ampl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ing in opposite dir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the same med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more about standing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, here, and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view a simulation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erence of two traveling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can result in a standing wa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view a si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standing waves on a st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ing waves may be produced easily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, string, and air colum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ppler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nge in frequency due to the rel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on of the wave source and the ob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bserved frequency is higher whe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 and observer are getting clos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bserved frequency is lower whe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 and observer are getting farther a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, here, here, and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un simulations of the Doppler Eff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ppler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evident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ypes of wav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ing ligh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nd, water, etc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/m waves travel through f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ce at a speed of approxima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00 x 108 m/s or 186,000 miles/s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peed is known as the speed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, radio, x-rays, and 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some examples of e/m wav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edium is needed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placement of the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medium is perpendicular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rection of wave propag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ITUD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placement of the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medium is parallel to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wave propag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, here, and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view simulation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verse and longitudinal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bina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verse and longitudin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l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ximum displac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particle of the medium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t or equilibrium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oted by A and measured in units of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the position and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particles of the me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ortest distance betw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oints that are “in phas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oted by l  and measured in units of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9859-D202-4B41-B830-88D377C53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1743-6567-47B3-8EE3-58574D84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B874-E6FF-4A1C-9403-86B8E736F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DB9F-02E4-46A0-B4EF-745DF1805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F4DE-78B5-42BC-A4D0-7B31004E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F1C8-7B78-45C1-AB24-5618D266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C3D4-54C0-4C75-872F-F1BFD7CC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E0DD-4085-47DF-AC01-B99D5029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FC08-89EB-4AA1-86A2-78380714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8C94-1A90-4BC0-BA7F-2CE11459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7551-577A-4F8A-B837-77E44139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94C1-6B93-446B-8FF6-4E57DEFC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489D-76BA-4B7E-9D48-C2D75535E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audio" Target="../media/TSUNAMI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physics.nwu.edu/ugrad/vpl/waves/wavereflection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lenbrook.k12.il.us/gbssci/phys/Class/waves/u10l3c.html" TargetMode="External"/><Relationship Id="rId2" Type="http://schemas.openxmlformats.org/officeDocument/2006/relationships/hyperlink" Target="http://www.physics.nwu.edu/ugrad/vpl/waves/superposition1.html" TargetMode="External"/><Relationship Id="rId3" Type="http://schemas.openxmlformats.org/officeDocument/2006/relationships/hyperlink" Target="http://www.netzmedien.de/software/download/java/interferenz/index.html" TargetMode="External"/><Relationship Id="rId4" Type="http://schemas.openxmlformats.org/officeDocument/2006/relationships/hyperlink" Target="http://www.walter-fendt.de/ph11e/interference.htm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demoroom.physics.ncsu.edu/html/demos/230.html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www.falstad.com/ripple/" TargetMode="External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ord.edu/dept/physics/p128/lecture99_35.html" TargetMode="External"/><Relationship Id="rId2" Type="http://schemas.openxmlformats.org/officeDocument/2006/relationships/hyperlink" Target="http://www.glenbrook.k12.il.us/gbssci/phys/Class/waves/u10l4b.html" TargetMode="External"/><Relationship Id="rId3" Type="http://schemas.openxmlformats.org/officeDocument/2006/relationships/hyperlink" Target="http://hyperphysics.phy-astr.gsu.edu/hbase/waves/standw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hy.ntnu.edu.tw/~hwang/waveType/waveType.html" TargetMode="External"/><Relationship Id="rId2" Type="http://schemas.openxmlformats.org/officeDocument/2006/relationships/hyperlink" Target="http://www.phy.ntnu.edu.tw/~hwang/waveType/waveType.html" TargetMode="External"/><Relationship Id="rId3" Type="http://schemas.openxmlformats.org/officeDocument/2006/relationships/hyperlink" Target="http://www.cbu.edu/~jvarrian/applets/waves1/lontra_g.htm" TargetMode="External"/><Relationship Id="rId4" Type="http://schemas.openxmlformats.org/officeDocument/2006/relationships/hyperlink" Target="http://www.physics.nwu.edu/ugrad/vpl/waves/wavetypes.html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Object 2"/>
          <p:cNvGraphicFramePr/>
          <p:nvPr/>
        </p:nvGraphicFramePr>
        <p:xfrm>
          <a:off x="152280" y="20520"/>
          <a:ext cx="8763120" cy="317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0520"/>
                    <a:ext cx="8763120" cy="31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Picture 3" descr=""/>
          <p:cNvPicPr/>
          <p:nvPr/>
        </p:nvPicPr>
        <p:blipFill>
          <a:blip r:embed="rId4"/>
          <a:stretch/>
        </p:blipFill>
        <p:spPr>
          <a:xfrm>
            <a:off x="4419720" y="3505320"/>
            <a:ext cx="1668240" cy="1484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SUNAM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Object 2"/>
          <p:cNvGraphicFramePr/>
          <p:nvPr/>
        </p:nvGraphicFramePr>
        <p:xfrm>
          <a:off x="1523880" y="0"/>
          <a:ext cx="6086520" cy="157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0"/>
                    <a:ext cx="608652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11"/>
          <p:cNvSpPr/>
          <p:nvPr/>
        </p:nvSpPr>
        <p:spPr>
          <a:xfrm>
            <a:off x="673200" y="3327480"/>
            <a:ext cx="7912080" cy="1396800"/>
          </a:xfrm>
          <a:prstGeom prst="rect">
            <a:avLst/>
          </a:prstGeom>
          <a:solidFill>
            <a:srgbClr val="ccccff"/>
          </a:solidFill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673200" y="1650960"/>
            <a:ext cx="7912080" cy="1320840"/>
          </a:xfrm>
          <a:prstGeom prst="rect">
            <a:avLst/>
          </a:prstGeom>
          <a:solidFill>
            <a:srgbClr val="ccccff"/>
          </a:solidFill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609480" y="1584360"/>
            <a:ext cx="8050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Frequency</a:t>
            </a:r>
            <a:r>
              <a:rPr b="1" lang="en-US" sz="2400" spc="-1" strike="noStrike">
                <a:solidFill>
                  <a:srgbClr val="3333cc"/>
                </a:solidFill>
                <a:latin typeface="Minnie"/>
                <a:ea typeface="Minnie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number of complete vibrations per unit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1599120" y="2452680"/>
            <a:ext cx="621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denoted by f and measured in units of 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6"/>
          <p:cNvSpPr/>
          <p:nvPr/>
        </p:nvSpPr>
        <p:spPr>
          <a:xfrm>
            <a:off x="660600" y="3260880"/>
            <a:ext cx="79088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Perio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shortest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im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interval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ich the motion of the wave repeats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7"/>
          <p:cNvSpPr/>
          <p:nvPr/>
        </p:nvSpPr>
        <p:spPr>
          <a:xfrm>
            <a:off x="1446840" y="4205160"/>
            <a:ext cx="6525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denoted by T and measured in units of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8"/>
          <p:cNvSpPr/>
          <p:nvPr/>
        </p:nvSpPr>
        <p:spPr>
          <a:xfrm>
            <a:off x="1371600" y="5410080"/>
            <a:ext cx="2209680" cy="15548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9900"/>
                </a:solidFill>
                <a:latin typeface="Times New Roman"/>
              </a:rPr>
              <a:t>T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= 1/</a:t>
            </a:r>
            <a:r>
              <a:rPr b="1" lang="en-US" sz="4800" spc="-1" strike="noStrike">
                <a:solidFill>
                  <a:srgbClr val="ff0033"/>
                </a:solidFill>
                <a:latin typeface="Times New Roman"/>
              </a:rPr>
              <a:t>f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9"/>
          <p:cNvSpPr/>
          <p:nvPr/>
        </p:nvSpPr>
        <p:spPr>
          <a:xfrm>
            <a:off x="4226040" y="5410080"/>
            <a:ext cx="6919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20"/>
          <p:cNvSpPr/>
          <p:nvPr/>
        </p:nvSpPr>
        <p:spPr>
          <a:xfrm>
            <a:off x="5486400" y="5424480"/>
            <a:ext cx="2209680" cy="8236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0033"/>
                </a:solidFill>
                <a:latin typeface="Times New Roman"/>
              </a:rPr>
              <a:t>f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= 1/</a:t>
            </a:r>
            <a:r>
              <a:rPr b="1" lang="en-US" sz="4800" spc="-1" strike="noStrike">
                <a:solidFill>
                  <a:srgbClr val="009900"/>
                </a:solidFill>
                <a:latin typeface="Times New Roman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914400" y="1523880"/>
            <a:ext cx="7772400" cy="1524240"/>
          </a:xfrm>
          <a:prstGeom prst="rect">
            <a:avLst/>
          </a:prstGeom>
          <a:solidFill>
            <a:srgbClr val="ff5050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1315440" y="1676520"/>
            <a:ext cx="6814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Black"/>
              </a:rPr>
              <a:t>Velocit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-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pe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the w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1987560" y="4952880"/>
            <a:ext cx="6470640" cy="14414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1305360" y="2452680"/>
            <a:ext cx="7079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denoted by v and measured in units of dist/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2438280" y="5181480"/>
            <a:ext cx="54104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= d/t = </a:t>
            </a:r>
            <a:r>
              <a:rPr b="1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5400" spc="-1" strike="noStrike">
                <a:solidFill>
                  <a:srgbClr val="009900"/>
                </a:solidFill>
                <a:latin typeface="Times New Roman"/>
              </a:rPr>
              <a:t>T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5400" spc="-1" strike="noStrike">
                <a:solidFill>
                  <a:srgbClr val="ff0033"/>
                </a:solidFill>
                <a:latin typeface="Times New Roman"/>
              </a:rPr>
              <a:t>f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17" descr=""/>
          <p:cNvPicPr/>
          <p:nvPr/>
        </p:nvPicPr>
        <p:blipFill>
          <a:blip r:embed="rId1"/>
          <a:stretch/>
        </p:blipFill>
        <p:spPr>
          <a:xfrm>
            <a:off x="304920" y="4724280"/>
            <a:ext cx="1600200" cy="194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Object 18"/>
          <p:cNvGraphicFramePr/>
          <p:nvPr/>
        </p:nvGraphicFramePr>
        <p:xfrm>
          <a:off x="1523880" y="0"/>
          <a:ext cx="6086520" cy="157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Object 1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0"/>
                    <a:ext cx="608652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Text Box 19"/>
          <p:cNvSpPr/>
          <p:nvPr/>
        </p:nvSpPr>
        <p:spPr>
          <a:xfrm>
            <a:off x="278640" y="3460680"/>
            <a:ext cx="852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speed of a wave depends on the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f the medium through which it is trave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cc"/>
            </a:gs>
            <a:gs pos="100000">
              <a:srgbClr val="cc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2"/>
          <p:cNvGraphicFramePr/>
          <p:nvPr/>
        </p:nvGraphicFramePr>
        <p:xfrm>
          <a:off x="2509920" y="-76320"/>
          <a:ext cx="6086520" cy="20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920" y="-76320"/>
                    <a:ext cx="6086520" cy="20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Rectangle 3"/>
          <p:cNvSpPr/>
          <p:nvPr/>
        </p:nvSpPr>
        <p:spPr>
          <a:xfrm>
            <a:off x="2438280" y="2819520"/>
            <a:ext cx="4318200" cy="838080"/>
          </a:xfrm>
          <a:prstGeom prst="rect">
            <a:avLst/>
          </a:prstGeom>
          <a:solidFill>
            <a:srgbClr val="990000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2666880" y="281952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Refle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93720" y="4008600"/>
            <a:ext cx="77594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00cc99"/>
                </a:solidFill>
                <a:latin typeface="Comic Sans MS"/>
              </a:rPr>
              <a:t>turning back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a wave w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t reaches the </a:t>
            </a: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boundar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edium through which it is trav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9" descr=""/>
          <p:cNvPicPr/>
          <p:nvPr/>
        </p:nvPicPr>
        <p:blipFill>
          <a:blip r:embed="rId3"/>
          <a:stretch/>
        </p:blipFill>
        <p:spPr>
          <a:xfrm>
            <a:off x="590400" y="152280"/>
            <a:ext cx="1390680" cy="1909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75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lawofreflection1"/>
          <p:cNvPicPr/>
          <p:nvPr/>
        </p:nvPicPr>
        <p:blipFill>
          <a:blip r:embed="rId1"/>
          <a:stretch/>
        </p:blipFill>
        <p:spPr>
          <a:xfrm>
            <a:off x="4800600" y="4038480"/>
            <a:ext cx="4191120" cy="16765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"/>
          <p:cNvSpPr/>
          <p:nvPr/>
        </p:nvSpPr>
        <p:spPr>
          <a:xfrm>
            <a:off x="1143000" y="457200"/>
            <a:ext cx="6934320" cy="1066680"/>
          </a:xfrm>
          <a:prstGeom prst="rect">
            <a:avLst/>
          </a:prstGeom>
          <a:solidFill>
            <a:srgbClr val="990000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891800" y="533520"/>
            <a:ext cx="5438160" cy="82368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Law of Refle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988200" y="1600200"/>
            <a:ext cx="7105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angle of incidenc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eq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o the </a:t>
            </a: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angle of refl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6" descr="lawofreflection"/>
          <p:cNvPicPr/>
          <p:nvPr/>
        </p:nvPicPr>
        <p:blipFill>
          <a:blip r:embed="rId2"/>
          <a:stretch/>
        </p:blipFill>
        <p:spPr>
          <a:xfrm>
            <a:off x="152280" y="3316320"/>
            <a:ext cx="4496040" cy="30081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75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380880" y="76320"/>
            <a:ext cx="8458200" cy="6553080"/>
          </a:xfrm>
          <a:prstGeom prst="rect">
            <a:avLst/>
          </a:prstGeom>
          <a:solidFill>
            <a:srgbClr val="3333cc"/>
          </a:solidFill>
          <a:ln w="1015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717840" y="304920"/>
            <a:ext cx="7774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re are two types of reflec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365120" y="1143000"/>
            <a:ext cx="651888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Fixed-end Termi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e reflected wave 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ff"/>
                </a:solidFill>
                <a:latin typeface="Comic Sans MS"/>
              </a:rPr>
              <a:t>inverted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when it refl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from a </a:t>
            </a:r>
            <a:r>
              <a:rPr b="1" lang="en-US" sz="3600" spc="-1" strike="noStrike">
                <a:solidFill>
                  <a:srgbClr val="ff9966"/>
                </a:solidFill>
                <a:latin typeface="Comic Sans MS"/>
              </a:rPr>
              <a:t>more dense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medi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1560240" y="3505320"/>
            <a:ext cx="617292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Free-end Termi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e reflected wave 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ff"/>
                </a:solidFill>
                <a:latin typeface="Comic Sans MS"/>
              </a:rPr>
              <a:t>upright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when it refl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from a </a:t>
            </a:r>
            <a:r>
              <a:rPr b="1" lang="en-US" sz="3600" spc="-1" strike="noStrike">
                <a:solidFill>
                  <a:srgbClr val="ff9966"/>
                </a:solidFill>
                <a:latin typeface="Comic Sans MS"/>
              </a:rPr>
              <a:t>less dense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medi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702720" y="5899320"/>
            <a:ext cx="7773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er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to view these types of refl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33"/>
            </a:gs>
            <a:gs pos="100000">
              <a:srgbClr val="9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7053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3505320" y="304920"/>
            <a:ext cx="4876560" cy="685800"/>
          </a:xfrm>
          <a:prstGeom prst="rect">
            <a:avLst/>
          </a:prstGeom>
          <a:solidFill>
            <a:srgbClr val="3333cc"/>
          </a:solidFill>
          <a:ln w="507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2895480" y="990720"/>
            <a:ext cx="6019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th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ccff"/>
                </a:solidFill>
                <a:latin typeface="Comic Sans MS"/>
              </a:rPr>
              <a:t>bendin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of a wave as it pass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ccff"/>
                </a:solidFill>
                <a:latin typeface="Comic Sans MS"/>
              </a:rPr>
              <a:t>obliquely</a:t>
            </a: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from one medium into another of </a:t>
            </a:r>
            <a:r>
              <a:rPr b="1" lang="en-US" sz="3200" spc="-1" strike="noStrike">
                <a:solidFill>
                  <a:srgbClr val="00ccff"/>
                </a:solidFill>
                <a:latin typeface="Comic Sans MS"/>
              </a:rPr>
              <a:t>different propagation sp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4038480" y="228600"/>
            <a:ext cx="3886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66"/>
                </a:solidFill>
                <a:latin typeface="Arial Black"/>
              </a:rPr>
              <a:t>Refrac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2603880" y="5105520"/>
            <a:ext cx="639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r refraction to occur, the w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ust change speed and must 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new medium at an oblique an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5" descr="refractionanswer"/>
          <p:cNvPicPr/>
          <p:nvPr/>
        </p:nvPicPr>
        <p:blipFill>
          <a:blip r:embed="rId2"/>
          <a:stretch/>
        </p:blipFill>
        <p:spPr>
          <a:xfrm>
            <a:off x="4114800" y="2743200"/>
            <a:ext cx="3962520" cy="1720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59418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5"/>
          <p:cNvSpPr/>
          <p:nvPr/>
        </p:nvSpPr>
        <p:spPr>
          <a:xfrm>
            <a:off x="3352680" y="533520"/>
            <a:ext cx="4648320" cy="990360"/>
          </a:xfrm>
          <a:prstGeom prst="rect">
            <a:avLst/>
          </a:prstGeom>
          <a:solidFill>
            <a:srgbClr val="0000ff"/>
          </a:solidFill>
          <a:ln w="507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Black"/>
              </a:rPr>
              <a:t>Diffra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2819520" y="1600200"/>
            <a:ext cx="56592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the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spreading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of a w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around a barrier 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through an ope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04" descr="diffractionnarrowanswer"/>
          <p:cNvPicPr/>
          <p:nvPr/>
        </p:nvPicPr>
        <p:blipFill>
          <a:blip r:embed="rId2"/>
          <a:stretch/>
        </p:blipFill>
        <p:spPr>
          <a:xfrm>
            <a:off x="3505320" y="2362320"/>
            <a:ext cx="4190760" cy="2280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2362320" y="101520"/>
            <a:ext cx="4394160" cy="736560"/>
          </a:xfrm>
          <a:prstGeom prst="rect">
            <a:avLst/>
          </a:prstGeom>
          <a:solidFill>
            <a:srgbClr val="0000ff"/>
          </a:solidFill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533520" y="2438280"/>
            <a:ext cx="7899120" cy="914400"/>
          </a:xfrm>
          <a:prstGeom prst="rect">
            <a:avLst/>
          </a:prstGeom>
          <a:solidFill>
            <a:srgbClr val="0000ff"/>
          </a:solidFill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2795760" y="60480"/>
            <a:ext cx="3452400" cy="7628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Inter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982440" y="942840"/>
            <a:ext cx="71557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result of the </a:t>
            </a:r>
            <a:r>
              <a:rPr b="1" lang="en-US" sz="3600" spc="-1" strike="noStrike">
                <a:solidFill>
                  <a:srgbClr val="ffff66"/>
                </a:solidFill>
                <a:latin typeface="Comic Sans MS"/>
              </a:rPr>
              <a:t>superpos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f two or more wa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838080" y="2514600"/>
            <a:ext cx="7315200" cy="7628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Superposition Princi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61560" y="3562200"/>
            <a:ext cx="902124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displacement of the medium wh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wo or more waves pass throug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t at the same time is the </a:t>
            </a:r>
            <a:r>
              <a:rPr b="1" lang="en-US" sz="3600" spc="-1" strike="noStrike">
                <a:solidFill>
                  <a:srgbClr val="ffff66"/>
                </a:solidFill>
                <a:latin typeface="Comic Sans MS"/>
              </a:rPr>
              <a:t>algebra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Comic Sans MS"/>
              </a:rPr>
              <a:t>sum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of the displacements caus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by the individual wa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3"/>
          <p:cNvSpPr/>
          <p:nvPr/>
        </p:nvSpPr>
        <p:spPr>
          <a:xfrm>
            <a:off x="1353600" y="1219320"/>
            <a:ext cx="66895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 Black"/>
              </a:rPr>
              <a:t>Constru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sults in a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arger amplitu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914400" y="1522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 Black"/>
              </a:rPr>
              <a:t>Types of Interfer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1085760" y="2590920"/>
            <a:ext cx="7009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 Black"/>
              </a:rPr>
              <a:t>Destru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sults in a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maller amplitu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9" descr="interference"/>
          <p:cNvPicPr/>
          <p:nvPr/>
        </p:nvPicPr>
        <p:blipFill>
          <a:blip r:embed="rId1"/>
          <a:stretch/>
        </p:blipFill>
        <p:spPr>
          <a:xfrm>
            <a:off x="228600" y="3962520"/>
            <a:ext cx="8686800" cy="2361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9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3"/>
          <p:cNvSpPr/>
          <p:nvPr/>
        </p:nvSpPr>
        <p:spPr>
          <a:xfrm>
            <a:off x="367560" y="762120"/>
            <a:ext cx="847440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ad more about interference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ere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lick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here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to view the inter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attern resulting from the super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f two transverse 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lick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here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4"/>
              </a:rPr>
              <a:t>here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o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imulations of the interference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wo circular 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698040" y="457200"/>
            <a:ext cx="775944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Arial Black"/>
              </a:rPr>
              <a:t>W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isturbanc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at propag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rough a material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ediu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pac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1383840" y="4724280"/>
            <a:ext cx="6505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ve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ransfer energ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ith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bulk transport of mat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7"/>
          <p:cNvSpPr/>
          <p:nvPr/>
        </p:nvSpPr>
        <p:spPr>
          <a:xfrm>
            <a:off x="609480" y="25606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order for a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echanical wav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o exist,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nerg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needed to create a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isturbanc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 a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lastic mediu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183960" y="3200400"/>
            <a:ext cx="629028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You can view reflec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refraction, diffrac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and interference using b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plane and circular wa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Click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ere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 to view a 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clip of an actual ripple tank experi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7" descr="rippletank"/>
          <p:cNvPicPr/>
          <p:nvPr/>
        </p:nvPicPr>
        <p:blipFill>
          <a:blip r:embed="rId2"/>
          <a:stretch/>
        </p:blipFill>
        <p:spPr>
          <a:xfrm>
            <a:off x="380880" y="304920"/>
            <a:ext cx="3608640" cy="27050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8"/>
          <p:cNvSpPr/>
          <p:nvPr/>
        </p:nvSpPr>
        <p:spPr>
          <a:xfrm>
            <a:off x="4767480" y="457200"/>
            <a:ext cx="322560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The ripple ta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simulation f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here</a:t>
            </a: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 can be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to investig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wave proper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9" descr=""/>
          <p:cNvPicPr/>
          <p:nvPr/>
        </p:nvPicPr>
        <p:blipFill>
          <a:blip r:embed="rId4"/>
          <a:stretch/>
        </p:blipFill>
        <p:spPr>
          <a:xfrm>
            <a:off x="4648320" y="3200400"/>
            <a:ext cx="3733560" cy="2670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Oval 2"/>
          <p:cNvSpPr/>
          <p:nvPr/>
        </p:nvSpPr>
        <p:spPr>
          <a:xfrm>
            <a:off x="615960" y="235080"/>
            <a:ext cx="3035160" cy="1815840"/>
          </a:xfrm>
          <a:prstGeom prst="ellipse">
            <a:avLst/>
          </a:prstGeom>
          <a:gradFill rotWithShape="0">
            <a:gsLst>
              <a:gs pos="0">
                <a:srgbClr val="b2b200"/>
              </a:gs>
              <a:gs pos="50000">
                <a:srgbClr val="ffff00"/>
              </a:gs>
              <a:gs pos="100000">
                <a:srgbClr val="b2b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380880" y="203040"/>
          <a:ext cx="3429000" cy="18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03040"/>
                    <a:ext cx="3429000" cy="18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Oval 4"/>
          <p:cNvSpPr/>
          <p:nvPr/>
        </p:nvSpPr>
        <p:spPr>
          <a:xfrm>
            <a:off x="3664080" y="158760"/>
            <a:ext cx="3035160" cy="1816200"/>
          </a:xfrm>
          <a:prstGeom prst="ellipse">
            <a:avLst/>
          </a:prstGeom>
          <a:gradFill rotWithShape="0">
            <a:gsLst>
              <a:gs pos="0">
                <a:srgbClr val="b2b200"/>
              </a:gs>
              <a:gs pos="50000">
                <a:srgbClr val="ffff00"/>
              </a:gs>
              <a:gs pos="100000">
                <a:srgbClr val="b2b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3352680" y="228600"/>
          <a:ext cx="3505320" cy="175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228600"/>
                    <a:ext cx="350532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Oval 6"/>
          <p:cNvSpPr/>
          <p:nvPr/>
        </p:nvSpPr>
        <p:spPr>
          <a:xfrm>
            <a:off x="177840" y="2666880"/>
            <a:ext cx="8864640" cy="2971800"/>
          </a:xfrm>
          <a:prstGeom prst="ellipse">
            <a:avLst/>
          </a:prstGeom>
          <a:solidFill>
            <a:srgbClr val="ff9966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022760" y="2971800"/>
            <a:ext cx="7052760" cy="24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standing wav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is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sult of two wave trains of the s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wavelengt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frequenc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amplit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aveling in opposite dir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rough the same medi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5"/>
          <a:stretch/>
        </p:blipFill>
        <p:spPr>
          <a:xfrm>
            <a:off x="6781680" y="249120"/>
            <a:ext cx="2284560" cy="19306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9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9"/>
          <p:cNvSpPr/>
          <p:nvPr/>
        </p:nvSpPr>
        <p:spPr>
          <a:xfrm>
            <a:off x="1189080" y="457200"/>
            <a:ext cx="6762960" cy="39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Learn more about standing 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ere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,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here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, and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here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lick here to view a simulation of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nterference of two traveling 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hat can result in a standing wa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lick here to view a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of standing waves on a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10"/>
          <p:cNvSpPr/>
          <p:nvPr/>
        </p:nvSpPr>
        <p:spPr>
          <a:xfrm>
            <a:off x="863640" y="4826160"/>
            <a:ext cx="7493040" cy="1549080"/>
          </a:xfrm>
          <a:prstGeom prst="plus">
            <a:avLst>
              <a:gd name="adj" fmla="val 24995"/>
            </a:avLst>
          </a:prstGeom>
          <a:solidFill>
            <a:srgbClr val="66ff33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777240" y="5195880"/>
            <a:ext cx="76802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anding waves may be produced easily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ater, string, and air colum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607320" y="28440"/>
            <a:ext cx="802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oppler E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change in frequency due to the rel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otion of the wave source and the ob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380880" y="4884840"/>
            <a:ext cx="8458200" cy="17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bserved frequency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s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igher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when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ource and observer are getting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loser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bserved frequency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s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lower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when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ource and observer are getting farther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way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5" descr="doppler"/>
          <p:cNvPicPr/>
          <p:nvPr/>
        </p:nvPicPr>
        <p:blipFill>
          <a:blip r:embed="rId1"/>
          <a:stretch/>
        </p:blipFill>
        <p:spPr>
          <a:xfrm>
            <a:off x="2133720" y="1600200"/>
            <a:ext cx="518148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411840" y="1143000"/>
            <a:ext cx="833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lick here, here, here, and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o run simulations of the Doppler Eff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6" descr="See Explanation.  Clicking on the picture will download &#10; the highest resolution version available."/>
          <p:cNvPicPr/>
          <p:nvPr/>
        </p:nvPicPr>
        <p:blipFill>
          <a:blip r:embed="rId1"/>
          <a:stretch/>
        </p:blipFill>
        <p:spPr>
          <a:xfrm>
            <a:off x="4724280" y="3276720"/>
            <a:ext cx="4195800" cy="30207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162360" y="3490920"/>
            <a:ext cx="4085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e Doppler E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an be evident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ll types of waves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cluding ligh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ound, water, etc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9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335160" y="3657600"/>
            <a:ext cx="8571960" cy="25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ll e/m waves</a:t>
            </a:r>
            <a:r>
              <a:rPr b="1" lang="en-US" sz="3200" spc="-1" strike="noStrike">
                <a:solidFill>
                  <a:srgbClr val="66ff66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ravel through f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pace at a speed of approxim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3.00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Comic Sans MS"/>
              </a:rPr>
              <a:t>8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m/s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186,000 miles/sec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is speed is known as the</a:t>
            </a:r>
            <a:r>
              <a:rPr b="1" lang="en-US" sz="3200" spc="-1" strike="noStrike">
                <a:solidFill>
                  <a:srgbClr val="66ff66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peed of light</a:t>
            </a:r>
            <a:r>
              <a:rPr b="1" lang="en-US" sz="3200" spc="-1" strike="noStrike">
                <a:solidFill>
                  <a:srgbClr val="66ff66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59160" y="1981080"/>
            <a:ext cx="7585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ight, radio, x-rays, and gamma 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re some examples of e/m wav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848600" y="380880"/>
            <a:ext cx="5622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No medium is needed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ELECTROMAGNETIC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1519200" y="173160"/>
          <a:ext cx="6086520" cy="17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73160"/>
                    <a:ext cx="608652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13" descr="transversewave"/>
          <p:cNvPicPr/>
          <p:nvPr/>
        </p:nvPicPr>
        <p:blipFill>
          <a:blip r:embed="rId3"/>
          <a:stretch/>
        </p:blipFill>
        <p:spPr>
          <a:xfrm>
            <a:off x="457200" y="2368440"/>
            <a:ext cx="8305920" cy="40323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>
            <a:off x="304920" y="5486400"/>
            <a:ext cx="8610480" cy="1219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9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492480" y="1447920"/>
            <a:ext cx="81144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displacement of the partic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f the medium i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perpendicula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direction of wave propag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514600" y="380880"/>
            <a:ext cx="4114800" cy="914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2744280" y="457200"/>
            <a:ext cx="3693240" cy="762840"/>
          </a:xfrm>
          <a:prstGeom prst="rect">
            <a:avLst/>
          </a:prstGeom>
          <a:noFill/>
          <a:ln w="0">
            <a:noFill/>
          </a:ln>
          <a:effectLst>
            <a:outerShdw dist="50760" dir="108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Lucida Casual"/>
              </a:rPr>
              <a:t>TRANSVER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2057400" y="3403440"/>
            <a:ext cx="4952880" cy="101628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2233080" y="3581280"/>
            <a:ext cx="4555800" cy="762840"/>
          </a:xfrm>
          <a:prstGeom prst="rect">
            <a:avLst/>
          </a:prstGeom>
          <a:noFill/>
          <a:ln w="0">
            <a:noFill/>
          </a:ln>
          <a:effectLst>
            <a:outerShdw dist="50760" dir="108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Lucida Casual"/>
              </a:rPr>
              <a:t>LONGITUD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665280" y="4737240"/>
            <a:ext cx="779148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displacement of the partic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f the medium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paralle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o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direction of wave propag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9"/>
          <p:cNvSpPr/>
          <p:nvPr/>
        </p:nvSpPr>
        <p:spPr>
          <a:xfrm>
            <a:off x="152280" y="3581280"/>
            <a:ext cx="8839440" cy="2362320"/>
          </a:xfrm>
          <a:prstGeom prst="rect">
            <a:avLst/>
          </a:prstGeom>
          <a:solidFill>
            <a:srgbClr val="0000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4">
            <a:hlinkClick r:id="rId1"/>
          </p:cNvPr>
          <p:cNvSpPr/>
          <p:nvPr/>
        </p:nvSpPr>
        <p:spPr>
          <a:xfrm>
            <a:off x="371880" y="3822840"/>
            <a:ext cx="8200080" cy="1814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lick 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here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here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and 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Comic Sans MS"/>
                <a:hlinkClick r:id="rId4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o view simulations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ransverse and longitudinal wav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5"/>
          <p:cNvSpPr/>
          <p:nvPr/>
        </p:nvSpPr>
        <p:spPr>
          <a:xfrm>
            <a:off x="3048120" y="380880"/>
            <a:ext cx="3124080" cy="990720"/>
          </a:xfrm>
          <a:prstGeom prst="rect">
            <a:avLst/>
          </a:prstGeom>
          <a:solidFill>
            <a:srgbClr val="00cc99"/>
          </a:solidFill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3268440" y="457200"/>
            <a:ext cx="2646360" cy="762840"/>
          </a:xfrm>
          <a:prstGeom prst="rect">
            <a:avLst/>
          </a:prstGeom>
          <a:noFill/>
          <a:ln w="0">
            <a:noFill/>
          </a:ln>
          <a:effectLst>
            <a:outerShdw dist="50760" dir="108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Lucida Casual"/>
              </a:rPr>
              <a:t>SU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7"/>
          <p:cNvSpPr/>
          <p:nvPr/>
        </p:nvSpPr>
        <p:spPr>
          <a:xfrm>
            <a:off x="1403640" y="1704960"/>
            <a:ext cx="63543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combinatio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transverse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longitudina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1523880" y="0"/>
          <a:ext cx="6086520" cy="157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0"/>
                    <a:ext cx="608652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Rectangle 3"/>
          <p:cNvSpPr/>
          <p:nvPr/>
        </p:nvSpPr>
        <p:spPr>
          <a:xfrm>
            <a:off x="177840" y="1600200"/>
            <a:ext cx="8788320" cy="2717640"/>
          </a:xfrm>
          <a:prstGeom prst="rect">
            <a:avLst/>
          </a:prstGeom>
          <a:solidFill>
            <a:srgbClr val="99ccff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57240" y="1523880"/>
            <a:ext cx="908532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 Black"/>
              </a:rPr>
              <a:t>Amplitu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maximum displac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f a particle of the medium fr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rest or equilibrium pos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599760" y="3733920"/>
            <a:ext cx="7812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33"/>
                </a:solidFill>
                <a:latin typeface="Times New Roman"/>
              </a:rPr>
              <a:t>denoted by A and measured in units of 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1" descr="wave5"/>
          <p:cNvPicPr/>
          <p:nvPr/>
        </p:nvPicPr>
        <p:blipFill>
          <a:blip r:embed="rId3"/>
          <a:stretch/>
        </p:blipFill>
        <p:spPr>
          <a:xfrm>
            <a:off x="304920" y="4572000"/>
            <a:ext cx="4114800" cy="2027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wave6"/>
          <p:cNvPicPr/>
          <p:nvPr/>
        </p:nvPicPr>
        <p:blipFill>
          <a:blip r:embed="rId4"/>
          <a:stretch/>
        </p:blipFill>
        <p:spPr>
          <a:xfrm>
            <a:off x="4724280" y="4572000"/>
            <a:ext cx="4114800" cy="2060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1523880" y="0"/>
          <a:ext cx="6086520" cy="157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0"/>
                    <a:ext cx="608652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Rectangle 5"/>
          <p:cNvSpPr/>
          <p:nvPr/>
        </p:nvSpPr>
        <p:spPr>
          <a:xfrm>
            <a:off x="635040" y="1600200"/>
            <a:ext cx="7950240" cy="1905120"/>
          </a:xfrm>
          <a:prstGeom prst="rect">
            <a:avLst/>
          </a:prstGeom>
          <a:solidFill>
            <a:srgbClr val="99ccff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591480" y="1676520"/>
            <a:ext cx="806256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 Black"/>
              </a:rPr>
              <a:t>Ph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lated to the </a:t>
            </a: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position and mo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f the particles of the medi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wave4"/>
          <p:cNvPicPr/>
          <p:nvPr/>
        </p:nvPicPr>
        <p:blipFill>
          <a:blip r:embed="rId1"/>
          <a:stretch/>
        </p:blipFill>
        <p:spPr>
          <a:xfrm>
            <a:off x="228600" y="4038480"/>
            <a:ext cx="4343400" cy="2362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wave7"/>
          <p:cNvPicPr/>
          <p:nvPr/>
        </p:nvPicPr>
        <p:blipFill>
          <a:blip r:embed="rId2"/>
          <a:stretch/>
        </p:blipFill>
        <p:spPr>
          <a:xfrm>
            <a:off x="4724280" y="4027320"/>
            <a:ext cx="4267440" cy="23734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380880" y="1397160"/>
            <a:ext cx="8458200" cy="2489040"/>
          </a:xfrm>
          <a:prstGeom prst="rect">
            <a:avLst/>
          </a:prstGeom>
          <a:solidFill>
            <a:srgbClr val="99ccff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684360" y="1460520"/>
            <a:ext cx="777384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shortest distanc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betwe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wo points that are “in phase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550080" y="3154320"/>
            <a:ext cx="7969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33"/>
                </a:solidFill>
                <a:latin typeface="Times New Roman"/>
              </a:rPr>
              <a:t>denoted by </a:t>
            </a:r>
            <a:r>
              <a:rPr b="1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</a:t>
            </a:r>
            <a:r>
              <a:rPr b="1" i="1" lang="en-US" sz="3200" spc="-1" strike="noStrike">
                <a:solidFill>
                  <a:srgbClr val="ff0033"/>
                </a:solidFill>
                <a:latin typeface="Times New Roman"/>
              </a:rPr>
              <a:t> and measured in units of 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Object 7"/>
          <p:cNvGraphicFramePr/>
          <p:nvPr/>
        </p:nvGraphicFramePr>
        <p:xfrm>
          <a:off x="1523880" y="0"/>
          <a:ext cx="6086520" cy="157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0"/>
                    <a:ext cx="608652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98-06-10T01:42:40Z</dcterms:created>
  <dc:creator>Bryan</dc:creator>
  <dc:description/>
  <dc:language>en-US</dc:language>
  <cp:lastModifiedBy>RomaK</cp:lastModifiedBy>
  <cp:lastPrinted>1998-08-05T01:23:10Z</cp:lastPrinted>
  <dcterms:modified xsi:type="dcterms:W3CDTF">2015-09-03T12:39:12Z</dcterms:modified>
  <cp:revision>71</cp:revision>
  <dc:subject/>
  <dc:title>No Slide Title</dc:title>
</cp:coreProperties>
</file>