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TSUNAMI.WAV" ContentType="audio/x-wav"/>
  <Override PartName="/ppt/media/image6.wmf" ContentType="image/x-wmf"/>
  <Override PartName="/ppt/media/image10.png" ContentType="image/png"/>
  <Override PartName="/ppt/media/image27.jpeg" ContentType="image/jpeg"/>
  <Override PartName="/ppt/media/image5.png" ContentType="image/png"/>
  <Override PartName="/ppt/media/image13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24.wmf" ContentType="image/x-wm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71800" y="686160"/>
            <a:ext cx="4514040" cy="338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288680"/>
            <a:ext cx="548604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- the number of complete vibrations per uni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f and measured in units of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- the shortest time interval du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he motion of the wave repeats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T and measured in units of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/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1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ty - the speed of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v and measured in units of dist/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d/t = l/T = f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ed of a wave depends on the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through which it is trav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ning back of a wave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aches the boundary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um through which it is trave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of incidence is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angle of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ted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more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-end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lected wav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right when it refl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less dens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se types of ref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a wave as it passes obliquely from one medium into another of different propagation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refraction to occur, the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change speed and must 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w medium at an obliqu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reading of a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und a barri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n o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or more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position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medium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waves pass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t the same time is the algebra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 of the displacements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individual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larg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tru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in a smaller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ore about interference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the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 resulting from the super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wo transverse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and here to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of the interfere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a material medium or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 transfer energy 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k transport of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for a mechanical wave to exist, energy is needed to create a disturbance in an elastic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view refle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on, diffra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interference using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 and circular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mo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p of an actual ripple tank experi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pple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can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nding wave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two wave trains of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, frequency, and 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same med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more about stand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here, an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ence of two traveling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an result in a standing wa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 to view a 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tanding waves on a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ing waves may be produced easil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string, and air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in frequency due to the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on of the wave source and the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high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clo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frequency is lower wh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and observer are getting farther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un simulations of the Doppler Eff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ppl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evide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ypes of waves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ligh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, water, etc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/m waves travel through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at a speed of approxim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0 x 108 m/s or 186,000 miles/s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ed is known as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, radio, x-rays, and gamma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ome examples of e/m wav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edium is need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erpendicul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placement of the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medium is parallel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wave propag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here, here, and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view simulat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 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bina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verse and longitud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displa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icle of the medium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r equilibrium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A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3760" y="685800"/>
            <a:ext cx="4470480" cy="3352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267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the position and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particles of the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1520" cy="3384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rtest 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oints that are “in pha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oted by l  and measured in units of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51D-1BD7-4B79-B889-958FEF09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E29-8F34-4EEB-8AE2-CEFFD79A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507C-DAF4-4855-8F0F-6B6D12598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5FC-69F9-4ACA-9774-02BE3A82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606-FE56-4CD5-BB6F-C9546D4F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0C1-061D-4DB6-AF71-06820F5E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F617-068C-41D4-82F9-F07534F5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38E-1F98-42A7-A6FF-091E38D6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577-F026-4E66-826E-DA66382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D83-E6DF-4ED7-9713-2B028E7A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CD85-DC21-4BC6-89A7-664EC018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7CF3-4B29-4109-99FE-DA135774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7ECE-6132-4803-A571-391F33DE9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audio" Target="../media/TSUNAMI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hysics.nwu.edu/ugrad/vpl/waves/wavereflecti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lenbrook.k12.il.us/gbssci/phys/Class/waves/u10l3c.html" TargetMode="External"/><Relationship Id="rId2" Type="http://schemas.openxmlformats.org/officeDocument/2006/relationships/hyperlink" Target="http://www.physics.nwu.edu/ugrad/vpl/waves/superposition1.html" TargetMode="External"/><Relationship Id="rId3" Type="http://schemas.openxmlformats.org/officeDocument/2006/relationships/hyperlink" Target="http://www.netzmedien.de/software/download/java/interferenz/index.html" TargetMode="External"/><Relationship Id="rId4" Type="http://schemas.openxmlformats.org/officeDocument/2006/relationships/hyperlink" Target="http://www.walter-fendt.de/ph11e/interference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moroom.physics.ncsu.edu/html/demos/230.html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falstad.com/ripple/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ord.edu/dept/physics/p128/lecture99_35.html" TargetMode="External"/><Relationship Id="rId2" Type="http://schemas.openxmlformats.org/officeDocument/2006/relationships/hyperlink" Target="http://www.glenbrook.k12.il.us/gbssci/phys/Class/waves/u10l4b.html" TargetMode="External"/><Relationship Id="rId3" Type="http://schemas.openxmlformats.org/officeDocument/2006/relationships/hyperlink" Target="http://hyperphysics.phy-astr.gsu.edu/hbase/waves/standw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y.ntnu.edu.tw/~hwang/waveType/waveType.html" TargetMode="External"/><Relationship Id="rId2" Type="http://schemas.openxmlformats.org/officeDocument/2006/relationships/hyperlink" Target="http://www.phy.ntnu.edu.tw/~hwang/waveType/waveType.html" TargetMode="External"/><Relationship Id="rId3" Type="http://schemas.openxmlformats.org/officeDocument/2006/relationships/hyperlink" Target="http://www.cbu.edu/~jvarrian/applets/waves1/lontra_g.htm" TargetMode="External"/><Relationship Id="rId4" Type="http://schemas.openxmlformats.org/officeDocument/2006/relationships/hyperlink" Target="http://www.physics.nwu.edu/ugrad/vpl/waves/wavetypes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Object 2"/>
          <p:cNvGraphicFramePr/>
          <p:nvPr/>
        </p:nvGraphicFramePr>
        <p:xfrm>
          <a:off x="152280" y="20520"/>
          <a:ext cx="8763120" cy="317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0520"/>
                    <a:ext cx="876312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3" descr=""/>
          <p:cNvPicPr/>
          <p:nvPr/>
        </p:nvPicPr>
        <p:blipFill>
          <a:blip r:embed="rId4"/>
          <a:stretch/>
        </p:blipFill>
        <p:spPr>
          <a:xfrm>
            <a:off x="4419720" y="3505320"/>
            <a:ext cx="1668240" cy="148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SUNAMI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1"/>
          <p:cNvSpPr/>
          <p:nvPr/>
        </p:nvSpPr>
        <p:spPr>
          <a:xfrm>
            <a:off x="673200" y="3327480"/>
            <a:ext cx="7912080" cy="139680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673200" y="1650960"/>
            <a:ext cx="7912080" cy="1320840"/>
          </a:xfrm>
          <a:prstGeom prst="rect">
            <a:avLst/>
          </a:prstGeom>
          <a:solidFill>
            <a:srgbClr val="ccccff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9480" y="1584360"/>
            <a:ext cx="8050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Frequency</a:t>
            </a:r>
            <a:r>
              <a:rPr b="1" lang="en-US" sz="2400" spc="-1" strike="noStrike">
                <a:solidFill>
                  <a:srgbClr val="3333cc"/>
                </a:solidFill>
                <a:latin typeface="Minnie"/>
                <a:ea typeface="Minnie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number of complete vibrations per uni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1599120" y="2452680"/>
            <a:ext cx="621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f and measured in units of 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60600" y="3260880"/>
            <a:ext cx="7908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erio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hortest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im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nterval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the motion of the wave repeats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1446840" y="4205160"/>
            <a:ext cx="6525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T and measured in units of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1371600" y="5410080"/>
            <a:ext cx="2209680" cy="1554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4226040" y="5410080"/>
            <a:ext cx="691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5486400" y="5424480"/>
            <a:ext cx="2209680" cy="823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= 1/</a:t>
            </a:r>
            <a:r>
              <a:rPr b="1" lang="en-US" sz="4800" spc="-1" strike="noStrike">
                <a:solidFill>
                  <a:srgbClr val="009900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14400" y="1523880"/>
            <a:ext cx="7772400" cy="1524240"/>
          </a:xfrm>
          <a:prstGeom prst="rect">
            <a:avLst/>
          </a:prstGeom>
          <a:solidFill>
            <a:srgbClr val="ff5050"/>
          </a:solidFill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15440" y="1676520"/>
            <a:ext cx="681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Black"/>
              </a:rPr>
              <a:t>Velocit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- the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1987560" y="4952880"/>
            <a:ext cx="6470640" cy="14414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1305360" y="2452680"/>
            <a:ext cx="707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6600"/>
                </a:solidFill>
                <a:latin typeface="Times New Roman"/>
              </a:rPr>
              <a:t>denoted by v and measured in units of dist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2438280" y="5181480"/>
            <a:ext cx="5410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d/t =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5400" spc="-1" strike="noStrike">
                <a:solidFill>
                  <a:srgbClr val="009900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5400" spc="-1" strike="noStrike">
                <a:solidFill>
                  <a:srgbClr val="ff0033"/>
                </a:solidFill>
                <a:latin typeface="Times New Roman"/>
              </a:rPr>
              <a:t>f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17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600200" cy="19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Object 18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19"/>
          <p:cNvSpPr/>
          <p:nvPr/>
        </p:nvSpPr>
        <p:spPr>
          <a:xfrm>
            <a:off x="278640" y="3460680"/>
            <a:ext cx="852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speed of a wave depends on the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the medium through which it is trav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cc"/>
            </a:gs>
            <a:gs pos="100000">
              <a:srgbClr val="cc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2509920" y="-76320"/>
          <a:ext cx="60865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-76320"/>
                    <a:ext cx="60865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3"/>
          <p:cNvSpPr/>
          <p:nvPr/>
        </p:nvSpPr>
        <p:spPr>
          <a:xfrm>
            <a:off x="2438280" y="2819520"/>
            <a:ext cx="4318200" cy="8380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666880" y="2819520"/>
            <a:ext cx="388620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93720" y="4008600"/>
            <a:ext cx="775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Comic Sans MS"/>
              </a:rPr>
              <a:t>turning bac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a wave w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 reaches the </a:t>
            </a: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bound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edium through which it is trav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590400" y="152280"/>
            <a:ext cx="1390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lawofreflection1"/>
          <p:cNvPicPr/>
          <p:nvPr/>
        </p:nvPicPr>
        <p:blipFill>
          <a:blip r:embed="rId1"/>
          <a:stretch/>
        </p:blipFill>
        <p:spPr>
          <a:xfrm>
            <a:off x="4800600" y="4038480"/>
            <a:ext cx="4191120" cy="1676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143000" y="457200"/>
            <a:ext cx="6934320" cy="1066680"/>
          </a:xfrm>
          <a:prstGeom prst="rect">
            <a:avLst/>
          </a:prstGeom>
          <a:solidFill>
            <a:srgbClr val="990000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891800" y="533520"/>
            <a:ext cx="5438160" cy="82368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Black"/>
              </a:rPr>
              <a:t>Law of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988200" y="1600200"/>
            <a:ext cx="7105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incide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o the </a:t>
            </a: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angle of refl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6" descr="lawofreflection"/>
          <p:cNvPicPr/>
          <p:nvPr/>
        </p:nvPicPr>
        <p:blipFill>
          <a:blip r:embed="rId2"/>
          <a:stretch/>
        </p:blipFill>
        <p:spPr>
          <a:xfrm>
            <a:off x="152280" y="3316320"/>
            <a:ext cx="4496040" cy="3008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0880" y="76320"/>
            <a:ext cx="8458200" cy="6553080"/>
          </a:xfrm>
          <a:prstGeom prst="rect">
            <a:avLst/>
          </a:prstGeom>
          <a:solidFill>
            <a:srgbClr val="3333cc"/>
          </a:solidFill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717840" y="304920"/>
            <a:ext cx="7774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two types of refl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365120" y="1143000"/>
            <a:ext cx="65188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ixed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inverted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more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60240" y="3505320"/>
            <a:ext cx="61729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Free-end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he reflected wave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Comic Sans MS"/>
              </a:rPr>
              <a:t>upright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when it refl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from a </a:t>
            </a:r>
            <a:r>
              <a:rPr b="1" lang="en-US" sz="3600" spc="-1" strike="noStrike">
                <a:solidFill>
                  <a:srgbClr val="ff9966"/>
                </a:solidFill>
                <a:latin typeface="Comic Sans MS"/>
              </a:rPr>
              <a:t>less dens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702720" y="5899320"/>
            <a:ext cx="777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o view these types of refl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33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3505320" y="304920"/>
            <a:ext cx="4876560" cy="685800"/>
          </a:xfrm>
          <a:prstGeom prst="rect">
            <a:avLst/>
          </a:prstGeom>
          <a:solidFill>
            <a:srgbClr val="3333cc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2895480" y="990720"/>
            <a:ext cx="6019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ben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of a wave as it pas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obliquely</a:t>
            </a:r>
            <a:r>
              <a:rPr b="1" lang="en-US" sz="32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rom one medium into another of </a:t>
            </a:r>
            <a:r>
              <a:rPr b="1" lang="en-US" sz="3200" spc="-1" strike="noStrike">
                <a:solidFill>
                  <a:srgbClr val="00ccff"/>
                </a:solidFill>
                <a:latin typeface="Comic Sans MS"/>
              </a:rPr>
              <a:t>different propagation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038480" y="228600"/>
            <a:ext cx="3886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66"/>
                </a:solidFill>
                <a:latin typeface="Arial Black"/>
              </a:rPr>
              <a:t>Refrac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603880" y="5105520"/>
            <a:ext cx="639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refraction to occur, the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st change speed and must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new medium at an oblique 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5" descr="refractionanswer"/>
          <p:cNvPicPr/>
          <p:nvPr/>
        </p:nvPicPr>
        <p:blipFill>
          <a:blip r:embed="rId2"/>
          <a:stretch/>
        </p:blipFill>
        <p:spPr>
          <a:xfrm>
            <a:off x="4114800" y="2743200"/>
            <a:ext cx="3962520" cy="1720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18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352680" y="533520"/>
            <a:ext cx="4648320" cy="990360"/>
          </a:xfrm>
          <a:prstGeom prst="rect">
            <a:avLst/>
          </a:prstGeom>
          <a:solidFill>
            <a:srgbClr val="0000ff"/>
          </a:solidFill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Diffra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2819520" y="1600200"/>
            <a:ext cx="56592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spreading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f a 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around a barrier 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through an ope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4" descr="diffractionnarrowanswer"/>
          <p:cNvPicPr/>
          <p:nvPr/>
        </p:nvPicPr>
        <p:blipFill>
          <a:blip r:embed="rId2"/>
          <a:stretch/>
        </p:blipFill>
        <p:spPr>
          <a:xfrm>
            <a:off x="3505320" y="2362320"/>
            <a:ext cx="4190760" cy="228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362320" y="101520"/>
            <a:ext cx="4394160" cy="73656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33520" y="2438280"/>
            <a:ext cx="7899120" cy="914400"/>
          </a:xfrm>
          <a:prstGeom prst="rect">
            <a:avLst/>
          </a:prstGeom>
          <a:solidFill>
            <a:srgbClr val="0000ff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795760" y="60480"/>
            <a:ext cx="34524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Inter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82440" y="942840"/>
            <a:ext cx="7155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result of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per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wo or more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838080" y="2514600"/>
            <a:ext cx="7315200" cy="762840"/>
          </a:xfrm>
          <a:prstGeom prst="rect">
            <a:avLst/>
          </a:prstGeom>
          <a:noFill/>
          <a:ln w="0">
            <a:noFill/>
          </a:ln>
          <a:effectLst>
            <a:outerShdw dist="71785" dir="81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Superpositi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1560" y="3562200"/>
            <a:ext cx="90212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medium 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wo or more waves pass thr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t at the same time is the </a:t>
            </a: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algebra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Comic Sans MS"/>
              </a:rPr>
              <a:t>sum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the displacements ca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y the individual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1353600" y="1219320"/>
            <a:ext cx="6689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Con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rg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14400" y="1522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Types of Inter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085760" y="2590920"/>
            <a:ext cx="7009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 Black"/>
              </a:rPr>
              <a:t>Destru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sults in a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maller 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9" descr="interference"/>
          <p:cNvPicPr/>
          <p:nvPr/>
        </p:nvPicPr>
        <p:blipFill>
          <a:blip r:embed="rId1"/>
          <a:stretch/>
        </p:blipFill>
        <p:spPr>
          <a:xfrm>
            <a:off x="228600" y="3962520"/>
            <a:ext cx="8686800" cy="2361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367560" y="762120"/>
            <a:ext cx="84744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ad more about interferenc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to view the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attern resulting from the super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of two transverse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and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ulations of the interferenc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wo circular 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98040" y="457200"/>
            <a:ext cx="775944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Arial Black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at propag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ough a material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a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83840" y="4724280"/>
            <a:ext cx="650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ves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ransfer 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with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ulk transport of ma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609480" y="25606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order for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mechanical wav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exist,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s needed to create a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isturbanc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in an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lastic mediu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83960" y="3200400"/>
            <a:ext cx="62902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You can view refle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refraction, diff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and interference using b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plane and circular w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 to view a 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clip of an actual ripple tank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rippletank"/>
          <p:cNvPicPr/>
          <p:nvPr/>
        </p:nvPicPr>
        <p:blipFill>
          <a:blip r:embed="rId2"/>
          <a:stretch/>
        </p:blipFill>
        <p:spPr>
          <a:xfrm>
            <a:off x="380880" y="304920"/>
            <a:ext cx="36086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8"/>
          <p:cNvSpPr/>
          <p:nvPr/>
        </p:nvSpPr>
        <p:spPr>
          <a:xfrm>
            <a:off x="4767480" y="457200"/>
            <a:ext cx="3225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he ripple t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simulation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to investi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wave proper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4"/>
          <a:stretch/>
        </p:blipFill>
        <p:spPr>
          <a:xfrm>
            <a:off x="4648320" y="3200400"/>
            <a:ext cx="3733560" cy="2670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615960" y="235080"/>
            <a:ext cx="3035160" cy="181584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80880" y="203040"/>
          <a:ext cx="3429000" cy="18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3040"/>
                    <a:ext cx="3429000" cy="18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Oval 4"/>
          <p:cNvSpPr/>
          <p:nvPr/>
        </p:nvSpPr>
        <p:spPr>
          <a:xfrm>
            <a:off x="3664080" y="158760"/>
            <a:ext cx="3035160" cy="1816200"/>
          </a:xfrm>
          <a:prstGeom prst="ellipse">
            <a:avLst/>
          </a:prstGeom>
          <a:gradFill rotWithShape="0">
            <a:gsLst>
              <a:gs pos="0">
                <a:srgbClr val="b2b200"/>
              </a:gs>
              <a:gs pos="50000">
                <a:srgbClr val="ffff00"/>
              </a:gs>
              <a:gs pos="100000">
                <a:srgbClr val="b2b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3352680" y="228600"/>
          <a:ext cx="350532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228600"/>
                    <a:ext cx="350532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Oval 6"/>
          <p:cNvSpPr/>
          <p:nvPr/>
        </p:nvSpPr>
        <p:spPr>
          <a:xfrm>
            <a:off x="177840" y="2666880"/>
            <a:ext cx="8864640" cy="2971800"/>
          </a:xfrm>
          <a:prstGeom prst="ellipse">
            <a:avLst/>
          </a:prstGeom>
          <a:solidFill>
            <a:srgbClr val="ff9966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022760" y="2971800"/>
            <a:ext cx="7052760" cy="24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 Black"/>
              </a:rPr>
              <a:t>standing w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s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ult of two wave trains of th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wavelengt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frequenc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mpli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veling in opposite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rough the same medi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5"/>
          <a:stretch/>
        </p:blipFill>
        <p:spPr>
          <a:xfrm>
            <a:off x="6781680" y="249120"/>
            <a:ext cx="2284560" cy="1930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9"/>
          <p:cNvSpPr/>
          <p:nvPr/>
        </p:nvSpPr>
        <p:spPr>
          <a:xfrm>
            <a:off x="1189080" y="457200"/>
            <a:ext cx="676296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Learn more about stand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1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,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interference of two traveling 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that can result in a standing wa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Click here to view a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Comic Sans MS"/>
              </a:rPr>
              <a:t>of standing waves on a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0"/>
          <p:cNvSpPr/>
          <p:nvPr/>
        </p:nvSpPr>
        <p:spPr>
          <a:xfrm>
            <a:off x="863640" y="4826160"/>
            <a:ext cx="7493040" cy="1549080"/>
          </a:xfrm>
          <a:prstGeom prst="plus">
            <a:avLst>
              <a:gd name="adj" fmla="val 24995"/>
            </a:avLst>
          </a:prstGeom>
          <a:solidFill>
            <a:srgbClr val="66ff33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777240" y="5195880"/>
            <a:ext cx="7680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nding waves may be produced easil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ter, string, and air colum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607320" y="28440"/>
            <a:ext cx="802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change in frequency due to the re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tion of the wave source and the ob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380880" y="4884840"/>
            <a:ext cx="84582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los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bserved frequenc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when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ource and observer are getting farther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wa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doppler"/>
          <p:cNvPicPr/>
          <p:nvPr/>
        </p:nvPicPr>
        <p:blipFill>
          <a:blip r:embed="rId1"/>
          <a:stretch/>
        </p:blipFill>
        <p:spPr>
          <a:xfrm>
            <a:off x="2133720" y="1600200"/>
            <a:ext cx="5181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11840" y="1143000"/>
            <a:ext cx="83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lick here, here, here, and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o run simulations of the Doppler Eff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" descr="See Explanation.  Clicking on the picture will download &#10; the highest resolution version available."/>
          <p:cNvPicPr/>
          <p:nvPr/>
        </p:nvPicPr>
        <p:blipFill>
          <a:blip r:embed="rId1"/>
          <a:stretch/>
        </p:blipFill>
        <p:spPr>
          <a:xfrm>
            <a:off x="4724280" y="3276720"/>
            <a:ext cx="4195800" cy="30207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162360" y="3490920"/>
            <a:ext cx="408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The Doppler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can be eviden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types of waves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ncluding ligh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ound,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35160" y="3657600"/>
            <a:ext cx="85719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ll e/m waves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ravel through f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pace at a speed of approxim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0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Comic Sans MS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m/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186,000 miles/se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s speed is known as the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peed of light</a:t>
            </a:r>
            <a:r>
              <a:rPr b="1" lang="en-US" sz="3200" spc="-1" strike="noStrike">
                <a:solidFill>
                  <a:srgbClr val="66ff66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59160" y="1981080"/>
            <a:ext cx="758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Light, radio, x-rays, and gamma 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re some examples of e/m wav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848600" y="380880"/>
            <a:ext cx="562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No medium is neede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Black"/>
              </a:rPr>
              <a:t>ELECTROMAGNETI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a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519200" y="173160"/>
          <a:ext cx="60865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73160"/>
                    <a:ext cx="60865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13" descr="transversewave"/>
          <p:cNvPicPr/>
          <p:nvPr/>
        </p:nvPicPr>
        <p:blipFill>
          <a:blip r:embed="rId3"/>
          <a:stretch/>
        </p:blipFill>
        <p:spPr>
          <a:xfrm>
            <a:off x="457200" y="2368440"/>
            <a:ext cx="8305920" cy="4032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304920" y="5486400"/>
            <a:ext cx="8610480" cy="1219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9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92480" y="1447920"/>
            <a:ext cx="8114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 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erpendicula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514600" y="380880"/>
            <a:ext cx="4114800" cy="91440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744280" y="457200"/>
            <a:ext cx="369324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TRANS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057400" y="3403440"/>
            <a:ext cx="4952880" cy="1016280"/>
          </a:xfrm>
          <a:prstGeom prst="rect">
            <a:avLst/>
          </a:prstGeom>
          <a:solidFill>
            <a:srgbClr val="00cc99"/>
          </a:solidFill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2233080" y="3581280"/>
            <a:ext cx="455580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LONGITUD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665280" y="4737240"/>
            <a:ext cx="7791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displacement of the parti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f the medium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paralle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o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irection of wave propag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9"/>
          <p:cNvSpPr/>
          <p:nvPr/>
        </p:nvSpPr>
        <p:spPr>
          <a:xfrm>
            <a:off x="152280" y="3581280"/>
            <a:ext cx="8839440" cy="2362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>
            <a:hlinkClick r:id="rId1"/>
          </p:cNvPr>
          <p:cNvSpPr/>
          <p:nvPr/>
        </p:nvSpPr>
        <p:spPr>
          <a:xfrm>
            <a:off x="371880" y="3822840"/>
            <a:ext cx="8200080" cy="18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3"/>
              </a:rPr>
              <a:t>here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, and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Comic Sans MS"/>
                <a:hlinkClick r:id="rId4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o view simulation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ransverse and longitudinal wa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3048120" y="380880"/>
            <a:ext cx="3124080" cy="990720"/>
          </a:xfrm>
          <a:prstGeom prst="rect">
            <a:avLst/>
          </a:prstGeom>
          <a:solidFill>
            <a:srgbClr val="00cc99"/>
          </a:solidFill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3268440" y="457200"/>
            <a:ext cx="2646360" cy="762840"/>
          </a:xfrm>
          <a:prstGeom prst="rect">
            <a:avLst/>
          </a:prstGeom>
          <a:noFill/>
          <a:ln w="0">
            <a:noFill/>
          </a:ln>
          <a:effectLst>
            <a:outerShdw dist="50760" dir="108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Lucida Casual"/>
              </a:rPr>
              <a:t>SU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403640" y="1704960"/>
            <a:ext cx="6354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66ff33"/>
                </a:solidFill>
                <a:latin typeface="Comic Sans MS"/>
              </a:rPr>
              <a:t>combin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transvers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i="1" lang="en-US" sz="3600" spc="-1" strike="noStrike">
                <a:solidFill>
                  <a:srgbClr val="ffff00"/>
                </a:solidFill>
                <a:latin typeface="Comic Sans MS"/>
              </a:rPr>
              <a:t>longitudina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3"/>
          <p:cNvSpPr/>
          <p:nvPr/>
        </p:nvSpPr>
        <p:spPr>
          <a:xfrm>
            <a:off x="177840" y="1600200"/>
            <a:ext cx="8788320" cy="27176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7240" y="1523880"/>
            <a:ext cx="90853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Amplitu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maximum displac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a particle of the medium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rest or equilibrium 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99760" y="3733920"/>
            <a:ext cx="7812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A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wave5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027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wave6"/>
          <p:cNvPicPr/>
          <p:nvPr/>
        </p:nvPicPr>
        <p:blipFill>
          <a:blip r:embed="rId4"/>
          <a:stretch/>
        </p:blipFill>
        <p:spPr>
          <a:xfrm>
            <a:off x="4724280" y="4572000"/>
            <a:ext cx="4114800" cy="2060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66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5"/>
          <p:cNvSpPr/>
          <p:nvPr/>
        </p:nvSpPr>
        <p:spPr>
          <a:xfrm>
            <a:off x="635040" y="1600200"/>
            <a:ext cx="7950240" cy="190512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591480" y="1676520"/>
            <a:ext cx="80625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Ph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lated to 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position and 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f the particles of the med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wave4"/>
          <p:cNvPicPr/>
          <p:nvPr/>
        </p:nvPicPr>
        <p:blipFill>
          <a:blip r:embed="rId1"/>
          <a:stretch/>
        </p:blipFill>
        <p:spPr>
          <a:xfrm>
            <a:off x="228600" y="4038480"/>
            <a:ext cx="4343400" cy="2362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wave7"/>
          <p:cNvPicPr/>
          <p:nvPr/>
        </p:nvPicPr>
        <p:blipFill>
          <a:blip r:embed="rId2"/>
          <a:stretch/>
        </p:blipFill>
        <p:spPr>
          <a:xfrm>
            <a:off x="4724280" y="4027320"/>
            <a:ext cx="4267440" cy="2373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380880" y="1397160"/>
            <a:ext cx="8458200" cy="2489040"/>
          </a:xfrm>
          <a:prstGeom prst="rect">
            <a:avLst/>
          </a:prstGeom>
          <a:solidFill>
            <a:srgbClr val="99ccff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4360" y="1460520"/>
            <a:ext cx="7773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</a:rPr>
              <a:t>shortest distanc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etw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 points that are “in phas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0080" y="3154320"/>
            <a:ext cx="7969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denoted by </a:t>
            </a:r>
            <a:r>
              <a:rPr b="1" lang="en-US" sz="3200" spc="-1" strike="noStrike">
                <a:solidFill>
                  <a:srgbClr val="ff0033"/>
                </a:solidFill>
                <a:latin typeface="Symbol"/>
                <a:ea typeface="Symbol"/>
              </a:rPr>
              <a:t></a:t>
            </a:r>
            <a:r>
              <a:rPr b="1" i="1" lang="en-US" sz="3200" spc="-1" strike="noStrike">
                <a:solidFill>
                  <a:srgbClr val="ff0033"/>
                </a:solidFill>
                <a:latin typeface="Times New Roman"/>
              </a:rPr>
              <a:t> and measured in units of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7"/>
          <p:cNvGraphicFramePr/>
          <p:nvPr/>
        </p:nvGraphicFramePr>
        <p:xfrm>
          <a:off x="1523880" y="0"/>
          <a:ext cx="6086520" cy="15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0"/>
                    <a:ext cx="60865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8-06-10T01:42:40Z</dcterms:created>
  <dc:creator>Bryan</dc:creator>
  <dc:description/>
  <dc:language>en-US</dc:language>
  <cp:lastModifiedBy>RomaK</cp:lastModifiedBy>
  <cp:lastPrinted>1998-08-05T01:23:10Z</cp:lastPrinted>
  <dcterms:modified xsi:type="dcterms:W3CDTF">2015-09-03T12:39:12Z</dcterms:modified>
  <cp:revision>71</cp:revision>
  <dc:subject/>
  <dc:title>No Slide Title</dc:title>
</cp:coreProperties>
</file>