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TSUNAMI.WAV" ContentType="audio/x-wav"/>
  <Override PartName="/ppt/media/image6.wmf" ContentType="image/x-wmf"/>
  <Override PartName="/ppt/media/image10.png" ContentType="image/png"/>
  <Override PartName="/ppt/media/image27.jpeg" ContentType="image/jpeg"/>
  <Override PartName="/ppt/media/image5.png" ContentType="image/png"/>
  <Override PartName="/ppt/media/image13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24.wmf" ContentType="image/x-wm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1800" y="686160"/>
            <a:ext cx="4514040" cy="338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288680"/>
            <a:ext cx="548604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- the number of complete vibrations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f and measured in units of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- the shortest time interval du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he motion of the wave repeats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T and measured in unit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/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1/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locity - the speed of the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v and measured in units of dist/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d/t = l/T = f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ed of a wave depends on the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through which it is trave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ning back of a wave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aches the boundary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um through which it is trav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of incidence is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angle of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ref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-end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flected wav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ted when it refl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more dens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-end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flected wav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right when it refl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less dens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these types of ref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ding of a wave as it passes obliquely from one medium into another of different propagation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refraction to occur, the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change speed and must 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medium at an oblique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reading of a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a barrie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an o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he super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wo or mor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position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medium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waves pass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t the same time is the algebr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 of the displacements ca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individua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a larger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tr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a smaller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more about interference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the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 resulting from the super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wo transverse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and here to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of the interfere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ircular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turbance that propag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a material medium or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 transfer energy wit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transport of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for a mechanical wave to exist, energy is needed to create a disturbance in an elastic med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view refle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on, diffra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terference using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 and circular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p of an actual ripple tank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pple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an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nding wave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wave trains of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, frequency, and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ing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e same med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more about standing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, here, an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simul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ence of two traveling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an result in a standing w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standing waves on a st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waves may be produced easil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string, and air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 in frequency due to the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the wave source and the 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frequency is higher whe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and observer are getting clo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frequency is lower whe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and observer are getting farther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, here, here, an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simulations of the Doppler Eff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evid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ypes of wav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ing ligh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, water, etc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/m waves travel through 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at a speed of approxim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0 x 108 m/s or 186,000 miles/s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ed is known as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, radio, x-rays, and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ome examples of e/m wav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edium is need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is perpendicula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rection of wave propa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is parallel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wave propa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, here, an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view simulation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and longitudinal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bina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and longitud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dis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particle of the medium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r equilibrium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A and measured in units of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the position and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particles of th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rtest distance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that are “in pha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l  and measured in units of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6B9-A36A-421A-ABAF-A76C66A1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726-2B92-490F-9A44-5E931432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229-F50A-4927-83D1-C3D1BF63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749E-97D3-4C74-9D64-9E61189B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210-EFF1-4DF2-8F9C-A73DFC57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38C-A9A3-49FB-BE06-FE0086B7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592A-6083-42D9-AFDF-2B58D9BB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7F7E-6767-465F-A4E6-28DA293B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4FF-5391-4146-BBDC-C08C5E39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7C3A-E7B1-42D0-A1DA-94566FDA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1CD0-4B96-43A3-A482-8942BCE1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27F-C2AF-487C-B1A5-C2E8C794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AEAD-5040-452D-BB9D-FF30C3BD1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audio" Target="../media/TSUNAMI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ysics.nwu.edu/ugrad/vpl/waves/wavereflecti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lenbrook.k12.il.us/gbssci/phys/Class/waves/u10l3c.html" TargetMode="External"/><Relationship Id="rId2" Type="http://schemas.openxmlformats.org/officeDocument/2006/relationships/hyperlink" Target="http://www.physics.nwu.edu/ugrad/vpl/waves/superposition1.html" TargetMode="External"/><Relationship Id="rId3" Type="http://schemas.openxmlformats.org/officeDocument/2006/relationships/hyperlink" Target="http://www.netzmedien.de/software/download/java/interferenz/index.html" TargetMode="External"/><Relationship Id="rId4" Type="http://schemas.openxmlformats.org/officeDocument/2006/relationships/hyperlink" Target="http://www.walter-fendt.de/ph11e/interference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emoroom.physics.ncsu.edu/html/demos/230.html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falstad.com/ripple/" TargetMode="External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ord.edu/dept/physics/p128/lecture99_35.html" TargetMode="External"/><Relationship Id="rId2" Type="http://schemas.openxmlformats.org/officeDocument/2006/relationships/hyperlink" Target="http://www.glenbrook.k12.il.us/gbssci/phys/Class/waves/u10l4b.html" TargetMode="External"/><Relationship Id="rId3" Type="http://schemas.openxmlformats.org/officeDocument/2006/relationships/hyperlink" Target="http://hyperphysics.phy-astr.gsu.edu/hbase/waves/standw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y.ntnu.edu.tw/~hwang/waveType/waveType.html" TargetMode="External"/><Relationship Id="rId2" Type="http://schemas.openxmlformats.org/officeDocument/2006/relationships/hyperlink" Target="http://www.phy.ntnu.edu.tw/~hwang/waveType/waveType.html" TargetMode="External"/><Relationship Id="rId3" Type="http://schemas.openxmlformats.org/officeDocument/2006/relationships/hyperlink" Target="http://www.cbu.edu/~jvarrian/applets/waves1/lontra_g.htm" TargetMode="External"/><Relationship Id="rId4" Type="http://schemas.openxmlformats.org/officeDocument/2006/relationships/hyperlink" Target="http://www.physics.nwu.edu/ugrad/vpl/waves/wavetypes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2"/>
          <p:cNvGraphicFramePr/>
          <p:nvPr/>
        </p:nvGraphicFramePr>
        <p:xfrm>
          <a:off x="152280" y="20520"/>
          <a:ext cx="8763120" cy="317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0520"/>
                    <a:ext cx="876312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3" descr=""/>
          <p:cNvPicPr/>
          <p:nvPr/>
        </p:nvPicPr>
        <p:blipFill>
          <a:blip r:embed="rId4"/>
          <a:stretch/>
        </p:blipFill>
        <p:spPr>
          <a:xfrm>
            <a:off x="4419720" y="3505320"/>
            <a:ext cx="1668240" cy="1484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SUNAM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1"/>
          <p:cNvSpPr/>
          <p:nvPr/>
        </p:nvSpPr>
        <p:spPr>
          <a:xfrm>
            <a:off x="673200" y="3327480"/>
            <a:ext cx="7912080" cy="1396800"/>
          </a:xfrm>
          <a:prstGeom prst="rect">
            <a:avLst/>
          </a:prstGeom>
          <a:solidFill>
            <a:srgbClr val="ccccff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673200" y="1650960"/>
            <a:ext cx="7912080" cy="1320840"/>
          </a:xfrm>
          <a:prstGeom prst="rect">
            <a:avLst/>
          </a:prstGeom>
          <a:solidFill>
            <a:srgbClr val="ccccff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609480" y="1584360"/>
            <a:ext cx="8050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Frequency</a:t>
            </a:r>
            <a:r>
              <a:rPr b="1" lang="en-US" sz="2400" spc="-1" strike="noStrike">
                <a:solidFill>
                  <a:srgbClr val="3333cc"/>
                </a:solidFill>
                <a:latin typeface="Minnie"/>
                <a:ea typeface="Minnie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number of complete vibrations per uni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1599120" y="2452680"/>
            <a:ext cx="621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f and measured in units of 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660600" y="3260880"/>
            <a:ext cx="7908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Perio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hortest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i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terval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ich the motion of the wave repeats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1446840" y="4205160"/>
            <a:ext cx="652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T and measured in units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1371600" y="5410080"/>
            <a:ext cx="2209680" cy="1554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f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4226040" y="5410080"/>
            <a:ext cx="691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5486400" y="5424480"/>
            <a:ext cx="2209680" cy="823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914400" y="1523880"/>
            <a:ext cx="7772400" cy="1524240"/>
          </a:xfrm>
          <a:prstGeom prst="rect">
            <a:avLst/>
          </a:prstGeom>
          <a:solidFill>
            <a:srgbClr val="ff505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315440" y="1676520"/>
            <a:ext cx="681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Velocit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e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1987560" y="4952880"/>
            <a:ext cx="6470640" cy="1441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1305360" y="2452680"/>
            <a:ext cx="707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v and measured in units of dist/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2438280" y="5181480"/>
            <a:ext cx="5410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= d/t =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54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54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7" descr=""/>
          <p:cNvPicPr/>
          <p:nvPr/>
        </p:nvPicPr>
        <p:blipFill>
          <a:blip r:embed="rId1"/>
          <a:stretch/>
        </p:blipFill>
        <p:spPr>
          <a:xfrm>
            <a:off x="304920" y="4724280"/>
            <a:ext cx="1600200" cy="194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Object 18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19"/>
          <p:cNvSpPr/>
          <p:nvPr/>
        </p:nvSpPr>
        <p:spPr>
          <a:xfrm>
            <a:off x="278640" y="3460680"/>
            <a:ext cx="852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peed of a wave depends on the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the medium through which it is trave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cc"/>
            </a:gs>
            <a:gs pos="100000">
              <a:srgbClr val="cc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2509920" y="-76320"/>
          <a:ext cx="608652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920" y="-76320"/>
                    <a:ext cx="608652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3"/>
          <p:cNvSpPr/>
          <p:nvPr/>
        </p:nvSpPr>
        <p:spPr>
          <a:xfrm>
            <a:off x="2438280" y="2819520"/>
            <a:ext cx="4318200" cy="838080"/>
          </a:xfrm>
          <a:prstGeom prst="rect">
            <a:avLst/>
          </a:prstGeom>
          <a:solidFill>
            <a:srgbClr val="9900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666880" y="281952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93720" y="4008600"/>
            <a:ext cx="775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turning bac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a wave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 reaches the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bounda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dium through which it is trav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3"/>
          <a:stretch/>
        </p:blipFill>
        <p:spPr>
          <a:xfrm>
            <a:off x="590400" y="152280"/>
            <a:ext cx="1390680" cy="1909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lawofreflection1"/>
          <p:cNvPicPr/>
          <p:nvPr/>
        </p:nvPicPr>
        <p:blipFill>
          <a:blip r:embed="rId1"/>
          <a:stretch/>
        </p:blipFill>
        <p:spPr>
          <a:xfrm>
            <a:off x="4800600" y="4038480"/>
            <a:ext cx="4191120" cy="16765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1143000" y="457200"/>
            <a:ext cx="6934320" cy="1066680"/>
          </a:xfrm>
          <a:prstGeom prst="rect">
            <a:avLst/>
          </a:prstGeom>
          <a:solidFill>
            <a:srgbClr val="9900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891800" y="533520"/>
            <a:ext cx="543816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Law of 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988200" y="1600200"/>
            <a:ext cx="7105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angle of incidenc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the </a:t>
            </a: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angle of ref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lawofreflection"/>
          <p:cNvPicPr/>
          <p:nvPr/>
        </p:nvPicPr>
        <p:blipFill>
          <a:blip r:embed="rId2"/>
          <a:stretch/>
        </p:blipFill>
        <p:spPr>
          <a:xfrm>
            <a:off x="152280" y="3316320"/>
            <a:ext cx="4496040" cy="3008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0880" y="76320"/>
            <a:ext cx="8458200" cy="6553080"/>
          </a:xfrm>
          <a:prstGeom prst="rect">
            <a:avLst/>
          </a:prstGeom>
          <a:solidFill>
            <a:srgbClr val="3333cc"/>
          </a:solidFill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717840" y="304920"/>
            <a:ext cx="7774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are two types of refle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365120" y="1143000"/>
            <a:ext cx="651888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Fixed-end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flected wav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Comic Sans MS"/>
              </a:rPr>
              <a:t>inverted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when it refl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om a </a:t>
            </a:r>
            <a:r>
              <a:rPr b="1" lang="en-US" sz="3600" spc="-1" strike="noStrike">
                <a:solidFill>
                  <a:srgbClr val="ff9966"/>
                </a:solidFill>
                <a:latin typeface="Comic Sans MS"/>
              </a:rPr>
              <a:t>more dens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560240" y="3505320"/>
            <a:ext cx="61729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Free-end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flected wav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Comic Sans MS"/>
              </a:rPr>
              <a:t>upright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when it refl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om a </a:t>
            </a:r>
            <a:r>
              <a:rPr b="1" lang="en-US" sz="3600" spc="-1" strike="noStrike">
                <a:solidFill>
                  <a:srgbClr val="ff9966"/>
                </a:solidFill>
                <a:latin typeface="Comic Sans MS"/>
              </a:rPr>
              <a:t>less dens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702720" y="5899320"/>
            <a:ext cx="7773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view these types of ref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33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3505320" y="304920"/>
            <a:ext cx="4876560" cy="685800"/>
          </a:xfrm>
          <a:prstGeom prst="rect">
            <a:avLst/>
          </a:prstGeom>
          <a:solidFill>
            <a:srgbClr val="3333cc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895480" y="990720"/>
            <a:ext cx="6019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bend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of a wave as it pas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obliquely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rom one medium into another of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different propagation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038480" y="228600"/>
            <a:ext cx="388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66"/>
                </a:solidFill>
                <a:latin typeface="Arial Black"/>
              </a:rPr>
              <a:t>Refrac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603880" y="5105520"/>
            <a:ext cx="639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refraction to occur, the 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st change speed and must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new medium at an oblique 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5" descr="refractionanswer"/>
          <p:cNvPicPr/>
          <p:nvPr/>
        </p:nvPicPr>
        <p:blipFill>
          <a:blip r:embed="rId2"/>
          <a:stretch/>
        </p:blipFill>
        <p:spPr>
          <a:xfrm>
            <a:off x="4114800" y="2743200"/>
            <a:ext cx="3962520" cy="1720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59418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3352680" y="533520"/>
            <a:ext cx="4648320" cy="990360"/>
          </a:xfrm>
          <a:prstGeom prst="rect">
            <a:avLst/>
          </a:prstGeom>
          <a:solidFill>
            <a:srgbClr val="0000ff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Diffra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819520" y="1600200"/>
            <a:ext cx="5659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h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spreading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f a w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around a barrier 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hrough an op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04" descr="diffractionnarrowanswer"/>
          <p:cNvPicPr/>
          <p:nvPr/>
        </p:nvPicPr>
        <p:blipFill>
          <a:blip r:embed="rId2"/>
          <a:stretch/>
        </p:blipFill>
        <p:spPr>
          <a:xfrm>
            <a:off x="3505320" y="2362320"/>
            <a:ext cx="4190760" cy="2280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362320" y="101520"/>
            <a:ext cx="4394160" cy="736560"/>
          </a:xfrm>
          <a:prstGeom prst="rect">
            <a:avLst/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33520" y="2438280"/>
            <a:ext cx="7899120" cy="914400"/>
          </a:xfrm>
          <a:prstGeom prst="rect">
            <a:avLst/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795760" y="60480"/>
            <a:ext cx="3452400" cy="7628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Inter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82440" y="942840"/>
            <a:ext cx="7155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result of the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super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wo or more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838080" y="2514600"/>
            <a:ext cx="7315200" cy="7628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uperpositi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61560" y="3562200"/>
            <a:ext cx="90212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medium w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wo or more waves pass throu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t at the same time is the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algebra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s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f the displacements cau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y the individual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1353600" y="1219320"/>
            <a:ext cx="6689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Black"/>
              </a:rPr>
              <a:t>Constru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sults in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rger 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91440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Types of Inter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085760" y="2590920"/>
            <a:ext cx="7009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Black"/>
              </a:rPr>
              <a:t>Destru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sults in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maller 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9" descr="interference"/>
          <p:cNvPicPr/>
          <p:nvPr/>
        </p:nvPicPr>
        <p:blipFill>
          <a:blip r:embed="rId1"/>
          <a:stretch/>
        </p:blipFill>
        <p:spPr>
          <a:xfrm>
            <a:off x="228600" y="3962520"/>
            <a:ext cx="8686800" cy="236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367560" y="762120"/>
            <a:ext cx="84744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ad more about interferenc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o view the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attern resulting from the super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f two transverse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mulations of the interferenc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wo circular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98040" y="457200"/>
            <a:ext cx="77594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 Black"/>
              </a:rPr>
              <a:t>W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urbanc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t propag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ough a material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d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a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383840" y="4724280"/>
            <a:ext cx="650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v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ransfer energ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ulk transport of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7"/>
          <p:cNvSpPr/>
          <p:nvPr/>
        </p:nvSpPr>
        <p:spPr>
          <a:xfrm>
            <a:off x="609480" y="2560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order for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chanical wav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exist,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nerg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needed to create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urban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astic med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83960" y="3200400"/>
            <a:ext cx="629028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You can view refle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refraction, diffra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and interference using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plane and circular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to view a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clip of an actual ripple tank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rippletank"/>
          <p:cNvPicPr/>
          <p:nvPr/>
        </p:nvPicPr>
        <p:blipFill>
          <a:blip r:embed="rId2"/>
          <a:stretch/>
        </p:blipFill>
        <p:spPr>
          <a:xfrm>
            <a:off x="380880" y="304920"/>
            <a:ext cx="3608640" cy="2705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4767480" y="457200"/>
            <a:ext cx="3225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he ripple t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simulation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can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o investi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av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4"/>
          <a:stretch/>
        </p:blipFill>
        <p:spPr>
          <a:xfrm>
            <a:off x="4648320" y="3200400"/>
            <a:ext cx="3733560" cy="2670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615960" y="235080"/>
            <a:ext cx="3035160" cy="1815840"/>
          </a:xfrm>
          <a:prstGeom prst="ellipse">
            <a:avLst/>
          </a:prstGeom>
          <a:gradFill rotWithShape="0">
            <a:gsLst>
              <a:gs pos="0">
                <a:srgbClr val="b2b200"/>
              </a:gs>
              <a:gs pos="50000">
                <a:srgbClr val="ffff00"/>
              </a:gs>
              <a:gs pos="100000">
                <a:srgbClr val="b2b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80880" y="203040"/>
          <a:ext cx="342900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3040"/>
                    <a:ext cx="342900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Oval 4"/>
          <p:cNvSpPr/>
          <p:nvPr/>
        </p:nvSpPr>
        <p:spPr>
          <a:xfrm>
            <a:off x="3664080" y="158760"/>
            <a:ext cx="3035160" cy="1816200"/>
          </a:xfrm>
          <a:prstGeom prst="ellipse">
            <a:avLst/>
          </a:prstGeom>
          <a:gradFill rotWithShape="0">
            <a:gsLst>
              <a:gs pos="0">
                <a:srgbClr val="b2b200"/>
              </a:gs>
              <a:gs pos="50000">
                <a:srgbClr val="ffff00"/>
              </a:gs>
              <a:gs pos="100000">
                <a:srgbClr val="b2b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3352680" y="228600"/>
          <a:ext cx="3505320" cy="17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28600"/>
                    <a:ext cx="350532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Oval 6"/>
          <p:cNvSpPr/>
          <p:nvPr/>
        </p:nvSpPr>
        <p:spPr>
          <a:xfrm>
            <a:off x="177840" y="2666880"/>
            <a:ext cx="8864640" cy="2971800"/>
          </a:xfrm>
          <a:prstGeom prst="ellipse">
            <a:avLst/>
          </a:prstGeom>
          <a:solidFill>
            <a:srgbClr val="ff9966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022760" y="2971800"/>
            <a:ext cx="7052760" cy="24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standing w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ult of two wave trains of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waveleng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frequenc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ampl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veling in opposite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rough the same med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5"/>
          <a:stretch/>
        </p:blipFill>
        <p:spPr>
          <a:xfrm>
            <a:off x="6781680" y="249120"/>
            <a:ext cx="2284560" cy="1930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9"/>
          <p:cNvSpPr/>
          <p:nvPr/>
        </p:nvSpPr>
        <p:spPr>
          <a:xfrm>
            <a:off x="1189080" y="457200"/>
            <a:ext cx="676296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arn more about standing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,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, and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lick here to view a simulation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terference of two traveling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at can result in a standing w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lick here to view a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f standing waves on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863640" y="4826160"/>
            <a:ext cx="7493040" cy="1549080"/>
          </a:xfrm>
          <a:prstGeom prst="plus">
            <a:avLst>
              <a:gd name="adj" fmla="val 24995"/>
            </a:avLst>
          </a:prstGeom>
          <a:solidFill>
            <a:srgbClr val="66ff33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777240" y="5195880"/>
            <a:ext cx="7680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nding waves may be produced easil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ter, string, and air colum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607320" y="28440"/>
            <a:ext cx="80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change in frequency due to the re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tion of the wave source and the ob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80880" y="4884840"/>
            <a:ext cx="845820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ed frequenc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igh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urce and observer are getting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los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ed frequenc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ow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urce and observer are getting farther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wa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5" descr="doppler"/>
          <p:cNvPicPr/>
          <p:nvPr/>
        </p:nvPicPr>
        <p:blipFill>
          <a:blip r:embed="rId1"/>
          <a:stretch/>
        </p:blipFill>
        <p:spPr>
          <a:xfrm>
            <a:off x="2133720" y="1600200"/>
            <a:ext cx="51814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411840" y="1143000"/>
            <a:ext cx="833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here, here, here, and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run simulations of the Doppler Eff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See Explanation.  Clicking on the picture will download &#10; the highest resolution version available."/>
          <p:cNvPicPr/>
          <p:nvPr/>
        </p:nvPicPr>
        <p:blipFill>
          <a:blip r:embed="rId1"/>
          <a:stretch/>
        </p:blipFill>
        <p:spPr>
          <a:xfrm>
            <a:off x="4724280" y="3276720"/>
            <a:ext cx="4195800" cy="30207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162360" y="3490920"/>
            <a:ext cx="408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n be evident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l types of waves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cluding l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und, water, etc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35160" y="3657600"/>
            <a:ext cx="857196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l e/m waves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ravel through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pace at a speed of approxim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.0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m/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186,000 miles/se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speed is known as the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eed of light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59160" y="1981080"/>
            <a:ext cx="758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ght, radio, x-rays, and 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e some examples of e/m wav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48600" y="380880"/>
            <a:ext cx="562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 medium is neede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ELECTROMAGNETIC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519200" y="173160"/>
          <a:ext cx="60865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73160"/>
                    <a:ext cx="60865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3" descr="transversewave"/>
          <p:cNvPicPr/>
          <p:nvPr/>
        </p:nvPicPr>
        <p:blipFill>
          <a:blip r:embed="rId3"/>
          <a:stretch/>
        </p:blipFill>
        <p:spPr>
          <a:xfrm>
            <a:off x="457200" y="2368440"/>
            <a:ext cx="8305920" cy="4032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304920" y="5486400"/>
            <a:ext cx="861048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92480" y="1447920"/>
            <a:ext cx="8114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part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he medium 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erpendicula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rection of wave propag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514600" y="380880"/>
            <a:ext cx="4114800" cy="914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744280" y="457200"/>
            <a:ext cx="369324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TRANS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057400" y="3403440"/>
            <a:ext cx="4952880" cy="101628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233080" y="3581280"/>
            <a:ext cx="455580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LONGITUD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665280" y="4737240"/>
            <a:ext cx="77914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part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he mediu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arall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rection of wave propag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9"/>
          <p:cNvSpPr/>
          <p:nvPr/>
        </p:nvSpPr>
        <p:spPr>
          <a:xfrm>
            <a:off x="152280" y="3581280"/>
            <a:ext cx="8839440" cy="2362320"/>
          </a:xfrm>
          <a:prstGeom prst="rect">
            <a:avLst/>
          </a:prstGeom>
          <a:solidFill>
            <a:srgbClr val="0000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>
            <a:hlinkClick r:id="rId1"/>
          </p:cNvPr>
          <p:cNvSpPr/>
          <p:nvPr/>
        </p:nvSpPr>
        <p:spPr>
          <a:xfrm>
            <a:off x="371880" y="3822840"/>
            <a:ext cx="8200080" cy="18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 view simulation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ransverse and longitudinal wa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3048120" y="380880"/>
            <a:ext cx="3124080" cy="990720"/>
          </a:xfrm>
          <a:prstGeom prst="rect">
            <a:avLst/>
          </a:prstGeom>
          <a:solidFill>
            <a:srgbClr val="00cc99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3268440" y="457200"/>
            <a:ext cx="264636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1403640" y="1704960"/>
            <a:ext cx="6354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combinati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transver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longitudin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3"/>
          <p:cNvSpPr/>
          <p:nvPr/>
        </p:nvSpPr>
        <p:spPr>
          <a:xfrm>
            <a:off x="177840" y="1600200"/>
            <a:ext cx="8788320" cy="271764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7240" y="1523880"/>
            <a:ext cx="90853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maximum displac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a particle of the medium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rest or equilibrium 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99760" y="3733920"/>
            <a:ext cx="7812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denoted by A and measured in units of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wave5"/>
          <p:cNvPicPr/>
          <p:nvPr/>
        </p:nvPicPr>
        <p:blipFill>
          <a:blip r:embed="rId3"/>
          <a:stretch/>
        </p:blipFill>
        <p:spPr>
          <a:xfrm>
            <a:off x="304920" y="4572000"/>
            <a:ext cx="4114800" cy="2027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wave6"/>
          <p:cNvPicPr/>
          <p:nvPr/>
        </p:nvPicPr>
        <p:blipFill>
          <a:blip r:embed="rId4"/>
          <a:stretch/>
        </p:blipFill>
        <p:spPr>
          <a:xfrm>
            <a:off x="4724280" y="4572000"/>
            <a:ext cx="4114800" cy="2060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5"/>
          <p:cNvSpPr/>
          <p:nvPr/>
        </p:nvSpPr>
        <p:spPr>
          <a:xfrm>
            <a:off x="635040" y="1600200"/>
            <a:ext cx="7950240" cy="190512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91480" y="1676520"/>
            <a:ext cx="80625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lated to 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position and 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the particles of the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wave4"/>
          <p:cNvPicPr/>
          <p:nvPr/>
        </p:nvPicPr>
        <p:blipFill>
          <a:blip r:embed="rId1"/>
          <a:stretch/>
        </p:blipFill>
        <p:spPr>
          <a:xfrm>
            <a:off x="228600" y="4038480"/>
            <a:ext cx="4343400" cy="2362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wave7"/>
          <p:cNvPicPr/>
          <p:nvPr/>
        </p:nvPicPr>
        <p:blipFill>
          <a:blip r:embed="rId2"/>
          <a:stretch/>
        </p:blipFill>
        <p:spPr>
          <a:xfrm>
            <a:off x="4724280" y="4027320"/>
            <a:ext cx="4267440" cy="23734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380880" y="1397160"/>
            <a:ext cx="8458200" cy="248904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4360" y="1460520"/>
            <a:ext cx="7773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shortest distanc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etw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points that are “in phas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50080" y="3154320"/>
            <a:ext cx="7969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denoted by </a:t>
            </a:r>
            <a:r>
              <a:rPr b="1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</a:t>
            </a: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 and measured in units of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7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6-10T01:42:40Z</dcterms:created>
  <dc:creator>Bryan</dc:creator>
  <dc:description/>
  <dc:language>en-US</dc:language>
  <cp:lastModifiedBy>RomaK</cp:lastModifiedBy>
  <cp:lastPrinted>1998-08-05T01:23:10Z</cp:lastPrinted>
  <dcterms:modified xsi:type="dcterms:W3CDTF">2015-09-03T12:39:12Z</dcterms:modified>
  <cp:revision>71</cp:revision>
  <dc:subject/>
  <dc:title>No Slide Title</dc:title>
</cp:coreProperties>
</file>