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2.wmf" ContentType="image/x-wmf"/>
  <Override PartName="/ppt/media/image83.jpeg" ContentType="image/jpeg"/>
  <Override PartName="/ppt/media/image51.wmf" ContentType="image/x-wmf"/>
  <Override PartName="/ppt/media/image63.jpeg" ContentType="image/jpeg"/>
  <Override PartName="/ppt/media/image50.wmf" ContentType="image/x-wmf"/>
  <Override PartName="/ppt/media/image48.wmf" ContentType="image/x-wmf"/>
  <Override PartName="/ppt/media/image46.wmf" ContentType="image/x-wmf"/>
  <Override PartName="/ppt/media/image69.jpeg" ContentType="image/jpeg"/>
  <Override PartName="/ppt/media/carbrake.wav" ContentType="audio/x-wav"/>
  <Override PartName="/ppt/media/image45.wmf" ContentType="image/x-wmf"/>
  <Override PartName="/ppt/media/image43.wmf" ContentType="image/x-wmf"/>
  <Override PartName="/ppt/media/image9.png" ContentType="image/png"/>
  <Override PartName="/ppt/media/image41.jpeg" ContentType="image/jpeg"/>
  <Override PartName="/ppt/media/image23.wmf" ContentType="image/x-wmf"/>
  <Override PartName="/ppt/media/image40.wmf" ContentType="image/x-wmf"/>
  <Override PartName="/ppt/media/image59.jpeg" ContentType="image/jpeg"/>
  <Override PartName="/ppt/media/image39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22.jpeg" ContentType="image/jpeg"/>
  <Override PartName="/ppt/media/image81.jpeg" ContentType="image/jpeg"/>
  <Override PartName="/ppt/media/image30.wmf" ContentType="image/x-wmf"/>
  <Override PartName="/ppt/media/image58.jpeg" ContentType="image/jpeg"/>
  <Override PartName="/ppt/media/image44.wmf" ContentType="image/x-wmf"/>
  <Override PartName="/ppt/media/image11.gif" ContentType="image/gif"/>
  <Override PartName="/ppt/media/image14.png" ContentType="image/png"/>
  <Override PartName="/ppt/media/image2.png" ContentType="image/png"/>
  <Override PartName="/ppt/media/image72.jpeg" ContentType="image/jpeg"/>
  <Override PartName="/ppt/media/image24.png" ContentType="image/png"/>
  <Override PartName="/ppt/media/image73.jpeg" ContentType="image/jpeg"/>
  <Override PartName="/ppt/media/image20.png" ContentType="image/png"/>
  <Override PartName="/ppt/media/image28.jpeg" ContentType="image/jpeg"/>
  <Override PartName="/ppt/media/image26.png" ContentType="image/png"/>
  <Override PartName="/ppt/media/image87.wmf" ContentType="image/x-wmf"/>
  <Override PartName="/ppt/media/image76.jpeg" ContentType="image/jpeg"/>
  <Override PartName="/ppt/media/image77.jpeg" ContentType="image/jpeg"/>
  <Override PartName="/ppt/media/image60.jpeg" ContentType="image/jpeg"/>
  <Override PartName="/ppt/media/image85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4.jpeg" ContentType="image/jpeg"/>
  <Override PartName="/ppt/media/image18.wmf" ContentType="image/x-wmf"/>
  <Override PartName="/ppt/media/image6.wmf" ContentType="image/x-wmf"/>
  <Override PartName="/ppt/media/image80.jpeg" ContentType="image/jpeg"/>
  <Override PartName="/ppt/media/image53.wmf" ContentType="image/x-wmf"/>
  <Override PartName="/ppt/media/image54.jpeg" ContentType="image/jpeg"/>
  <Override PartName="/ppt/media/type.wav" ContentType="audio/x-wav"/>
  <Override PartName="/ppt/media/image62.jpeg" ContentType="image/jpeg"/>
  <Override PartName="/ppt/media/image79.jpeg" ContentType="image/jpeg"/>
  <Override PartName="/ppt/media/image19.png" ContentType="image/png"/>
  <Override PartName="/ppt/media/image21.png" ContentType="image/png"/>
  <Override PartName="/ppt/media/image67.jpeg" ContentType="image/jpeg"/>
  <Override PartName="/ppt/media/image64.jpeg" ContentType="image/jpeg"/>
  <Override PartName="/ppt/media/image33.wmf" ContentType="image/x-wmf"/>
  <Override PartName="/ppt/media/image75.jpeg" ContentType="image/jpeg"/>
  <Override PartName="/ppt/media/image71.jpeg" ContentType="image/jpeg"/>
  <Override PartName="/ppt/media/image70.jpeg" ContentType="image/jpeg"/>
  <Override PartName="/ppt/media/image31.png" ContentType="image/png"/>
  <Override PartName="/ppt/media/image36.wmf" ContentType="image/x-wmf"/>
  <Override PartName="/ppt/media/image68.jpeg" ContentType="image/jpeg"/>
  <Override PartName="/ppt/media/image13.png" ContentType="image/png"/>
  <Override PartName="/ppt/media/image1.png" ContentType="image/png"/>
  <Override PartName="/ppt/media/image65.jpeg" ContentType="image/jpeg"/>
  <Override PartName="/ppt/media/image15.png" ContentType="image/png"/>
  <Override PartName="/ppt/media/image3.png" ContentType="image/png"/>
  <Override PartName="/ppt/media/laser.wav" ContentType="audio/x-wav"/>
  <Override PartName="/ppt/media/image35.wmf" ContentType="image/x-wmf"/>
  <Override PartName="/ppt/media/image25.png" ContentType="image/png"/>
  <Override PartName="/ppt/media/image56.jpeg" ContentType="image/jpeg"/>
  <Override PartName="/ppt/media/image10.wmf" ContentType="image/x-wmf"/>
  <Override PartName="/ppt/media/image47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66.jpeg" ContentType="image/jpeg"/>
  <Override PartName="/ppt/media/image16.wmf" ContentType="image/x-wmf"/>
  <Override PartName="/ppt/media/image8.png" ContentType="image/png"/>
  <Override PartName="/ppt/media/image82.jpeg" ContentType="image/jpeg"/>
  <Override PartName="/ppt/media/image42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.wmf" ContentType="image/x-wmf"/>
  <Override PartName="/ppt/media/image86.jpeg" ContentType="image/jpeg"/>
  <Override PartName="/ppt/media/image27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E598-2511-4B4B-9AC3-8778278E93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: SOUND &amp;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: SOUND &amp;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Longest wavelength &amp; low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Radio &amp; T.V. broadca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Longest wavelength &amp; lowest frequenc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Radio &amp; T.V. broadcast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ng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 – amplitude mod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audi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avelength so can bend around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 – frequency modul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vide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ng 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 – amplitude modul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audi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er wavelength so can bend around hi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M – frequency modulation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vide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avelength 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 – Light rays with longer wavelength than red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Cooking, Medicine, T.V. remote contr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Wavelength Microw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rared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 – Light rays with longer wavelength than red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Cooking, Medicine, T.V. remote contr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food processing &amp; hospitals to kill germs’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your body use vitamin 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ltraviolet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food processing &amp; hospitals to kill germs’ c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lps your body use vitamin 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- EM waves that are shorter than UV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Medicine – Bones absorb x-rays; soft tissue does no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absorbs X-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- EM waves that are shorter than UV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Medicine – Bones absorb x-rays; soft tissue does not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absorbs X-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cancer treat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cancer treatm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Particles or Wa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del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s most properti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Theor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electric Effect – Photons of light produce fre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Particles or Waves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 Model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lains most properti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icle Theory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electric Effect – Photons of light produce free electr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Refraction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light due to a change in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Refraction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light due to a change in spe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-Spectroscope L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-Spectroscope La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(Def.) – A wave is a disturbance that transfers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Waves – Depends on the properties of the med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URE OF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(Def.) – A wave is a disturbance that transfers energ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of Waves – Depends on the properties of the medi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Objec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ransmitted because of no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uc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cattered and transmitted s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aqu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either reflected or absorb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paque objects is color it refl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parent Object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ransmitted because of no scatter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lucent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scattered and transmitted som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aque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either reflected or absorb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paque objects is color it reflec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bj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olors that can be mixed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any other colore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+ blue + green = whit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omplimentary colors comb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white light-Magenta,Cyan,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ree colors that can be mixed t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 any other colored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+ blue + green = whit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complimentary colors combin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make white light-Magenta,Cyan,Yell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in the retina.  Very sensitive to light &amp; d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help to see light/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tina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d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in the retina.  Very sensitive to light &amp; da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help to see light/col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s absorb the frequency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at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ow + cyan + magenta = bl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 are compli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rimary colors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int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gments absorb the frequency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hat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ellow + cyan + magenta = blac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 are compli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primary colors of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mentary Pig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, blue,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pigments are primary colors for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mentary Pig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n, blue, 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pigments are primary colors for ligh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igh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roduced by electron bombardment of gas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uorescent Light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produced by electron bombardment of gas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Ne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Ref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– Bouncing back of light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Refle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– Bouncing back of light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LESSON: Light &amp; 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ed 1/20/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LESSON: Light &amp; the 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vised 1/20/0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larger than actual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smaller th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larger than actual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uced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smaller than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right side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upsid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right side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t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upsid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Imag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inve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l Image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inver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Image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” because it cannot be projec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only seems to be t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Image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Real” because it cannot be projec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only seems to be the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 Mirrors – Perfectly fl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 Image is right si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e Mirrors – Perfectly fl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 Image is right side 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&amp; Mirrors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s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s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:  Rear view mirrors, store secu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!  Objects are closer than they 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&amp; Mirrors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Mirr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urves out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s imag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:  Rear view mirrors, store security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in the center than edg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converges (brings together) light ray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cker in the center than edge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converges (brings together) light ray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usually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usually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bert Eins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bert Einste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is thicker at the edges and thinner in the ce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erges light r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images are erect and re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is thicker at the edges and thinner in the cent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verges light ray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images are erect and reduc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on – Eye is a convex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sightedness – Concave lenses expand focal 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sightedness – Convex lenses shortens the focal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on – Eye is a convex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sightedness – Concave lenses expand focal length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sightedness – Convex lenses shortens the focal 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mer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nym: Light Amplification by Stimulated Emission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ronym: Light Amplification by Stimulated Emission of Radi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ography – Use of Lasers to create 3-D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lography – Use of Lasers to create 3-D ima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Enca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Encart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What Is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Stream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What Is I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Stream of Phot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hard at work or hardly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you hard at work or hardly working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re’s more posing than wor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problems involving wavelength, frequency, &amp; spe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problems involving wavelength, frequency, &amp; spee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haracteristic properties of wav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he characteristic properties of wave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rfere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ariz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,000 mi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Other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er in Air, Water,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Vacu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00,000 km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,000 mi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Other Materi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er in Air, Water, Gla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S C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verse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erpendicular to direction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photon creates electric &amp;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as BOTH Electric &amp; Magnetic fields at right ang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verse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ergy is perpendicular to direction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ving photon creates electric &amp; magnetic fiel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has BOTH Electric &amp; Magnetic fields at right angl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Spectrum – Light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o Smallest Wave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ble Spectrum – Light we can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st to Smallest Wave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2A91-0FB4-4C1F-8347-DFE16C93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4B3-5061-45FA-9BD7-E84761EE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713-5B57-47CF-B133-54B869CB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086-47F6-4917-8846-EB5D3DCC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5517-72A3-4F91-9B7C-8FD60F0C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2059-3C8E-421A-B1F3-D6867CBB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0A90-EAB7-48AA-94EA-3E1DF2AA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B0FF-EFBC-4F2A-9686-9E94AD7C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39E9-8D8C-4946-8C50-C7D725A4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C5FE-4A7B-4F60-8003-D9B60781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8F86-B585-49C3-A14A-B31530AC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E1B-9A3E-404A-AAD8-19B76087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6BA0-5685-46E3-9B0B-9C08BD53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88D4-F3E9-4A41-AC6E-31676A20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A89F-4FBC-46A9-93B9-B887F1F1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BD27-579C-4627-AC7D-ECD7C9AA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8088-AF42-4A96-92BC-3DA5D414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714-B31A-46F0-A76F-A085BDE1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5AB6-9691-4755-B602-1367CC4B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DEA-6409-4778-A856-5B707150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489-F98F-403E-AA9C-29B60C89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86E-04BB-4FE7-A74A-667126CB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318-3450-4CEE-A2B9-C6146DD4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043-5807-4475-BD1E-6AE06F27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8546-5FA0-4AD3-AF65-4307C5B8A4CD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D51D-7306-4172-81DC-30F8E176828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lbl.gov/MicroWorlds/ALSTool/EMSpec/EMSpec2.html" TargetMode="External"/><Relationship Id="rId2" Type="http://schemas.openxmlformats.org/officeDocument/2006/relationships/hyperlink" Target="http://www.lbl.gov/MicroWorlds/ALSTool/EMSpec/EMSpec.html" TargetMode="External"/><Relationship Id="rId3" Type="http://schemas.openxmlformats.org/officeDocument/2006/relationships/hyperlink" Target="http://www.physics.sfasu.edu/astro/color.html#linkshttp://www.physics.sfasu.edu/astro/color.html#links" TargetMode="External"/><Relationship Id="rId4" Type="http://schemas.openxmlformats.org/officeDocument/2006/relationships/hyperlink" Target="http://www.isc.tamu.edu/~astro/color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WAVES: SOUND &amp;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44193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97" name="Picture 5" descr="bs01316_"/>
          <p:cNvPicPr/>
          <p:nvPr/>
        </p:nvPicPr>
        <p:blipFill>
          <a:blip r:embed="rId1"/>
          <a:stretch/>
        </p:blipFill>
        <p:spPr>
          <a:xfrm>
            <a:off x="223920" y="76320"/>
            <a:ext cx="1071360" cy="14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tom"/>
          <p:cNvPicPr/>
          <p:nvPr/>
        </p:nvPicPr>
        <p:blipFill>
          <a:blip r:embed="rId2"/>
          <a:stretch/>
        </p:blipFill>
        <p:spPr>
          <a:xfrm>
            <a:off x="4114800" y="228600"/>
            <a:ext cx="1295280" cy="119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olstruc"/>
          <p:cNvPicPr/>
          <p:nvPr/>
        </p:nvPicPr>
        <p:blipFill>
          <a:blip r:embed="rId3"/>
          <a:stretch/>
        </p:blipFill>
        <p:spPr>
          <a:xfrm>
            <a:off x="7620120" y="228600"/>
            <a:ext cx="1523880" cy="112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prism-small[1]"/>
          <p:cNvPicPr/>
          <p:nvPr/>
        </p:nvPicPr>
        <p:blipFill>
          <a:blip r:embed="rId4"/>
          <a:stretch/>
        </p:blipFill>
        <p:spPr>
          <a:xfrm>
            <a:off x="5867280" y="174600"/>
            <a:ext cx="1600200" cy="127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earth"/>
          <p:cNvPicPr/>
          <p:nvPr/>
        </p:nvPicPr>
        <p:blipFill>
          <a:blip r:embed="rId5"/>
          <a:srcRect l="7143" t="7124" r="10714" b="10717"/>
          <a:stretch/>
        </p:blipFill>
        <p:spPr>
          <a:xfrm>
            <a:off x="2438280" y="2001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m00363_"/>
          <p:cNvPicPr/>
          <p:nvPr/>
        </p:nvPicPr>
        <p:blipFill>
          <a:blip r:embed="rId6"/>
          <a:stretch/>
        </p:blipFill>
        <p:spPr>
          <a:xfrm>
            <a:off x="1071720" y="152280"/>
            <a:ext cx="12142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7467480" y="13716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12" descr="bd20659_"/>
          <p:cNvPicPr/>
          <p:nvPr/>
        </p:nvPicPr>
        <p:blipFill>
          <a:blip r:embed="rId7"/>
          <a:stretch/>
        </p:blipFill>
        <p:spPr>
          <a:xfrm>
            <a:off x="6912000" y="4000680"/>
            <a:ext cx="2232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06720" y="533160"/>
            <a:ext cx="6656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2880" y="1828800"/>
            <a:ext cx="812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adio Wave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Longest wavelength &amp; lowest frequenc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 – Radio &amp; T.V. broadcasting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5" descr="prism-small[1]"/>
          <p:cNvPicPr/>
          <p:nvPr/>
        </p:nvPicPr>
        <p:blipFill>
          <a:blip r:embed="rId1"/>
          <a:stretch/>
        </p:blipFill>
        <p:spPr>
          <a:xfrm>
            <a:off x="727200" y="358920"/>
            <a:ext cx="1177920" cy="93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en00500_"/>
          <p:cNvPicPr/>
          <p:nvPr/>
        </p:nvPicPr>
        <p:blipFill>
          <a:blip r:embed="rId2"/>
          <a:stretch/>
        </p:blipFill>
        <p:spPr>
          <a:xfrm>
            <a:off x="6324480" y="484344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earth"/>
          <p:cNvPicPr/>
          <p:nvPr/>
        </p:nvPicPr>
        <p:blipFill>
          <a:blip r:embed="rId1"/>
          <a:srcRect l="7143" t="7124" r="10714" b="10717"/>
          <a:stretch/>
        </p:blipFill>
        <p:spPr>
          <a:xfrm>
            <a:off x="533520" y="158760"/>
            <a:ext cx="1752480" cy="1593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dulating Radio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Modulation - variation of amplitude or frequency when waves are broadcas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M – amplitude modulation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audi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nger wavelength so can bend around hil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M – frequency modulation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vide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hort Wavelength Microwav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frared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 – Light rays with longer wavelength than red ligh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Cooking, Medicine, T.V. remote contr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7920" y="609120"/>
            <a:ext cx="6580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85520" y="2057040"/>
            <a:ext cx="873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ltraviolet ray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EM waves with frequencies slightly higher than visible ligh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food processing &amp; hospitals to kill germs’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s your body use vitamin  D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X-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- EM waves that are shorter than UV 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Medicine – Bones absorb x-rays; soft tissue does not.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ad absorbs X-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amma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cancer treatme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wavelength"/>
          <p:cNvPicPr/>
          <p:nvPr/>
        </p:nvPicPr>
        <p:blipFill>
          <a:blip r:embed="rId1"/>
          <a:stretch/>
        </p:blipFill>
        <p:spPr>
          <a:xfrm>
            <a:off x="533520" y="5486400"/>
            <a:ext cx="8229600" cy="12952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Particles or Waves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Wave Model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Explains most properties of ligh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Particle Theory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Photoelectric Effect – Photons of light produce free electro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011720" y="65530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LIGHT: Refraction of Light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light due to a change in speed.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dex of Refraction – Amount by which a material refracts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61" name="Picture 5" descr="prism"/>
          <p:cNvPicPr/>
          <p:nvPr/>
        </p:nvPicPr>
        <p:blipFill>
          <a:blip r:embed="rId1"/>
          <a:stretch/>
        </p:blipFill>
        <p:spPr>
          <a:xfrm>
            <a:off x="5638680" y="1189080"/>
            <a:ext cx="3048120" cy="163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prism-small[1]"/>
          <p:cNvPicPr/>
          <p:nvPr/>
        </p:nvPicPr>
        <p:blipFill>
          <a:blip r:embed="rId2"/>
          <a:stretch/>
        </p:blipFill>
        <p:spPr>
          <a:xfrm>
            <a:off x="0" y="38088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4104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 (Cont.)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457200" y="1254240"/>
            <a:ext cx="822960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-Spectroscope Lab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6" name="Picture 5" descr="MVC-001F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VC-002F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VC-003F"/>
          <p:cNvPicPr/>
          <p:nvPr/>
        </p:nvPicPr>
        <p:blipFill>
          <a:blip r:embed="rId3"/>
          <a:srcRect l="22920" t="22921" r="0" b="0"/>
          <a:stretch/>
        </p:blipFill>
        <p:spPr>
          <a:xfrm>
            <a:off x="1447920" y="262908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685800" y="5867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862760" y="6613560"/>
            <a:ext cx="25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NATURE OF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Waves </a:t>
            </a:r>
            <a:r>
              <a:rPr b="1" i="1" lang="en-US" sz="3200" spc="-1" strike="noStrike">
                <a:solidFill>
                  <a:srgbClr val="33ccff"/>
                </a:solidFill>
                <a:latin typeface="Times New Roman"/>
              </a:rPr>
              <a:t>(Def.)</a:t>
            </a: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 – A wave is a disturbance that transfers energy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edium – Substance or region through which a wave is transmitted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Speed of Waves – Depends on the properties of the medium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07" name="Picture 4" descr="pe02580_"/>
          <p:cNvPicPr/>
          <p:nvPr/>
        </p:nvPicPr>
        <p:blipFill>
          <a:blip r:embed="rId1"/>
          <a:stretch/>
        </p:blipFill>
        <p:spPr>
          <a:xfrm>
            <a:off x="380880" y="228600"/>
            <a:ext cx="1791000" cy="1492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58280" y="15843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0600" y="1371240"/>
            <a:ext cx="8815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parent Object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ransmitted because of no scattering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transmitted is color you see.  All other colors are absorbed</a:t>
            </a:r>
            <a:r>
              <a:rPr b="0" i="1" lang="en-US" sz="3600" spc="-1" strike="noStrike">
                <a:solidFill>
                  <a:srgbClr val="99ff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lucent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scattered and transmitted some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Opaque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either reflected or absorbed.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of opaque objects is color it reflect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3" name="Picture 5" descr="so01038_"/>
          <p:cNvPicPr/>
          <p:nvPr/>
        </p:nvPicPr>
        <p:blipFill>
          <a:blip r:embed="rId1"/>
          <a:stretch/>
        </p:blipFill>
        <p:spPr>
          <a:xfrm>
            <a:off x="1074600" y="76320"/>
            <a:ext cx="1440000" cy="1447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068120" y="13557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lor of Object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White light is the presence of ALL the colors of the visible spectrum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Black objects absorb ALL the colors and no light is reflected back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7" name="Picture 5" descr="colmixs[1]"/>
          <p:cNvPicPr/>
          <p:nvPr/>
        </p:nvPicPr>
        <p:blipFill>
          <a:blip r:embed="rId1"/>
          <a:stretch/>
        </p:blipFill>
        <p:spPr>
          <a:xfrm>
            <a:off x="685800" y="14436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lips"/>
          <p:cNvPicPr/>
          <p:nvPr/>
        </p:nvPicPr>
        <p:blipFill>
          <a:blip r:embed="rId2"/>
          <a:stretch/>
        </p:blipFill>
        <p:spPr>
          <a:xfrm>
            <a:off x="6143760" y="5410080"/>
            <a:ext cx="1552320" cy="1333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daffodil"/>
          <p:cNvPicPr/>
          <p:nvPr/>
        </p:nvPicPr>
        <p:blipFill>
          <a:blip r:embed="rId3"/>
          <a:stretch/>
        </p:blipFill>
        <p:spPr>
          <a:xfrm>
            <a:off x="7791480" y="4800600"/>
            <a:ext cx="1352520" cy="12096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7164000" y="646128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547200"/>
            <a:ext cx="5943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rim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ree colors that can be mixed to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oduce any other colored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green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= white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mpliment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wo complimentary colors combin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o make white light-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yan,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Picture 6" descr="na01064_"/>
          <p:cNvPicPr/>
          <p:nvPr/>
        </p:nvPicPr>
        <p:blipFill>
          <a:blip r:embed="rId1"/>
          <a:stretch/>
        </p:blipFill>
        <p:spPr>
          <a:xfrm>
            <a:off x="762120" y="22860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763200" y="15238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4960" y="6091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1295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tina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ens refracts light to converge on the retina.  Nerves transmit the imag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od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in the retina.  Very sensitive to light &amp; dark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ne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help to see light/color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7" name="Picture 6" descr="sy01063_"/>
          <p:cNvPicPr/>
          <p:nvPr/>
        </p:nvPicPr>
        <p:blipFill>
          <a:blip r:embed="rId1"/>
          <a:stretch/>
        </p:blipFill>
        <p:spPr>
          <a:xfrm>
            <a:off x="1295280" y="152280"/>
            <a:ext cx="175104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296720" y="1752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Paint Pig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igments absorb the frequency of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hat you se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mary pigment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 +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ya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blac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imary pigments are complimen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f the primary colors of light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1" name="Picture 7" descr="en00684_"/>
          <p:cNvPicPr/>
          <p:nvPr/>
        </p:nvPicPr>
        <p:blipFill>
          <a:blip r:embed="rId1"/>
          <a:stretch/>
        </p:blipFill>
        <p:spPr>
          <a:xfrm>
            <a:off x="506520" y="115920"/>
            <a:ext cx="1550880" cy="1712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4678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Complementary Pigments 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mplimentary pigments are primary colors for light!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95" name="Picture 5" descr="bd05178_"/>
          <p:cNvPicPr/>
          <p:nvPr/>
        </p:nvPicPr>
        <p:blipFill>
          <a:blip r:embed="rId1"/>
          <a:stretch/>
        </p:blipFill>
        <p:spPr>
          <a:xfrm>
            <a:off x="5715000" y="2971800"/>
            <a:ext cx="2727360" cy="3444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hh00895_"/>
          <p:cNvPicPr/>
          <p:nvPr/>
        </p:nvPicPr>
        <p:blipFill>
          <a:blip r:embed="rId2"/>
          <a:stretch/>
        </p:blipFill>
        <p:spPr>
          <a:xfrm>
            <a:off x="309600" y="152280"/>
            <a:ext cx="1519200" cy="15242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53460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38144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169720"/>
            <a:ext cx="46483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ources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1" name="Picture 6" descr="hh01478_"/>
          <p:cNvPicPr/>
          <p:nvPr/>
        </p:nvPicPr>
        <p:blipFill>
          <a:blip r:embed="rId1"/>
          <a:stretch/>
        </p:blipFill>
        <p:spPr>
          <a:xfrm>
            <a:off x="5486400" y="3362400"/>
            <a:ext cx="3276720" cy="3267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bs00637_"/>
          <p:cNvPicPr/>
          <p:nvPr/>
        </p:nvPicPr>
        <p:blipFill>
          <a:blip r:embed="rId2"/>
          <a:stretch/>
        </p:blipFill>
        <p:spPr>
          <a:xfrm>
            <a:off x="914400" y="380880"/>
            <a:ext cx="1676520" cy="1602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6783120" y="63849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991800" y="1905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3240" y="2170080"/>
            <a:ext cx="77486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luorescent Light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produced by electron bombardment of gas molecul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7" name="Picture 5" descr="bs00637_"/>
          <p:cNvPicPr/>
          <p:nvPr/>
        </p:nvPicPr>
        <p:blipFill>
          <a:blip r:embed="rId1"/>
          <a:stretch/>
        </p:blipFill>
        <p:spPr>
          <a:xfrm>
            <a:off x="533520" y="380880"/>
            <a:ext cx="1676160" cy="1602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86880" y="19652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Ne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0960" y="2170080"/>
            <a:ext cx="416736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11" name="Picture 5" descr="ph02538j"/>
          <p:cNvPicPr/>
          <p:nvPr/>
        </p:nvPicPr>
        <p:blipFill>
          <a:blip r:embed="rId1"/>
          <a:stretch/>
        </p:blipFill>
        <p:spPr>
          <a:xfrm>
            <a:off x="4648320" y="3794040"/>
            <a:ext cx="4267080" cy="2814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2" name="Rectangle 6"/>
          <p:cNvSpPr/>
          <p:nvPr/>
        </p:nvSpPr>
        <p:spPr>
          <a:xfrm>
            <a:off x="701172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Reflection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5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– Bouncing back of light wav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AMPLE LESSON: Light &amp; the 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0" name="Text Box 1028"/>
          <p:cNvSpPr/>
          <p:nvPr/>
        </p:nvSpPr>
        <p:spPr>
          <a:xfrm>
            <a:off x="6095880" y="3657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By D. L. Pow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Revised 1/20/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1030" descr="ph01265u"/>
          <p:cNvPicPr/>
          <p:nvPr/>
        </p:nvPicPr>
        <p:blipFill>
          <a:blip r:embed="rId1"/>
          <a:srcRect l="1391" t="0" r="0" b="0"/>
          <a:stretch/>
        </p:blipFill>
        <p:spPr>
          <a:xfrm>
            <a:off x="304920" y="3022560"/>
            <a:ext cx="5410080" cy="3606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Rectangle 1031"/>
          <p:cNvSpPr/>
          <p:nvPr/>
        </p:nvSpPr>
        <p:spPr>
          <a:xfrm>
            <a:off x="382320" y="6324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larg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larger than actual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duced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smaller than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Picture 5" descr="pe07677_"/>
          <p:cNvPicPr/>
          <p:nvPr/>
        </p:nvPicPr>
        <p:blipFill>
          <a:blip r:embed="rId1"/>
          <a:stretch/>
        </p:blipFill>
        <p:spPr>
          <a:xfrm>
            <a:off x="7238880" y="495288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m00363_"/>
          <p:cNvPicPr/>
          <p:nvPr/>
        </p:nvPicPr>
        <p:blipFill>
          <a:blip r:embed="rId2"/>
          <a:stretch/>
        </p:blipFill>
        <p:spPr>
          <a:xfrm>
            <a:off x="6477120" y="762120"/>
            <a:ext cx="2125440" cy="21333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011720" y="2819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56380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61722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rect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right side up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ert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upside down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23" name="Picture 4" descr="pe07677_"/>
          <p:cNvPicPr/>
          <p:nvPr/>
        </p:nvPicPr>
        <p:blipFill>
          <a:blip r:embed="rId1"/>
          <a:stretch/>
        </p:blipFill>
        <p:spPr>
          <a:xfrm>
            <a:off x="914400" y="228600"/>
            <a:ext cx="1442880" cy="144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hm00363_"/>
          <p:cNvPicPr/>
          <p:nvPr/>
        </p:nvPicPr>
        <p:blipFill>
          <a:blip r:embed="rId2"/>
          <a:stretch/>
        </p:blipFill>
        <p:spPr>
          <a:xfrm>
            <a:off x="5943600" y="3962520"/>
            <a:ext cx="2581200" cy="2590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91548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392600" y="6477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al Image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ways invert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rtual Image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Not Real” because it cannot be projected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only seems to be there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Vocabulary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Optical Axis – Base line through the center of a mirror or le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Length – Distance between center of mirror/lens and focal poin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3" name="Picture 5" descr="pe02719_"/>
          <p:cNvPicPr/>
          <p:nvPr/>
        </p:nvPicPr>
        <p:blipFill>
          <a:blip r:embed="rId1"/>
          <a:stretch/>
        </p:blipFill>
        <p:spPr>
          <a:xfrm>
            <a:off x="7010280" y="449280"/>
            <a:ext cx="2133720" cy="2065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7087680" y="25146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77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lane Mirrors – Perfectly fl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Virtual – Image is “Not Real” because it cannot be projected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Erect – Image is right side up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7" name="Picture 4" descr="pe07677_"/>
          <p:cNvPicPr/>
          <p:nvPr/>
        </p:nvPicPr>
        <p:blipFill>
          <a:blip r:embed="rId1"/>
          <a:stretch/>
        </p:blipFill>
        <p:spPr>
          <a:xfrm>
            <a:off x="6858000" y="457200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708768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4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&amp; Mirrors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nvex Mirror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urves outwar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larges image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se:  Rear view mirrors, store security…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Picture 6" descr="sprtscar"/>
          <p:cNvPicPr/>
          <p:nvPr/>
        </p:nvPicPr>
        <p:blipFill>
          <a:blip r:embed="rId1"/>
          <a:stretch/>
        </p:blipFill>
        <p:spPr>
          <a:xfrm>
            <a:off x="6496200" y="5943600"/>
            <a:ext cx="264780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hicker in the center than edge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converges (brings together) light ray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rms real images and virtual images depending on position of the objec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0600" y="2017800"/>
            <a:ext cx="8434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usually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114800" y="2666880"/>
            <a:ext cx="4419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4267080" y="1676520"/>
            <a:ext cx="381240" cy="990360"/>
          </a:xfrm>
          <a:prstGeom prst="upArrow">
            <a:avLst>
              <a:gd name="adj1" fmla="val 50000"/>
              <a:gd name="adj2" fmla="val 64943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858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7086240" y="2286000"/>
            <a:ext cx="15228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17220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457200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11588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2093400"/>
            <a:ext cx="843444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3886200" y="2666880"/>
            <a:ext cx="5029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 flipH="1" flipV="1">
            <a:off x="4419360" y="1752480"/>
            <a:ext cx="4724280" cy="274320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114800" y="1676520"/>
            <a:ext cx="380880" cy="990360"/>
          </a:xfrm>
          <a:prstGeom prst="upArrow">
            <a:avLst>
              <a:gd name="adj1" fmla="val 50000"/>
              <a:gd name="adj2" fmla="val 65005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8153280" y="26668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33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62940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61722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Ray #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03956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52680" y="68544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3733920" cy="333684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2403360" cy="2743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6" name="Picture 7" descr="bs01316_"/>
          <p:cNvPicPr/>
          <p:nvPr/>
        </p:nvPicPr>
        <p:blipFill>
          <a:blip r:embed="rId3"/>
          <a:stretch/>
        </p:blipFill>
        <p:spPr>
          <a:xfrm>
            <a:off x="1824120" y="228600"/>
            <a:ext cx="13460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8320" y="259056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is thicker at the edges and thinner in the center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verges light rays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l images are erect and reduced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6934320" y="152388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6553080" y="137160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6629400" y="2590920"/>
            <a:ext cx="533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Arc 8"/>
          <p:cNvSpPr/>
          <p:nvPr/>
        </p:nvSpPr>
        <p:spPr>
          <a:xfrm>
            <a:off x="6553080" y="1371600"/>
            <a:ext cx="2286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Arc 9"/>
          <p:cNvSpPr/>
          <p:nvPr/>
        </p:nvSpPr>
        <p:spPr>
          <a:xfrm flipV="1">
            <a:off x="6629400" y="205740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Arc 10"/>
          <p:cNvSpPr/>
          <p:nvPr/>
        </p:nvSpPr>
        <p:spPr>
          <a:xfrm flipH="1">
            <a:off x="7010280" y="1371600"/>
            <a:ext cx="15264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Arc 11"/>
          <p:cNvSpPr/>
          <p:nvPr/>
        </p:nvSpPr>
        <p:spPr>
          <a:xfrm flipH="1" flipV="1">
            <a:off x="7010280" y="2057400"/>
            <a:ext cx="15264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648320" y="198108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4724280" y="1828800"/>
            <a:ext cx="213372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V="1">
            <a:off x="6934320" y="1295280"/>
            <a:ext cx="1676160" cy="53352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4724280" y="2286000"/>
            <a:ext cx="213372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6934320" y="2362320"/>
            <a:ext cx="106668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5030280" y="23623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09200" y="1941120"/>
            <a:ext cx="4395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87" name="Picture 4" descr="bd06651_"/>
          <p:cNvPicPr/>
          <p:nvPr/>
        </p:nvPicPr>
        <p:blipFill>
          <a:blip r:embed="rId1"/>
          <a:stretch/>
        </p:blipFill>
        <p:spPr>
          <a:xfrm>
            <a:off x="838080" y="0"/>
            <a:ext cx="1770120" cy="175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bd20091_"/>
          <p:cNvPicPr/>
          <p:nvPr/>
        </p:nvPicPr>
        <p:blipFill>
          <a:blip r:embed="rId2"/>
          <a:stretch/>
        </p:blipFill>
        <p:spPr>
          <a:xfrm>
            <a:off x="5486400" y="3886200"/>
            <a:ext cx="1981080" cy="2629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d20091_"/>
          <p:cNvPicPr/>
          <p:nvPr/>
        </p:nvPicPr>
        <p:blipFill>
          <a:blip r:embed="rId3"/>
          <a:stretch/>
        </p:blipFill>
        <p:spPr>
          <a:xfrm>
            <a:off x="5181480" y="1219320"/>
            <a:ext cx="3810240" cy="2628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7"/>
          <p:cNvSpPr/>
          <p:nvPr/>
        </p:nvSpPr>
        <p:spPr>
          <a:xfrm>
            <a:off x="7164000" y="3886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85908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0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4344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Vision – Eye is a convex len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arsightedness – Concave lenses expand focal length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arsightedness – Convex lenses shortens the focal length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0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607212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amera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Tele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icro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96" name="Picture 5" descr="hm00363_"/>
          <p:cNvPicPr/>
          <p:nvPr/>
        </p:nvPicPr>
        <p:blipFill>
          <a:blip r:embed="rId1"/>
          <a:stretch/>
        </p:blipFill>
        <p:spPr>
          <a:xfrm>
            <a:off x="6095880" y="4114800"/>
            <a:ext cx="2733840" cy="274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en00500_"/>
          <p:cNvPicPr/>
          <p:nvPr/>
        </p:nvPicPr>
        <p:blipFill>
          <a:blip r:embed="rId2"/>
          <a:stretch/>
        </p:blipFill>
        <p:spPr>
          <a:xfrm>
            <a:off x="3429000" y="1295280"/>
            <a:ext cx="3673440" cy="346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pe07677_"/>
          <p:cNvPicPr/>
          <p:nvPr/>
        </p:nvPicPr>
        <p:blipFill>
          <a:blip r:embed="rId3"/>
          <a:stretch/>
        </p:blipFill>
        <p:spPr>
          <a:xfrm>
            <a:off x="1676520" y="4572000"/>
            <a:ext cx="2127240" cy="2133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725720" y="4495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312552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0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8320" y="2322360"/>
            <a:ext cx="8434440" cy="39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cronym: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 L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ght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plification by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imulated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ission of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diation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04280" y="1676160"/>
            <a:ext cx="80535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Holography – Use of Lasers to create 3-D imag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Uses – Communications, medicine, t.v. transmission, data processing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53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0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 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8320" y="5867280"/>
            <a:ext cx="881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24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310" name="Picture 5" descr="Diffraction"/>
          <p:cNvPicPr/>
          <p:nvPr/>
        </p:nvPicPr>
        <p:blipFill>
          <a:blip r:embed="rId1"/>
          <a:stretch/>
        </p:blipFill>
        <p:spPr>
          <a:xfrm>
            <a:off x="914400" y="990720"/>
            <a:ext cx="7772400" cy="48895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11" name="Rectangle 6"/>
          <p:cNvSpPr/>
          <p:nvPr/>
        </p:nvSpPr>
        <p:spPr>
          <a:xfrm>
            <a:off x="7166160" y="5622840"/>
            <a:ext cx="15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Encart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0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1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3" name="Picture 3" descr="MVC-004S"/>
          <p:cNvPicPr/>
          <p:nvPr/>
        </p:nvPicPr>
        <p:blipFill>
          <a:blip r:embed="rId1"/>
          <a:srcRect l="33337" t="9724" r="19796" b="16669"/>
          <a:stretch/>
        </p:blipFill>
        <p:spPr>
          <a:xfrm>
            <a:off x="5257800" y="2514600"/>
            <a:ext cx="3429000" cy="40384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14" name="Picture 4" descr="MVC-028S"/>
          <p:cNvPicPr/>
          <p:nvPr/>
        </p:nvPicPr>
        <p:blipFill>
          <a:blip r:embed="rId2"/>
          <a:stretch/>
        </p:blipFill>
        <p:spPr>
          <a:xfrm>
            <a:off x="457200" y="3276720"/>
            <a:ext cx="4343400" cy="325728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15" name="Text Box 5"/>
          <p:cNvSpPr/>
          <p:nvPr/>
        </p:nvSpPr>
        <p:spPr>
          <a:xfrm>
            <a:off x="3582360" y="62485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467120" y="630864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8" descr="MVC-004S"/>
          <p:cNvPicPr/>
          <p:nvPr/>
        </p:nvPicPr>
        <p:blipFill>
          <a:blip r:embed="rId1"/>
          <a:srcRect l="0" t="0" r="32251" b="0"/>
          <a:stretch/>
        </p:blipFill>
        <p:spPr>
          <a:xfrm>
            <a:off x="3886200" y="0"/>
            <a:ext cx="4956120" cy="54864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9" name="Picture 5" descr="MVC-009S"/>
          <p:cNvPicPr/>
          <p:nvPr/>
        </p:nvPicPr>
        <p:blipFill>
          <a:blip r:embed="rId2"/>
          <a:stretch/>
        </p:blipFill>
        <p:spPr>
          <a:xfrm>
            <a:off x="6019920" y="2819520"/>
            <a:ext cx="3124080" cy="2342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20" name="Picture 7" descr="MVC-003S"/>
          <p:cNvPicPr/>
          <p:nvPr/>
        </p:nvPicPr>
        <p:blipFill>
          <a:blip r:embed="rId3"/>
          <a:srcRect l="34377" t="1000" r="31253" b="27000"/>
          <a:stretch/>
        </p:blipFill>
        <p:spPr>
          <a:xfrm>
            <a:off x="914400" y="1371600"/>
            <a:ext cx="2514600" cy="39495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21" name="Picture 9" descr="MVC-008S"/>
          <p:cNvPicPr/>
          <p:nvPr/>
        </p:nvPicPr>
        <p:blipFill>
          <a:blip r:embed="rId4"/>
          <a:srcRect l="28129" t="4165" r="25004" b="15339"/>
          <a:stretch/>
        </p:blipFill>
        <p:spPr>
          <a:xfrm>
            <a:off x="3276720" y="3657600"/>
            <a:ext cx="2485800" cy="3200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2" name="Picture 6" descr="MVC-001S"/>
          <p:cNvPicPr/>
          <p:nvPr/>
        </p:nvPicPr>
        <p:blipFill>
          <a:blip r:embed="rId5"/>
          <a:stretch/>
        </p:blipFill>
        <p:spPr>
          <a:xfrm>
            <a:off x="228600" y="5086440"/>
            <a:ext cx="2362320" cy="17715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3" name="Picture 10" descr="MVC-020S"/>
          <p:cNvPicPr/>
          <p:nvPr/>
        </p:nvPicPr>
        <p:blipFill>
          <a:blip r:embed="rId6"/>
          <a:srcRect l="39585" t="37504" r="22920" b="19102"/>
          <a:stretch/>
        </p:blipFill>
        <p:spPr>
          <a:xfrm>
            <a:off x="6188040" y="4800600"/>
            <a:ext cx="2193840" cy="190512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24" name="Rectangle 11"/>
          <p:cNvSpPr/>
          <p:nvPr/>
        </p:nvSpPr>
        <p:spPr>
          <a:xfrm>
            <a:off x="7924320" y="66898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4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orbit"/>
          <p:cNvPicPr/>
          <p:nvPr/>
        </p:nvPicPr>
        <p:blipFill>
          <a:blip r:embed="rId1"/>
          <a:stretch/>
        </p:blipFill>
        <p:spPr>
          <a:xfrm>
            <a:off x="6172200" y="5334120"/>
            <a:ext cx="2743200" cy="1433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1800" y="456840"/>
            <a:ext cx="5665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What Is It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0600" y="16761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 Energy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tom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 atoms absorb energy, electrons jump out to a high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lectrons release light when falling down to the low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tons - bundles/packets of energy released when the electrons fall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: Stream of Photon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20" name="Picture 9" descr="atom"/>
          <p:cNvPicPr/>
          <p:nvPr/>
        </p:nvPicPr>
        <p:blipFill>
          <a:blip r:embed="rId2"/>
          <a:stretch/>
        </p:blipFill>
        <p:spPr>
          <a:xfrm>
            <a:off x="990720" y="3049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839520" y="144792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26" name="Picture 5" descr="MVC-016S"/>
          <p:cNvPicPr/>
          <p:nvPr/>
        </p:nvPicPr>
        <p:blipFill>
          <a:blip r:embed="rId1"/>
          <a:srcRect l="18750" t="19795" r="19796" b="15276"/>
          <a:stretch/>
        </p:blipFill>
        <p:spPr>
          <a:xfrm>
            <a:off x="1828800" y="3295800"/>
            <a:ext cx="4191120" cy="3321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7" name="Picture 6" descr="MVC-021S"/>
          <p:cNvPicPr/>
          <p:nvPr/>
        </p:nvPicPr>
        <p:blipFill>
          <a:blip r:embed="rId2"/>
          <a:srcRect l="9378" t="13890" r="23959" b="0"/>
          <a:stretch/>
        </p:blipFill>
        <p:spPr>
          <a:xfrm>
            <a:off x="5715000" y="1371600"/>
            <a:ext cx="3429000" cy="33228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8" name="Picture 4" descr="MVC-005S"/>
          <p:cNvPicPr/>
          <p:nvPr/>
        </p:nvPicPr>
        <p:blipFill>
          <a:blip r:embed="rId3"/>
          <a:srcRect l="25004" t="0" r="16666" b="0"/>
          <a:stretch/>
        </p:blipFill>
        <p:spPr>
          <a:xfrm>
            <a:off x="304920" y="1295280"/>
            <a:ext cx="2192040" cy="2819520"/>
          </a:xfrm>
          <a:prstGeom prst="rect">
            <a:avLst/>
          </a:prstGeom>
          <a:ln w="38160">
            <a:solidFill>
              <a:srgbClr val="99ff33"/>
            </a:solidFill>
            <a:miter/>
          </a:ln>
        </p:spPr>
      </p:pic>
      <p:pic>
        <p:nvPicPr>
          <p:cNvPr id="329" name="Picture 7" descr="MVC-012S"/>
          <p:cNvPicPr/>
          <p:nvPr/>
        </p:nvPicPr>
        <p:blipFill>
          <a:blip r:embed="rId4"/>
          <a:srcRect l="1039" t="13890" r="1039" b="1394"/>
          <a:stretch/>
        </p:blipFill>
        <p:spPr>
          <a:xfrm>
            <a:off x="304920" y="1293840"/>
            <a:ext cx="8839080" cy="548784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sp>
        <p:nvSpPr>
          <p:cNvPr id="330" name="Text Box 8"/>
          <p:cNvSpPr/>
          <p:nvPr/>
        </p:nvSpPr>
        <p:spPr>
          <a:xfrm>
            <a:off x="3430800" y="624852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are you hard at work or hardly work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585080" y="27846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Hey girl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30420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0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0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34" name="Picture 4" descr="MVC-006S"/>
          <p:cNvPicPr/>
          <p:nvPr/>
        </p:nvPicPr>
        <p:blipFill>
          <a:blip r:embed="rId1"/>
          <a:srcRect l="19796" t="0" r="21874" b="20835"/>
          <a:stretch/>
        </p:blipFill>
        <p:spPr>
          <a:xfrm>
            <a:off x="304920" y="1752480"/>
            <a:ext cx="2695320" cy="27432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35" name="Picture 6" descr="MVC-003S"/>
          <p:cNvPicPr/>
          <p:nvPr/>
        </p:nvPicPr>
        <p:blipFill>
          <a:blip r:embed="rId2"/>
          <a:srcRect l="19796" t="20835" r="17711" b="0"/>
          <a:stretch/>
        </p:blipFill>
        <p:spPr>
          <a:xfrm>
            <a:off x="3962520" y="1523880"/>
            <a:ext cx="3276360" cy="311328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36" name="Picture 8" descr="MVC-007S"/>
          <p:cNvPicPr/>
          <p:nvPr/>
        </p:nvPicPr>
        <p:blipFill>
          <a:blip r:embed="rId3"/>
          <a:srcRect l="18750" t="19449" r="26044" b="38890"/>
          <a:stretch/>
        </p:blipFill>
        <p:spPr>
          <a:xfrm>
            <a:off x="762120" y="4343400"/>
            <a:ext cx="4038480" cy="2286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37" name="Picture 3" descr="MVC-001S"/>
          <p:cNvPicPr/>
          <p:nvPr/>
        </p:nvPicPr>
        <p:blipFill>
          <a:blip r:embed="rId4"/>
          <a:srcRect l="13542" t="8331" r="13542" b="9724"/>
          <a:stretch/>
        </p:blipFill>
        <p:spPr>
          <a:xfrm>
            <a:off x="5638680" y="3733920"/>
            <a:ext cx="3276720" cy="2762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38" name="Text Box 9"/>
          <p:cNvSpPr/>
          <p:nvPr/>
        </p:nvSpPr>
        <p:spPr>
          <a:xfrm>
            <a:off x="3120840" y="60958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777348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nodeType="clickEffect" fill="hold">
                      <p:stCondLst>
                        <p:cond delay="0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6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MVC-025S"/>
          <p:cNvPicPr/>
          <p:nvPr/>
        </p:nvPicPr>
        <p:blipFill>
          <a:blip r:embed="rId1"/>
          <a:srcRect l="0" t="13890" r="22920" b="8331"/>
          <a:stretch/>
        </p:blipFill>
        <p:spPr>
          <a:xfrm>
            <a:off x="4952880" y="1498680"/>
            <a:ext cx="3657600" cy="27684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2" name="Picture 5" descr="MVC-004S"/>
          <p:cNvPicPr/>
          <p:nvPr/>
        </p:nvPicPr>
        <p:blipFill>
          <a:blip r:embed="rId2"/>
          <a:srcRect l="18750" t="11110" r="19796" b="0"/>
          <a:stretch/>
        </p:blipFill>
        <p:spPr>
          <a:xfrm>
            <a:off x="228600" y="1447920"/>
            <a:ext cx="3232080" cy="35049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pic>
        <p:nvPicPr>
          <p:cNvPr id="343" name="Picture 6" descr="MVC-011S"/>
          <p:cNvPicPr/>
          <p:nvPr/>
        </p:nvPicPr>
        <p:blipFill>
          <a:blip r:embed="rId3"/>
          <a:srcRect l="3124" t="29173" r="7293" b="19449"/>
          <a:stretch/>
        </p:blipFill>
        <p:spPr>
          <a:xfrm>
            <a:off x="3886200" y="4421160"/>
            <a:ext cx="4952880" cy="21319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344" name="Picture 8" descr="MVC-030S"/>
          <p:cNvPicPr/>
          <p:nvPr/>
        </p:nvPicPr>
        <p:blipFill>
          <a:blip r:embed="rId4"/>
          <a:srcRect l="22920" t="8331" r="20835" b="62504"/>
          <a:stretch/>
        </p:blipFill>
        <p:spPr>
          <a:xfrm>
            <a:off x="152280" y="5105520"/>
            <a:ext cx="4114800" cy="160020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45" name="Rectangle 9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nodeType="clickEffect" fill="hold">
                      <p:stCondLst>
                        <p:cond delay="0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5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7" name="Picture 3" descr="MVC-010S"/>
          <p:cNvPicPr/>
          <p:nvPr/>
        </p:nvPicPr>
        <p:blipFill>
          <a:blip r:embed="rId1"/>
          <a:srcRect l="0" t="2780" r="9378" b="0"/>
          <a:stretch/>
        </p:blipFill>
        <p:spPr>
          <a:xfrm>
            <a:off x="304920" y="1447920"/>
            <a:ext cx="4267080" cy="34336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348" name="Picture 4" descr="MVC-002S"/>
          <p:cNvPicPr/>
          <p:nvPr/>
        </p:nvPicPr>
        <p:blipFill>
          <a:blip r:embed="rId2"/>
          <a:srcRect l="0" t="13890" r="11457" b="9866"/>
          <a:stretch/>
        </p:blipFill>
        <p:spPr>
          <a:xfrm>
            <a:off x="3276720" y="2971800"/>
            <a:ext cx="5562360" cy="359244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49" name="Picture 6" descr="MVC-012S"/>
          <p:cNvPicPr/>
          <p:nvPr/>
        </p:nvPicPr>
        <p:blipFill>
          <a:blip r:embed="rId3"/>
          <a:srcRect l="11457" t="0" r="18750" b="14094"/>
          <a:stretch/>
        </p:blipFill>
        <p:spPr>
          <a:xfrm>
            <a:off x="152280" y="4238640"/>
            <a:ext cx="2590920" cy="239076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pic>
        <p:nvPicPr>
          <p:cNvPr id="350" name="Picture 7" descr="MVC-003S"/>
          <p:cNvPicPr/>
          <p:nvPr/>
        </p:nvPicPr>
        <p:blipFill>
          <a:blip r:embed="rId4"/>
          <a:srcRect l="17711" t="20835" r="15626" b="19449"/>
          <a:stretch/>
        </p:blipFill>
        <p:spPr>
          <a:xfrm>
            <a:off x="6172200" y="1433520"/>
            <a:ext cx="2514600" cy="1690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51" name="Rectangle 8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0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1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77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9" dur="770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1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3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3" name="Picture 3" descr="MVC-001S"/>
          <p:cNvPicPr/>
          <p:nvPr/>
        </p:nvPicPr>
        <p:blipFill>
          <a:blip r:embed="rId1"/>
          <a:srcRect l="0" t="0" r="38546" b="6252"/>
          <a:stretch/>
        </p:blipFill>
        <p:spPr>
          <a:xfrm>
            <a:off x="380880" y="1447920"/>
            <a:ext cx="3994200" cy="4572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54" name="Picture 4" descr="MVC-004S"/>
          <p:cNvPicPr/>
          <p:nvPr/>
        </p:nvPicPr>
        <p:blipFill>
          <a:blip r:embed="rId2"/>
          <a:stretch/>
        </p:blipFill>
        <p:spPr>
          <a:xfrm>
            <a:off x="5791320" y="4343400"/>
            <a:ext cx="3352680" cy="251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5" name="Picture 5" descr="MVC-007S"/>
          <p:cNvPicPr/>
          <p:nvPr/>
        </p:nvPicPr>
        <p:blipFill>
          <a:blip r:embed="rId3"/>
          <a:srcRect l="13542" t="22228" r="15626" b="31890"/>
          <a:stretch/>
        </p:blipFill>
        <p:spPr>
          <a:xfrm>
            <a:off x="3962520" y="1596960"/>
            <a:ext cx="5181480" cy="25178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356" name="Picture 6" descr="MVC-010S"/>
          <p:cNvPicPr/>
          <p:nvPr/>
        </p:nvPicPr>
        <p:blipFill>
          <a:blip r:embed="rId4"/>
          <a:srcRect l="18750" t="19449" r="16666" b="33339"/>
          <a:stretch/>
        </p:blipFill>
        <p:spPr>
          <a:xfrm>
            <a:off x="2057400" y="4495680"/>
            <a:ext cx="3962520" cy="217332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sp>
        <p:nvSpPr>
          <p:cNvPr id="357" name="Rectangle 7"/>
          <p:cNvSpPr/>
          <p:nvPr/>
        </p:nvSpPr>
        <p:spPr>
          <a:xfrm>
            <a:off x="686880" y="6172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0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9" name="Picture 3" descr="MVC-011S"/>
          <p:cNvPicPr/>
          <p:nvPr/>
        </p:nvPicPr>
        <p:blipFill>
          <a:blip r:embed="rId1"/>
          <a:srcRect l="36461" t="16669" r="17711" b="0"/>
          <a:stretch/>
        </p:blipFill>
        <p:spPr>
          <a:xfrm>
            <a:off x="5638680" y="1447920"/>
            <a:ext cx="3353040" cy="48006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60" name="Picture 5" descr="MVC-016S"/>
          <p:cNvPicPr/>
          <p:nvPr/>
        </p:nvPicPr>
        <p:blipFill>
          <a:blip r:embed="rId2"/>
          <a:srcRect l="10418" t="31945" r="27083" b="0"/>
          <a:stretch/>
        </p:blipFill>
        <p:spPr>
          <a:xfrm>
            <a:off x="1447920" y="1447920"/>
            <a:ext cx="3504960" cy="2862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61" name="Picture 4" descr="MVC-014S"/>
          <p:cNvPicPr/>
          <p:nvPr/>
        </p:nvPicPr>
        <p:blipFill>
          <a:blip r:embed="rId3"/>
          <a:srcRect l="10418" t="0" r="7293" b="0"/>
          <a:stretch/>
        </p:blipFill>
        <p:spPr>
          <a:xfrm>
            <a:off x="3048120" y="4065480"/>
            <a:ext cx="2895480" cy="26402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362" name="Picture 6" descr="MVC-013S"/>
          <p:cNvPicPr/>
          <p:nvPr/>
        </p:nvPicPr>
        <p:blipFill>
          <a:blip r:embed="rId4"/>
          <a:srcRect l="31253" t="33339" r="36461" b="0"/>
          <a:stretch/>
        </p:blipFill>
        <p:spPr>
          <a:xfrm>
            <a:off x="228600" y="2895480"/>
            <a:ext cx="2362320" cy="36576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63" name="Rectangle 7"/>
          <p:cNvSpPr/>
          <p:nvPr/>
        </p:nvSpPr>
        <p:spPr>
          <a:xfrm>
            <a:off x="7697160" y="63244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nodeType="clickEffect" fill="hold">
                      <p:stCondLst>
                        <p:cond delay="0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2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lve problems involving wavelength, frequency, &amp; speed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nodeType="clickEffect" fill="hold">
                      <p:stCondLst>
                        <p:cond delay="0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nodeType="clickEffect" fill="hold">
                      <p:stCondLst>
                        <p:cond delay="0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48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he characteristic properties of wave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terferenc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if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Re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oppler Effec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olarization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nodeType="clickEffect" fill="hold">
                      <p:stCondLst>
                        <p:cond delay="0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7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0" y="614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28600" y="1355760"/>
            <a:ext cx="89154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"/>
              </a:rPr>
              <a:t>http://www.lbl.gov/MicroWorlds/ALSTool/EMSpec/EMSpec2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lbl.gov/MicroWorlds/ALSTool/EMSpec/EMSpec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http://www.physics.sfasu.edu/astro/color.html#linkshttp://www.physics.sfasu.edu/astro/color.html#link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http://www.isc.tamu.edu/~astro/color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18" dur="indefinite" restart="never" nodeType="tmRoot">
          <p:childTnLst>
            <p:seq>
              <p:cTn id="1519" dur="indefinite" nodeType="mainSeq">
                <p:childTnLst>
                  <p:par>
                    <p:cTn id="1520" nodeType="clickEffect" fill="hold">
                      <p:stCondLst>
                        <p:cond delay="0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59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931840"/>
            <a:ext cx="8534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Vacu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300,000 km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186,000 mi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Other Material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Slower in Air, Water, Glas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25" name="Picture 7" descr="molstruc"/>
          <p:cNvPicPr/>
          <p:nvPr/>
        </p:nvPicPr>
        <p:blipFill>
          <a:blip r:embed="rId1"/>
          <a:stretch/>
        </p:blipFill>
        <p:spPr>
          <a:xfrm>
            <a:off x="609480" y="233280"/>
            <a:ext cx="1524240" cy="11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581640" cy="259056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sp>
        <p:nvSpPr>
          <p:cNvPr id="127" name="Rectangle 10"/>
          <p:cNvSpPr/>
          <p:nvPr/>
        </p:nvSpPr>
        <p:spPr>
          <a:xfrm>
            <a:off x="7011720" y="46483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80880" y="5562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 Unicode MS"/>
                <a:ea typeface="Arial Unicode MS"/>
              </a:rPr>
              <a:t>http://www.scimedia.com/chem-ed/light/em-rad.htm, updated 11/22/97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0880" y="2019240"/>
            <a:ext cx="8534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nodeType="clickEffect" fill="hold">
                      <p:stCondLst>
                        <p:cond delay="0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8320" y="1371240"/>
            <a:ext cx="8281800" cy="46846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rad.htm, upd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1/22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86200" y="27428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79" name="Picture 5" descr="bd07311_"/>
          <p:cNvPicPr/>
          <p:nvPr/>
        </p:nvPicPr>
        <p:blipFill>
          <a:blip r:embed="rId1"/>
          <a:srcRect l="0" t="0" r="9429" b="0"/>
          <a:stretch/>
        </p:blipFill>
        <p:spPr>
          <a:xfrm>
            <a:off x="380880" y="3733920"/>
            <a:ext cx="1981440" cy="2635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0" name="Text Box 6"/>
          <p:cNvSpPr/>
          <p:nvPr/>
        </p:nvSpPr>
        <p:spPr>
          <a:xfrm>
            <a:off x="38232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ransverse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320" y="2590920"/>
            <a:ext cx="881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ergy is perpendicular to direction of motion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oving photon creates electric &amp; magnetic fiel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ight has BOTH Electric &amp; Magnetic fields at right angles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0" name="Picture 8" descr="em-rad"/>
          <p:cNvPicPr/>
          <p:nvPr/>
        </p:nvPicPr>
        <p:blipFill>
          <a:blip r:embed="rId1"/>
          <a:stretch/>
        </p:blipFill>
        <p:spPr>
          <a:xfrm>
            <a:off x="914400" y="306360"/>
            <a:ext cx="3276720" cy="20559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31" name="Rectangle 9"/>
          <p:cNvSpPr/>
          <p:nvPr/>
        </p:nvSpPr>
        <p:spPr>
          <a:xfrm>
            <a:off x="828360" y="24224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33" name="Picture 5" descr="EMSpec"/>
          <p:cNvPicPr/>
          <p:nvPr/>
        </p:nvPicPr>
        <p:blipFill>
          <a:blip r:embed="rId1"/>
          <a:stretch/>
        </p:blipFill>
        <p:spPr>
          <a:xfrm>
            <a:off x="0" y="1677960"/>
            <a:ext cx="9220320" cy="4513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738144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sible Spectrum – Light we can see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oy G. Biv – Acronym f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Indigo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&amp;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Viole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arg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o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Small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Wavelength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7" name="Picture 6" descr="em-visib"/>
          <p:cNvPicPr/>
          <p:nvPr/>
        </p:nvPicPr>
        <p:blipFill>
          <a:blip r:embed="rId1"/>
          <a:srcRect l="0" t="8542" r="4629" b="0"/>
          <a:stretch/>
        </p:blipFill>
        <p:spPr>
          <a:xfrm>
            <a:off x="228600" y="5257800"/>
            <a:ext cx="8534520" cy="160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1:11:23Z</dcterms:created>
  <dc:creator>Debra Power</dc:creator>
  <dc:description/>
  <dc:language>en-US</dc:language>
  <cp:lastModifiedBy>RomaK</cp:lastModifiedBy>
  <dcterms:modified xsi:type="dcterms:W3CDTF">2015-09-03T12:39:24Z</dcterms:modified>
  <cp:revision>93</cp:revision>
  <dc:subject/>
  <dc:title>LIGHT: What is it?</dc:title>
</cp:coreProperties>
</file>