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2.wmf" ContentType="image/x-wmf"/>
  <Override PartName="/ppt/media/image83.jpeg" ContentType="image/jpeg"/>
  <Override PartName="/ppt/media/image51.wmf" ContentType="image/x-wmf"/>
  <Override PartName="/ppt/media/image63.jpeg" ContentType="image/jpeg"/>
  <Override PartName="/ppt/media/image50.wmf" ContentType="image/x-wmf"/>
  <Override PartName="/ppt/media/image48.wmf" ContentType="image/x-wmf"/>
  <Override PartName="/ppt/media/image46.wmf" ContentType="image/x-wmf"/>
  <Override PartName="/ppt/media/image69.jpeg" ContentType="image/jpeg"/>
  <Override PartName="/ppt/media/carbrake.wav" ContentType="audio/x-wav"/>
  <Override PartName="/ppt/media/image45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23.wmf" ContentType="image/x-wmf"/>
  <Override PartName="/ppt/media/image40.wmf" ContentType="image/x-wmf"/>
  <Override PartName="/ppt/media/image59.jpeg" ContentType="image/jpeg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22.jpeg" ContentType="image/jpeg"/>
  <Override PartName="/ppt/media/image81.jpeg" ContentType="image/jpeg"/>
  <Override PartName="/ppt/media/image30.wmf" ContentType="image/x-wmf"/>
  <Override PartName="/ppt/media/image58.jpeg" ContentType="image/jpeg"/>
  <Override PartName="/ppt/media/image44.wmf" ContentType="image/x-wmf"/>
  <Override PartName="/ppt/media/image11.gif" ContentType="image/gif"/>
  <Override PartName="/ppt/media/image14.png" ContentType="image/png"/>
  <Override PartName="/ppt/media/image2.png" ContentType="image/png"/>
  <Override PartName="/ppt/media/image72.jpeg" ContentType="image/jpeg"/>
  <Override PartName="/ppt/media/image24.png" ContentType="image/png"/>
  <Override PartName="/ppt/media/image73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87.wmf" ContentType="image/x-wmf"/>
  <Override PartName="/ppt/media/image76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80.jpeg" ContentType="image/jpeg"/>
  <Override PartName="/ppt/media/image53.wmf" ContentType="image/x-wmf"/>
  <Override PartName="/ppt/media/image54.jpeg" ContentType="image/jpeg"/>
  <Override PartName="/ppt/media/type.wav" ContentType="audio/x-wav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33.wmf" ContentType="image/x-wmf"/>
  <Override PartName="/ppt/media/image75.jpeg" ContentType="image/jpeg"/>
  <Override PartName="/ppt/media/image71.jpeg" ContentType="image/jpeg"/>
  <Override PartName="/ppt/media/image70.jpeg" ContentType="image/jpeg"/>
  <Override PartName="/ppt/media/image31.png" ContentType="image/png"/>
  <Override PartName="/ppt/media/image36.wmf" ContentType="image/x-wmf"/>
  <Override PartName="/ppt/media/image68.jpeg" ContentType="image/jpeg"/>
  <Override PartName="/ppt/media/image13.png" ContentType="image/png"/>
  <Override PartName="/ppt/media/image1.png" ContentType="image/png"/>
  <Override PartName="/ppt/media/image65.jpeg" ContentType="image/jpeg"/>
  <Override PartName="/ppt/media/image15.png" ContentType="image/png"/>
  <Override PartName="/ppt/media/image3.png" ContentType="image/png"/>
  <Override PartName="/ppt/media/laser.wav" ContentType="audio/x-wav"/>
  <Override PartName="/ppt/media/image35.wmf" ContentType="image/x-wmf"/>
  <Override PartName="/ppt/media/image25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66.jpeg" ContentType="image/jpeg"/>
  <Override PartName="/ppt/media/image16.wmf" ContentType="image/x-wmf"/>
  <Override PartName="/ppt/media/image8.png" ContentType="image/png"/>
  <Override PartName="/ppt/media/image82.jpeg" ContentType="image/jpeg"/>
  <Override PartName="/ppt/media/image42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.wmf" ContentType="image/x-wmf"/>
  <Override PartName="/ppt/media/image86.jpeg" ContentType="image/jpeg"/>
  <Override PartName="/ppt/media/image27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70EB-277B-45F7-8E2B-997A3E0430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: SOUND &amp;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: SOUND &amp;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Longest wavelength &amp; low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Radio &amp; T.V. broadca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Longest wavelength &amp; lowest frequenc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Radio &amp; T.V. broadcast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ng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– amplitude mod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audi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avelength so can bend around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– frequency modul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vide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ng 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 – amplitude modul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audi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er wavelength so can bend around hi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M – frequency modulatio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vide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avelength 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 – Light rays with longer wavelength than red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ooking, Medicine, T.V. remote contr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Wavelength Microw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rared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 – Light rays with longer wavelength than red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Cooking, Medicine, T.V. remote contr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food processing &amp; hospitals to kill germs’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your body use vitamin 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ltraviolet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food processing &amp; hospitals to kill germs’ c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lps your body use vitamin 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- EM waves that are shorter than UV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Medicine – Bones absorb x-rays; soft tissue does no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absorbs X-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- EM waves that are shorter than UV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Medicine – Bones absorb x-rays; soft tissue does not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absorbs X-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cancer trea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cancer treatm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Particles or Wa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del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s most properti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Theor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electric Effect – Photons of light produce fre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Particles or Waves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 Model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lains most properti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icle Theory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electric Effect – Photons of light produce free electr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Refraction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light due to a change in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Refraction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light due to a change in spe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-Spectroscope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-Spectroscope La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(Def.) – A wave is a disturbance that transfers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Waves – Depends on the properties of the me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URE OF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(Def.) – A wave is a disturbance that transfers energ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of Waves – Depends on the properties of the medi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Obje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ransmitted because of no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uc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cattered and transmitted 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qu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either reflected or absorb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paque objects is color it refl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parent Object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ransmitted because of no scatter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lucent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scattered and transmitted som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aque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either reflected or absorb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paque objects is color it reflec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bj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olors that can be mixed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ny other colore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+ blue + green = whit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omplimentary colors comb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white light-Magenta,Cyan,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ree colors that can be mixed 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 any other colored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+ blue + green = whit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complimentary colors combin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make white light-Magenta,Cyan,Yell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in the retina.  Very sensitive to light &amp;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help to see light/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ina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d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in the retina.  Very sensitive to light &amp; da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help to see light/co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s absorb the frequenc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at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+ cyan + magenta =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 are compli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rimary colors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int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gments absorb the frequency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hat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ellow + cyan + magenta = blac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 are compli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primary colors of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mentary Pig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, blue,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pigments are primary colors for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mentary Pig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n, blue, 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pigments are primary colors for ligh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igh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roduced by electron bombardment of gas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uorescent Light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produced by electron bombardment of gas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Ne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Ref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– Bouncing back of light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Refle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– Bouncing back of light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LESSON: Light &amp; 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1/20/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LESSON: Light &amp; the 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vised 1/20/0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larger than actual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smaller th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larger than actual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uced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smaller than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right side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upsid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right side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t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upsid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Imag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l Image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inver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Image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” because it cannot be projec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only seems to be t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Image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Real” because it cannot be projec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only seems to be the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 Mirrors – Perfectly f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 Image is right si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e Mirrors – Perfectly fl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 Image is right side 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&amp; Mirrors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s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s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:  Rear view mirrors, store secu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!  Objects are closer than they 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&amp; Mirrors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Mirr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urves out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s imag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:  Rear view mirrors, store security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in the center than edg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converges (brings together) light ray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cker in the center than edge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converges (brings together) light ray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usually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usually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bert Einste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is thicker at the edges and thinner in the ce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erges light r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mages are erect and re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is thicker at the edges and thinner in the cent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verges light ray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images are erect and reduc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 – Eye is a convex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sightedness – Concave lenses expand focal 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sightedness – Convex lenses shortens the focal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on – Eye is a convex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sightedness – Concave lenses expand focal lengt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sightedness – Convex lenses shortens the focal 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me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nym: Light Amplification by Stimulated Emission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ronym: Light Amplification by Stimulated Emission of Radi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y – Use of Lasers to create 3-D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lography – Use of Lasers to create 3-D ima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Enca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Encar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What Is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Stream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What Is I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Stream of Phot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hard at work or hardly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you hard at work or hardly working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re’s more posing than wor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problems involving wavelength, frequency, &amp; spe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problems involving wavelength, frequency, &amp; spee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haracteristic properties of wav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he characteristic properties of wave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rfere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ariz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,000 mi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Other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er in Air, Water,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Vacu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0,000 km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,000 mi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Other Materi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er in Air, Water, Gla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S C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verse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erpendicular to direction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photon creates electric &amp;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as BOTH Electric &amp; Magnetic fields at right ang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verse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ergy is perpendicular to direction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ving photon creates electric &amp; magnetic fiel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has BOTH Electric &amp; Magnetic fields at right angl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Spectrum – Light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o Smallest Wave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ble Spectrum – Light we can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st to Smallest Wave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9D1-5AF7-4189-ACA2-3BCCD026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DFC-823C-4DFE-985F-8BAFEF09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80F-140B-4978-BA8D-0CBD6156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CAE-E8FC-47F4-BA42-7695AAE0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6523-6ADF-4E9A-9124-BA5A3A42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7C16-5F26-4098-ADE9-F6876363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FD41-9C2D-4C5B-9737-F30D064D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3242-85FD-4FDE-A86C-02F9DFC4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8E75-F554-498D-98D2-0B0D68F0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29A2-7D18-4F33-B230-B9C749B8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B34D-86FE-4AA7-8FA7-3D879C6E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444-71A1-4B2A-A6D1-972F3841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6357-0ACA-4A80-8D23-DB817C9F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3E26-F645-49B8-9CA4-6343884A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2FFC-BB3C-475D-8640-C9B5E833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B1D7-8B89-4BAF-A873-19DCA764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9D66-8D28-492E-90CC-D612BF5C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8CB-7130-46F6-B59C-4DDBB628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46C-4614-468F-B5E7-39A333E6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F85-6CAD-487E-902D-1D33C301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F3E-1177-4F1A-B6E8-63C35F7B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B6F-EC46-4A51-9E87-52AF795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16D-717B-49E1-BA26-5C48E12C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20E-151B-441F-B44A-7A0DFBCB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8CB0-5B9A-4934-9CC0-3AE7E8CCCE3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E33C-E21E-4237-84AD-6901696F380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lbl.gov/MicroWorlds/ALSTool/EMSpec/EMSpec2.html" TargetMode="External"/><Relationship Id="rId2" Type="http://schemas.openxmlformats.org/officeDocument/2006/relationships/hyperlink" Target="http://www.lbl.gov/MicroWorlds/ALSTool/EMSpec/EMSpec.html" TargetMode="External"/><Relationship Id="rId3" Type="http://schemas.openxmlformats.org/officeDocument/2006/relationships/hyperlink" Target="http://www.physics.sfasu.edu/astro/color.html#linkshttp://www.physics.sfasu.edu/astro/color.html#links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7" name="Picture 5" descr="bs01316_"/>
          <p:cNvPicPr/>
          <p:nvPr/>
        </p:nvPicPr>
        <p:blipFill>
          <a:blip r:embed="rId1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tom"/>
          <p:cNvPicPr/>
          <p:nvPr/>
        </p:nvPicPr>
        <p:blipFill>
          <a:blip r:embed="rId2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olstruc"/>
          <p:cNvPicPr/>
          <p:nvPr/>
        </p:nvPicPr>
        <p:blipFill>
          <a:blip r:embed="rId3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rism-small[1]"/>
          <p:cNvPicPr/>
          <p:nvPr/>
        </p:nvPicPr>
        <p:blipFill>
          <a:blip r:embed="rId4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arth"/>
          <p:cNvPicPr/>
          <p:nvPr/>
        </p:nvPicPr>
        <p:blipFill>
          <a:blip r:embed="rId5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m00363_"/>
          <p:cNvPicPr/>
          <p:nvPr/>
        </p:nvPicPr>
        <p:blipFill>
          <a:blip r:embed="rId6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12" descr="bd20659_"/>
          <p:cNvPicPr/>
          <p:nvPr/>
        </p:nvPicPr>
        <p:blipFill>
          <a:blip r:embed="rId7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6720" y="533160"/>
            <a:ext cx="6656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5" descr="prism-small[1]"/>
          <p:cNvPicPr/>
          <p:nvPr/>
        </p:nvPicPr>
        <p:blipFill>
          <a:blip r:embed="rId1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n00500_"/>
          <p:cNvPicPr/>
          <p:nvPr/>
        </p:nvPicPr>
        <p:blipFill>
          <a:blip r:embed="rId2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earth"/>
          <p:cNvPicPr/>
          <p:nvPr/>
        </p:nvPicPr>
        <p:blipFill>
          <a:blip r:embed="rId1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7920" y="609120"/>
            <a:ext cx="6580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wavelength"/>
          <p:cNvPicPr/>
          <p:nvPr/>
        </p:nvPicPr>
        <p:blipFill>
          <a:blip r:embed="rId1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1" name="Picture 5" descr="prism"/>
          <p:cNvPicPr/>
          <p:nvPr/>
        </p:nvPicPr>
        <p:blipFill>
          <a:blip r:embed="rId1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rism-small[1]"/>
          <p:cNvPicPr/>
          <p:nvPr/>
        </p:nvPicPr>
        <p:blipFill>
          <a:blip r:embed="rId2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4104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6" name="Picture 5" descr="MVC-001F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VC-002F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03F"/>
          <p:cNvPicPr/>
          <p:nvPr/>
        </p:nvPicPr>
        <p:blipFill>
          <a:blip r:embed="rId3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7" name="Picture 4" descr="pe02580_"/>
          <p:cNvPicPr/>
          <p:nvPr/>
        </p:nvPicPr>
        <p:blipFill>
          <a:blip r:embed="rId1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3" name="Picture 5" descr="so01038_"/>
          <p:cNvPicPr/>
          <p:nvPr/>
        </p:nvPicPr>
        <p:blipFill>
          <a:blip r:embed="rId1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7" name="Picture 5" descr="colmixs[1]"/>
          <p:cNvPicPr/>
          <p:nvPr/>
        </p:nvPicPr>
        <p:blipFill>
          <a:blip r:embed="rId1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lips"/>
          <p:cNvPicPr/>
          <p:nvPr/>
        </p:nvPicPr>
        <p:blipFill>
          <a:blip r:embed="rId2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affodil"/>
          <p:cNvPicPr/>
          <p:nvPr/>
        </p:nvPicPr>
        <p:blipFill>
          <a:blip r:embed="rId3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547200"/>
            <a:ext cx="5943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Picture 6" descr="na01064_"/>
          <p:cNvPicPr/>
          <p:nvPr/>
        </p:nvPicPr>
        <p:blipFill>
          <a:blip r:embed="rId1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4960" y="6091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7" name="Picture 6" descr="sy01063_"/>
          <p:cNvPicPr/>
          <p:nvPr/>
        </p:nvPicPr>
        <p:blipFill>
          <a:blip r:embed="rId1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7" descr="en00684_"/>
          <p:cNvPicPr/>
          <p:nvPr/>
        </p:nvPicPr>
        <p:blipFill>
          <a:blip r:embed="rId1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4678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95" name="Picture 5" descr="bd05178_"/>
          <p:cNvPicPr/>
          <p:nvPr/>
        </p:nvPicPr>
        <p:blipFill>
          <a:blip r:embed="rId1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00895_"/>
          <p:cNvPicPr/>
          <p:nvPr/>
        </p:nvPicPr>
        <p:blipFill>
          <a:blip r:embed="rId2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1" name="Picture 6" descr="hh01478_"/>
          <p:cNvPicPr/>
          <p:nvPr/>
        </p:nvPicPr>
        <p:blipFill>
          <a:blip r:embed="rId1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s00637_"/>
          <p:cNvPicPr/>
          <p:nvPr/>
        </p:nvPicPr>
        <p:blipFill>
          <a:blip r:embed="rId2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7" name="Picture 5" descr="bs00637_"/>
          <p:cNvPicPr/>
          <p:nvPr/>
        </p:nvPicPr>
        <p:blipFill>
          <a:blip r:embed="rId1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11" name="Picture 5" descr="ph02538j"/>
          <p:cNvPicPr/>
          <p:nvPr/>
        </p:nvPicPr>
        <p:blipFill>
          <a:blip r:embed="rId1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2" name="Rectangle 6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1030" descr="ph01265u"/>
          <p:cNvPicPr/>
          <p:nvPr/>
        </p:nvPicPr>
        <p:blipFill>
          <a:blip r:embed="rId1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Rectangle 1031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Picture 5" descr="pe07677_"/>
          <p:cNvPicPr/>
          <p:nvPr/>
        </p:nvPicPr>
        <p:blipFill>
          <a:blip r:embed="rId1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m00363_"/>
          <p:cNvPicPr/>
          <p:nvPr/>
        </p:nvPicPr>
        <p:blipFill>
          <a:blip r:embed="rId2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61722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3" name="Picture 4" descr="pe07677_"/>
          <p:cNvPicPr/>
          <p:nvPr/>
        </p:nvPicPr>
        <p:blipFill>
          <a:blip r:embed="rId1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m00363_"/>
          <p:cNvPicPr/>
          <p:nvPr/>
        </p:nvPicPr>
        <p:blipFill>
          <a:blip r:embed="rId2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3" name="Picture 5" descr="pe02719_"/>
          <p:cNvPicPr/>
          <p:nvPr/>
        </p:nvPicPr>
        <p:blipFill>
          <a:blip r:embed="rId1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7" name="Picture 4" descr="pe07677_"/>
          <p:cNvPicPr/>
          <p:nvPr/>
        </p:nvPicPr>
        <p:blipFill>
          <a:blip r:embed="rId1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6" descr="sprtscar"/>
          <p:cNvPicPr/>
          <p:nvPr/>
        </p:nvPicPr>
        <p:blipFill>
          <a:blip r:embed="rId1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7" descr="bs01316_"/>
          <p:cNvPicPr/>
          <p:nvPr/>
        </p:nvPicPr>
        <p:blipFill>
          <a:blip r:embed="rId3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rc 8"/>
          <p:cNvSpPr/>
          <p:nvPr/>
        </p:nvSpPr>
        <p:spPr>
          <a:xfrm>
            <a:off x="6553080" y="1371600"/>
            <a:ext cx="2286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rc 9"/>
          <p:cNvSpPr/>
          <p:nvPr/>
        </p:nvSpPr>
        <p:spPr>
          <a:xfrm flipV="1">
            <a:off x="6629400" y="205740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rc 10"/>
          <p:cNvSpPr/>
          <p:nvPr/>
        </p:nvSpPr>
        <p:spPr>
          <a:xfrm flipH="1">
            <a:off x="7010280" y="1371600"/>
            <a:ext cx="1526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rc 11"/>
          <p:cNvSpPr/>
          <p:nvPr/>
        </p:nvSpPr>
        <p:spPr>
          <a:xfrm flipH="1" flipV="1">
            <a:off x="7010280" y="2057400"/>
            <a:ext cx="1526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7" name="Picture 4" descr="bd06651_"/>
          <p:cNvPicPr/>
          <p:nvPr/>
        </p:nvPicPr>
        <p:blipFill>
          <a:blip r:embed="rId1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20091_"/>
          <p:cNvPicPr/>
          <p:nvPr/>
        </p:nvPicPr>
        <p:blipFill>
          <a:blip r:embed="rId2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d20091_"/>
          <p:cNvPicPr/>
          <p:nvPr/>
        </p:nvPicPr>
        <p:blipFill>
          <a:blip r:embed="rId3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96" name="Picture 5" descr="hm00363_"/>
          <p:cNvPicPr/>
          <p:nvPr/>
        </p:nvPicPr>
        <p:blipFill>
          <a:blip r:embed="rId1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n00500_"/>
          <p:cNvPicPr/>
          <p:nvPr/>
        </p:nvPicPr>
        <p:blipFill>
          <a:blip r:embed="rId2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e07677_"/>
          <p:cNvPicPr/>
          <p:nvPr/>
        </p:nvPicPr>
        <p:blipFill>
          <a:blip r:embed="rId3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10" name="Picture 5" descr="Diffraction"/>
          <p:cNvPicPr/>
          <p:nvPr/>
        </p:nvPicPr>
        <p:blipFill>
          <a:blip r:embed="rId1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0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3" name="Picture 3" descr="MVC-004S"/>
          <p:cNvPicPr/>
          <p:nvPr/>
        </p:nvPicPr>
        <p:blipFill>
          <a:blip r:embed="rId1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Picture 4" descr="MVC-028S"/>
          <p:cNvPicPr/>
          <p:nvPr/>
        </p:nvPicPr>
        <p:blipFill>
          <a:blip r:embed="rId2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15" name="Text Box 5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MVC-004S"/>
          <p:cNvPicPr/>
          <p:nvPr/>
        </p:nvPicPr>
        <p:blipFill>
          <a:blip r:embed="rId1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Picture 5" descr="MVC-009S"/>
          <p:cNvPicPr/>
          <p:nvPr/>
        </p:nvPicPr>
        <p:blipFill>
          <a:blip r:embed="rId2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20" name="Picture 7" descr="MVC-003S"/>
          <p:cNvPicPr/>
          <p:nvPr/>
        </p:nvPicPr>
        <p:blipFill>
          <a:blip r:embed="rId3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21" name="Picture 9" descr="MVC-008S"/>
          <p:cNvPicPr/>
          <p:nvPr/>
        </p:nvPicPr>
        <p:blipFill>
          <a:blip r:embed="rId4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2" name="Picture 6" descr="MVC-001S"/>
          <p:cNvPicPr/>
          <p:nvPr/>
        </p:nvPicPr>
        <p:blipFill>
          <a:blip r:embed="rId5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3" name="Picture 10" descr="MVC-020S"/>
          <p:cNvPicPr/>
          <p:nvPr/>
        </p:nvPicPr>
        <p:blipFill>
          <a:blip r:embed="rId6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24" name="Rectangle 11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orbit"/>
          <p:cNvPicPr/>
          <p:nvPr/>
        </p:nvPicPr>
        <p:blipFill>
          <a:blip r:embed="rId1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1800" y="456840"/>
            <a:ext cx="5665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20" name="Picture 9" descr="atom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6" name="Picture 5" descr="MVC-016S"/>
          <p:cNvPicPr/>
          <p:nvPr/>
        </p:nvPicPr>
        <p:blipFill>
          <a:blip r:embed="rId1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7" name="Picture 6" descr="MVC-021S"/>
          <p:cNvPicPr/>
          <p:nvPr/>
        </p:nvPicPr>
        <p:blipFill>
          <a:blip r:embed="rId2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8" name="Picture 4" descr="MVC-005S"/>
          <p:cNvPicPr/>
          <p:nvPr/>
        </p:nvPicPr>
        <p:blipFill>
          <a:blip r:embed="rId3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9" name="Picture 7" descr="MVC-012S"/>
          <p:cNvPicPr/>
          <p:nvPr/>
        </p:nvPicPr>
        <p:blipFill>
          <a:blip r:embed="rId4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30" name="Text Box 8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7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8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4" name="Picture 4" descr="MVC-006S"/>
          <p:cNvPicPr/>
          <p:nvPr/>
        </p:nvPicPr>
        <p:blipFill>
          <a:blip r:embed="rId1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35" name="Picture 6" descr="MVC-003S"/>
          <p:cNvPicPr/>
          <p:nvPr/>
        </p:nvPicPr>
        <p:blipFill>
          <a:blip r:embed="rId2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36" name="Picture 8" descr="MVC-007S"/>
          <p:cNvPicPr/>
          <p:nvPr/>
        </p:nvPicPr>
        <p:blipFill>
          <a:blip r:embed="rId3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7" name="Picture 3" descr="MVC-001S"/>
          <p:cNvPicPr/>
          <p:nvPr/>
        </p:nvPicPr>
        <p:blipFill>
          <a:blip r:embed="rId4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8" name="Text Box 9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nodeType="clickEffect" fill="hold">
                      <p:stCondLst>
                        <p:cond delay="0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6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50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MVC-025S"/>
          <p:cNvPicPr/>
          <p:nvPr/>
        </p:nvPicPr>
        <p:blipFill>
          <a:blip r:embed="rId1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2" name="Picture 5" descr="MVC-004S"/>
          <p:cNvPicPr/>
          <p:nvPr/>
        </p:nvPicPr>
        <p:blipFill>
          <a:blip r:embed="rId2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3" name="Picture 6" descr="MVC-011S"/>
          <p:cNvPicPr/>
          <p:nvPr/>
        </p:nvPicPr>
        <p:blipFill>
          <a:blip r:embed="rId3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44" name="Picture 8" descr="MVC-030S"/>
          <p:cNvPicPr/>
          <p:nvPr/>
        </p:nvPicPr>
        <p:blipFill>
          <a:blip r:embed="rId4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45" name="Rectangle 9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nodeType="clickEffect" fill="hold">
                      <p:stCondLst>
                        <p:cond delay="0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7" name="Picture 3" descr="MVC-010S"/>
          <p:cNvPicPr/>
          <p:nvPr/>
        </p:nvPicPr>
        <p:blipFill>
          <a:blip r:embed="rId1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8" name="Picture 4" descr="MVC-002S"/>
          <p:cNvPicPr/>
          <p:nvPr/>
        </p:nvPicPr>
        <p:blipFill>
          <a:blip r:embed="rId2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9" name="Picture 6" descr="MVC-012S"/>
          <p:cNvPicPr/>
          <p:nvPr/>
        </p:nvPicPr>
        <p:blipFill>
          <a:blip r:embed="rId3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50" name="Picture 7" descr="MVC-003S"/>
          <p:cNvPicPr/>
          <p:nvPr/>
        </p:nvPicPr>
        <p:blipFill>
          <a:blip r:embed="rId4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51" name="Rectangle 8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nodeType="clickEffect" fill="hold">
                      <p:stCondLst>
                        <p:cond delay="0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3" name="Picture 3" descr="MVC-001S"/>
          <p:cNvPicPr/>
          <p:nvPr/>
        </p:nvPicPr>
        <p:blipFill>
          <a:blip r:embed="rId1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Picture 4" descr="MVC-004S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5" name="Picture 5" descr="MVC-007S"/>
          <p:cNvPicPr/>
          <p:nvPr/>
        </p:nvPicPr>
        <p:blipFill>
          <a:blip r:embed="rId3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56" name="Picture 6" descr="MVC-010S"/>
          <p:cNvPicPr/>
          <p:nvPr/>
        </p:nvPicPr>
        <p:blipFill>
          <a:blip r:embed="rId4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7" name="Rectangle 7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0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9" name="Picture 3" descr="MVC-011S"/>
          <p:cNvPicPr/>
          <p:nvPr/>
        </p:nvPicPr>
        <p:blipFill>
          <a:blip r:embed="rId1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60" name="Picture 5" descr="MVC-016S"/>
          <p:cNvPicPr/>
          <p:nvPr/>
        </p:nvPicPr>
        <p:blipFill>
          <a:blip r:embed="rId2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1" name="Picture 4" descr="MVC-014S"/>
          <p:cNvPicPr/>
          <p:nvPr/>
        </p:nvPicPr>
        <p:blipFill>
          <a:blip r:embed="rId3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62" name="Picture 6" descr="MVC-013S"/>
          <p:cNvPicPr/>
          <p:nvPr/>
        </p:nvPicPr>
        <p:blipFill>
          <a:blip r:embed="rId4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Rectangle 7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nodeType="clickEffect" fill="hold">
                      <p:stCondLst>
                        <p:cond delay="0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8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nodeType="clickEffect" fill="hold">
                      <p:stCondLst>
                        <p:cond delay="0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nodeType="clickEffect" fill="hold">
                      <p:stCondLst>
                        <p:cond delay="0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28600" y="1355760"/>
            <a:ext cx="8915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http://www.lbl.gov/MicroWorlds/ALSTool/EMSpec/EMSpec2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lbl.gov/MicroWorlds/ALSTool/EMSpec/EMSpec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http://www.physics.sfasu.edu/astro/color.html#linkshttp://www.physics.sfasu.edu/astro/color.html#lin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http://www.isc.tamu.edu/~astro/color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0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9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5" name="Picture 7" descr="molstruc"/>
          <p:cNvPicPr/>
          <p:nvPr/>
        </p:nvPicPr>
        <p:blipFill>
          <a:blip r:embed="rId1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7" name="Rectangle 10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nodeType="clickEffect" fill="hold">
                      <p:stCondLst>
                        <p:cond delay="0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86200" y="27428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9" name="Picture 5" descr="bd07311_"/>
          <p:cNvPicPr/>
          <p:nvPr/>
        </p:nvPicPr>
        <p:blipFill>
          <a:blip r:embed="rId1"/>
          <a:srcRect l="0" t="0" r="9429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0" name="Text Box 6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Picture 8" descr="em-rad"/>
          <p:cNvPicPr/>
          <p:nvPr/>
        </p:nvPicPr>
        <p:blipFill>
          <a:blip r:embed="rId1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3" name="Picture 5" descr="EMSpec"/>
          <p:cNvPicPr/>
          <p:nvPr/>
        </p:nvPicPr>
        <p:blipFill>
          <a:blip r:embed="rId1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7" name="Picture 6" descr="em-visib"/>
          <p:cNvPicPr/>
          <p:nvPr/>
        </p:nvPicPr>
        <p:blipFill>
          <a:blip r:embed="rId1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RomaK</cp:lastModifiedBy>
  <dcterms:modified xsi:type="dcterms:W3CDTF">2015-09-03T12:39:24Z</dcterms:modified>
  <cp:revision>93</cp:revision>
  <dc:subject/>
  <dc:title>LIGHT: What is it?</dc:title>
</cp:coreProperties>
</file>