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ADB7-9783-4E95-8FE6-F35A7E47D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525-C6D5-48D4-89B6-37D61B30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AB8-37B0-4D79-ABCE-EFC41A25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622-CF23-4A9B-9D47-144278DC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C55-5580-4CA9-ADA9-7F8214F0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8C2-00DF-47AF-8077-E8AC2704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7EF-E042-4D50-9C99-ED5C580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F45-0E52-4301-BEEC-11F7B511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1FB-FAF0-40BB-A006-B57CB507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FC7-6F53-4384-BE7E-A49BE155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D75-768B-4966-9579-B076209B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D06-5A59-475C-8311-C64A875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AAE-3491-468E-85C4-2A43F284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EFB6-F1B8-43AD-8982-CC17B410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5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8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X-Ray Bright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bright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se occur anywhere on the Sun at opposition of the active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aused by magnetic fields that are sucked down into the pho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oron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ol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unipolar magne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high-speed solar wind streams originate in coronal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terconnecting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large-scale magnetic loops connect two activ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interconnecting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rea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streamer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LA"/>
          <p:cNvPicPr/>
          <p:nvPr/>
        </p:nvPicPr>
        <p:blipFill>
          <a:blip r:embed="rId1"/>
          <a:stretch/>
        </p:blipFill>
        <p:spPr>
          <a:xfrm>
            <a:off x="609480" y="3200400"/>
            <a:ext cx="4648320" cy="283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fe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638680" y="388620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: Hawaii’s twin Keck observ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Keck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210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143000" y="23623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elow: New Mexico’s Very Larg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2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mg18"/>
          <p:cNvPicPr/>
          <p:nvPr/>
        </p:nvPicPr>
        <p:blipFill>
          <a:blip r:embed="rId1"/>
          <a:stretch/>
        </p:blipFill>
        <p:spPr>
          <a:xfrm>
            <a:off x="60948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lackspec"/>
          <p:cNvPicPr/>
          <p:nvPr/>
        </p:nvPicPr>
        <p:blipFill>
          <a:blip r:embed="rId1"/>
          <a:stretch/>
        </p:blipFill>
        <p:spPr>
          <a:xfrm>
            <a:off x="685800" y="4110120"/>
            <a:ext cx="4952880" cy="212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FG05_35E"/>
          <p:cNvPicPr/>
          <p:nvPr/>
        </p:nvPicPr>
        <p:blipFill>
          <a:blip r:embed="rId2"/>
          <a:stretch/>
        </p:blipFill>
        <p:spPr>
          <a:xfrm>
            <a:off x="914400" y="18288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791320" y="50292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 left, our galaxy in X-rays, above, a super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tychoSNR_rosat"/>
          <p:cNvPicPr/>
          <p:nvPr/>
        </p:nvPicPr>
        <p:blipFill>
          <a:blip r:embed="rId3"/>
          <a:stretch/>
        </p:blipFill>
        <p:spPr>
          <a:xfrm>
            <a:off x="5105520" y="1905120"/>
            <a:ext cx="3200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imes New Roman"/>
              </a:rPr>
              <a:t>The Observ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satlist2"/>
          <p:cNvPicPr/>
          <p:nvPr/>
        </p:nvPicPr>
        <p:blipFill>
          <a:blip r:embed="rId1"/>
          <a:srcRect l="0" t="0" r="0" b="6943"/>
          <a:stretch/>
        </p:blipFill>
        <p:spPr>
          <a:xfrm>
            <a:off x="1447920" y="24382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Yohkoh SXT &amp; Te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teemsxt"/>
          <p:cNvPicPr/>
          <p:nvPr/>
        </p:nvPicPr>
        <p:blipFill>
          <a:blip r:embed="rId1"/>
          <a:stretch/>
        </p:blipFill>
        <p:spPr>
          <a:xfrm>
            <a:off x="380880" y="2438280"/>
            <a:ext cx="5410440" cy="3159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19920" y="236232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Yohkoh Assemb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yohkoh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980" t="1190" r="980" b="0"/>
          <a:stretch/>
        </p:blipFill>
        <p:spPr>
          <a:xfrm>
            <a:off x="1371600" y="1066680"/>
            <a:ext cx="6324480" cy="525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677600" y="6613560"/>
            <a:ext cx="556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2d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Yohkoh X-Ray Pictur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ctive Reg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activ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aused by strong magnetic fields that may span up to 500,000 square kilome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rcade of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arcad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9:32Z</dcterms:modified>
  <cp:revision>14</cp:revision>
  <dc:subject/>
  <dc:title>PowerPoint Presentation</dc:title>
</cp:coreProperties>
</file>