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2A92-7EC6-42A2-A266-44B3C0AA5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Brigh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ccur anywhere on the Sun at opposition of the active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magnetic fields that are sucked down into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Brigh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ccur anywhere on the Sun at opposition of the active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magnetic fields that are sucked down into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polar magnetic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speed solar wind streams originate in coronal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polar magnetic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speed solar wind streams originate in coronal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onnecting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magnetic loops connect two active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onnecting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magnetic loops connect two active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: Hawaii’s twin Keck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: New Mexico’s Very Large 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: Hawaii’s twin Keck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: New Mexico’s Very Large 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left, our galaxy in X-rays, above, a super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left, our galaxy in X-rays, above, a super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SXT &amp; Te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SXT &amp; Te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Assem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Assem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X-Ray Pictur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X-Ray Pictur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e 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strong magnetic fields that may span up to 500,000 square kilome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e 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strong magnetic fields that may span up to 500,000 square kilome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ade of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ade of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9F6-17C2-480C-B8A7-97E296D8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642-80E4-4FB1-9A8C-DA355F87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B8EA-1B33-4AE3-A35A-92802141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BA8-8A3C-42CE-AD73-1770BB4A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AC79-9807-4CF0-80ED-34DB8154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BA6A-10BB-49DE-AD73-68BB65B7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B123-F75D-4D37-A4F3-C34319F6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3FC-8B35-4739-9E8B-04C110F9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63E-60A1-42C3-AD6C-3437FEF4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AAFA-2B46-46E6-9766-A0F045F0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5D0D-7856-4F29-AC72-7E70EAF7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8D41-FA66-4A16-9AD5-68239D24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FE82-1252-450D-BC0A-C1109311A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75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8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X-Ray Bright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bright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0024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These occur anywhere on the Sun at opposition of the active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Caused by magnetic fields that are sucked down into the phot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orona H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hol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002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unipolar magnetic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high-speed solar wind streams originate in coronal h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Interconnecting l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large-scale magnetic loops connect two active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interconnecting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Strea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242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streamer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Black hole"/>
          <p:cNvPicPr/>
          <p:nvPr/>
        </p:nvPicPr>
        <p:blipFill>
          <a:blip r:embed="rId1"/>
          <a:stretch/>
        </p:blipFill>
        <p:spPr>
          <a:xfrm>
            <a:off x="228600" y="2133720"/>
            <a:ext cx="3809880" cy="3754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maximsm"/>
          <p:cNvPicPr/>
          <p:nvPr/>
        </p:nvPicPr>
        <p:blipFill>
          <a:blip r:embed="rId2"/>
          <a:stretch/>
        </p:blipFill>
        <p:spPr>
          <a:xfrm>
            <a:off x="41148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VLA"/>
          <p:cNvPicPr/>
          <p:nvPr/>
        </p:nvPicPr>
        <p:blipFill>
          <a:blip r:embed="rId1"/>
          <a:stretch/>
        </p:blipFill>
        <p:spPr>
          <a:xfrm>
            <a:off x="609480" y="3200400"/>
            <a:ext cx="4648320" cy="2836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fer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638680" y="3886200"/>
            <a:ext cx="28958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bove: Hawaii’s twin Keck observa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Keck"/>
          <p:cNvPicPr/>
          <p:nvPr/>
        </p:nvPicPr>
        <p:blipFill>
          <a:blip r:embed="rId2"/>
          <a:stretch/>
        </p:blipFill>
        <p:spPr>
          <a:xfrm>
            <a:off x="4952880" y="1752480"/>
            <a:ext cx="3276720" cy="2106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1143000" y="23623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elow: New Mexico’s Very Larg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2" descr="Black hole"/>
          <p:cNvPicPr/>
          <p:nvPr/>
        </p:nvPicPr>
        <p:blipFill>
          <a:blip r:embed="rId1"/>
          <a:stretch/>
        </p:blipFill>
        <p:spPr>
          <a:xfrm>
            <a:off x="228600" y="2133720"/>
            <a:ext cx="3809880" cy="3754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maximsm"/>
          <p:cNvPicPr/>
          <p:nvPr/>
        </p:nvPicPr>
        <p:blipFill>
          <a:blip r:embed="rId2"/>
          <a:stretch/>
        </p:blipFill>
        <p:spPr>
          <a:xfrm>
            <a:off x="41148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img18"/>
          <p:cNvPicPr/>
          <p:nvPr/>
        </p:nvPicPr>
        <p:blipFill>
          <a:blip r:embed="rId1"/>
          <a:stretch/>
        </p:blipFill>
        <p:spPr>
          <a:xfrm>
            <a:off x="609480" y="47628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X-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blackspec"/>
          <p:cNvPicPr/>
          <p:nvPr/>
        </p:nvPicPr>
        <p:blipFill>
          <a:blip r:embed="rId1"/>
          <a:stretch/>
        </p:blipFill>
        <p:spPr>
          <a:xfrm>
            <a:off x="685800" y="4110120"/>
            <a:ext cx="4952880" cy="212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FG05_35E"/>
          <p:cNvPicPr/>
          <p:nvPr/>
        </p:nvPicPr>
        <p:blipFill>
          <a:blip r:embed="rId2"/>
          <a:stretch/>
        </p:blipFill>
        <p:spPr>
          <a:xfrm>
            <a:off x="914400" y="1828800"/>
            <a:ext cx="3352680" cy="2235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5791320" y="50292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bove left, our galaxy in X-rays, above, a super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tychoSNR_rosat"/>
          <p:cNvPicPr/>
          <p:nvPr/>
        </p:nvPicPr>
        <p:blipFill>
          <a:blip r:embed="rId3"/>
          <a:stretch/>
        </p:blipFill>
        <p:spPr>
          <a:xfrm>
            <a:off x="5105520" y="1905120"/>
            <a:ext cx="32004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Times New Roman"/>
              </a:rPr>
              <a:t>The Observ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satlist2"/>
          <p:cNvPicPr/>
          <p:nvPr/>
        </p:nvPicPr>
        <p:blipFill>
          <a:blip r:embed="rId1"/>
          <a:srcRect l="0" t="0" r="0" b="6943"/>
          <a:stretch/>
        </p:blipFill>
        <p:spPr>
          <a:xfrm>
            <a:off x="1447920" y="2438280"/>
            <a:ext cx="6095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Yohkoh SXT &amp; Tea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teemsxt"/>
          <p:cNvPicPr/>
          <p:nvPr/>
        </p:nvPicPr>
        <p:blipFill>
          <a:blip r:embed="rId1"/>
          <a:stretch/>
        </p:blipFill>
        <p:spPr>
          <a:xfrm>
            <a:off x="380880" y="2438280"/>
            <a:ext cx="5410440" cy="3159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19920" y="2362320"/>
            <a:ext cx="3124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Spe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Yohkoh Assembl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yohkoh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rcRect l="980" t="1190" r="980" b="0"/>
          <a:stretch/>
        </p:blipFill>
        <p:spPr>
          <a:xfrm>
            <a:off x="1371600" y="1066680"/>
            <a:ext cx="6324480" cy="5254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1677600" y="6613560"/>
            <a:ext cx="556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2d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Yohkoh X-Ray Picture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The 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Active Reg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activ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24280" y="2362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Caused by strong magnetic fields that may span up to 500,000 square kilome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Arcade of l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arcad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39:32Z</dcterms:modified>
  <cp:revision>14</cp:revision>
  <dc:subject/>
  <dc:title>PowerPoint Presentation</dc:title>
</cp:coreProperties>
</file>