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6BEF-9047-467F-B1A0-036DDDA77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Brigh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ccur anywhere on the Sun at opposition of the active reg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magnetic fields that are sucked down into the 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 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polar magnet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-speed solar wind streams originate in coronal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connecting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magnetic loops connect two active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a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fer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: Hawaii’s twin Keck observa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: New Mexico’s Very Large Ar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left, our galaxy in X-rays, above, a supern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SXT &amp; Te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Assemb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hkoh X-Ray Pictures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e Reg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d by strong magnetic fields that may span up to 500,000 square kilome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cade of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D443-9C2D-432E-94E8-32108B232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8C90-E346-44A9-9AC5-CEA942E1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B1BA-6158-4932-9C5A-F1F0580DD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186E-F8E0-45F7-811D-5E34322A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12A1-86B8-4825-A4A6-8CF7DED7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B4C1-E72D-4C45-A27D-FA62E3BB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94B-13B4-4B84-AB7D-0BF51C2F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5A2E-32D6-456F-B6D7-52532780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DD3F-7985-49DD-92A1-C1AD7BCB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2FC-047A-44B2-9825-2F7117AC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7AFB-8F90-4C5B-8524-5654E852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CF5-8596-4187-A5D3-548E2942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591F-BCD2-45EC-9676-7DBF612B6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7500" spc="-1" strike="noStrike">
                <a:solidFill>
                  <a:srgbClr val="ff6600"/>
                </a:solidFill>
                <a:latin typeface="Times New Roman"/>
              </a:rPr>
              <a:t>X</a:t>
            </a:r>
            <a:endParaRPr b="0" lang="en-US" sz="8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X-Ray Bright Po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bright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00240" y="2438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These occur anywhere on the Sun at opposition of the active reg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Caused by magnetic fields that are sucked down into the photosp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orona H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hol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0024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unipolar magnetic 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high-speed solar wind streams originate in coronal h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Interconnecting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large-scale magnetic loops connect two active reg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"emerging flux": magnetic loops push their way through the photosphere and appear in the cor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7" descr="interconnecting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Stream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24280" y="27432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The result of two opposed arcades resulting in explosions of x-rays from the s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7" descr="streamer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VLA"/>
          <p:cNvPicPr/>
          <p:nvPr/>
        </p:nvPicPr>
        <p:blipFill>
          <a:blip r:embed="rId1"/>
          <a:stretch/>
        </p:blipFill>
        <p:spPr>
          <a:xfrm>
            <a:off x="609480" y="3200400"/>
            <a:ext cx="4648320" cy="2836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fer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638680" y="3886200"/>
            <a:ext cx="2895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: Hawaii’s twin Keck observ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Keck"/>
          <p:cNvPicPr/>
          <p:nvPr/>
        </p:nvPicPr>
        <p:blipFill>
          <a:blip r:embed="rId2"/>
          <a:stretch/>
        </p:blipFill>
        <p:spPr>
          <a:xfrm>
            <a:off x="4952880" y="1752480"/>
            <a:ext cx="3276720" cy="21067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9"/>
          <p:cNvSpPr/>
          <p:nvPr/>
        </p:nvSpPr>
        <p:spPr>
          <a:xfrm>
            <a:off x="1143000" y="23623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Below: New Mexico’s Very Larg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2" descr="Black hole"/>
          <p:cNvPicPr/>
          <p:nvPr/>
        </p:nvPicPr>
        <p:blipFill>
          <a:blip r:embed="rId1"/>
          <a:stretch/>
        </p:blipFill>
        <p:spPr>
          <a:xfrm>
            <a:off x="228600" y="2133720"/>
            <a:ext cx="3809880" cy="3754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maximsm"/>
          <p:cNvPicPr/>
          <p:nvPr/>
        </p:nvPicPr>
        <p:blipFill>
          <a:blip r:embed="rId2"/>
          <a:stretch/>
        </p:blipFill>
        <p:spPr>
          <a:xfrm>
            <a:off x="4114800" y="20574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X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mg18"/>
          <p:cNvPicPr/>
          <p:nvPr/>
        </p:nvPicPr>
        <p:blipFill>
          <a:blip r:embed="rId1"/>
          <a:stretch/>
        </p:blipFill>
        <p:spPr>
          <a:xfrm>
            <a:off x="609480" y="476280"/>
            <a:ext cx="769644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X-Ray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blackspec"/>
          <p:cNvPicPr/>
          <p:nvPr/>
        </p:nvPicPr>
        <p:blipFill>
          <a:blip r:embed="rId1"/>
          <a:stretch/>
        </p:blipFill>
        <p:spPr>
          <a:xfrm>
            <a:off x="685800" y="4110120"/>
            <a:ext cx="4952880" cy="2122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FG05_35E"/>
          <p:cNvPicPr/>
          <p:nvPr/>
        </p:nvPicPr>
        <p:blipFill>
          <a:blip r:embed="rId2"/>
          <a:stretch/>
        </p:blipFill>
        <p:spPr>
          <a:xfrm>
            <a:off x="914400" y="1828800"/>
            <a:ext cx="3352680" cy="22352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2"/>
          <p:cNvSpPr/>
          <p:nvPr/>
        </p:nvSpPr>
        <p:spPr>
          <a:xfrm>
            <a:off x="5791320" y="502920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Above left, our galaxy in X-rays, above, a super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6" descr="tychoSNR_rosat"/>
          <p:cNvPicPr/>
          <p:nvPr/>
        </p:nvPicPr>
        <p:blipFill>
          <a:blip r:embed="rId3"/>
          <a:stretch/>
        </p:blipFill>
        <p:spPr>
          <a:xfrm>
            <a:off x="5105520" y="1905120"/>
            <a:ext cx="32004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Times New Roman"/>
              </a:rPr>
              <a:t>The Observa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satlist2"/>
          <p:cNvPicPr/>
          <p:nvPr/>
        </p:nvPicPr>
        <p:blipFill>
          <a:blip r:embed="rId1"/>
          <a:srcRect l="0" t="0" r="0" b="6943"/>
          <a:stretch/>
        </p:blipFill>
        <p:spPr>
          <a:xfrm>
            <a:off x="1447920" y="2438280"/>
            <a:ext cx="6095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Times New Roman"/>
              </a:rPr>
              <a:t>Yohkoh SXT &amp; Team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6" descr="teemsxt"/>
          <p:cNvPicPr/>
          <p:nvPr/>
        </p:nvPicPr>
        <p:blipFill>
          <a:blip r:embed="rId1"/>
          <a:stretch/>
        </p:blipFill>
        <p:spPr>
          <a:xfrm>
            <a:off x="380880" y="2438280"/>
            <a:ext cx="5410440" cy="3159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19920" y="2362320"/>
            <a:ext cx="312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Times New Roman"/>
              </a:rPr>
              <a:t>1.54m focal length provides images from the .25 to 4.5 keV on a 1024x1024 cdc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Yohkoh Assembl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7" descr="yohkoh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"/>
          <p:cNvPicPr/>
          <p:nvPr/>
        </p:nvPicPr>
        <p:blipFill>
          <a:blip r:embed="rId1"/>
          <a:srcRect l="980" t="1190" r="980" b="0"/>
          <a:stretch/>
        </p:blipFill>
        <p:spPr>
          <a:xfrm>
            <a:off x="1371600" y="1066680"/>
            <a:ext cx="6324480" cy="5254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1677600" y="6613560"/>
            <a:ext cx="556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2d00"/>
                </a:solidFill>
                <a:latin typeface="Times New Roman"/>
              </a:rPr>
              <a:t>http://www.sciamarchive.org/qpdf.cfm?ArticleID_CHAR=275CD5E3-0A46-47CE-85FE-83E874D98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Times New Roman"/>
              </a:rPr>
              <a:t>Yohkoh X-Ray Pictur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The Coro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ctive Regi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activ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24280" y="23623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Times New Roman"/>
              </a:rPr>
              <a:t>Caused by strong magnetic fields that may span up to 500,000 square kilomete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Arcade of loo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arcade2"/>
          <p:cNvPicPr/>
          <p:nvPr/>
        </p:nvPicPr>
        <p:blipFill>
          <a:blip r:embed="rId1"/>
          <a:stretch/>
        </p:blipFill>
        <p:spPr>
          <a:xfrm>
            <a:off x="685800" y="2705040"/>
            <a:ext cx="3809880" cy="2667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6600"/>
                </a:solidFill>
                <a:latin typeface="Times New Roman"/>
              </a:rPr>
              <a:t>An "arcade" is a system of magnetic loops organized into an elongated cylindrical formation. Often such an arcade will result from a slowly-developing solar flare or a coronal mass ejection (or both). The bright arcade may persist for days or longer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9:32Z</dcterms:modified>
  <cp:revision>14</cp:revision>
  <dc:subject/>
  <dc:title>PowerPoint Presentation</dc:title>
</cp:coreProperties>
</file>