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8F4-AC36-4FFC-926E-CE2F305BD5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56B-4BEA-44B2-80C3-07F540D4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E12-E281-43B4-976B-6E855941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9FC-BA7A-4026-A7AF-AE6B48ED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F78-A63E-47E5-83F7-C57031D2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DA0-7A7A-476D-A9FD-D863505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877-D805-4586-834A-094E0C72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375-4894-4BC8-9BE6-6258AAE0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A8A-8C37-4819-B8C0-019C7B0C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CF3-DF8C-4AA9-85D8-8F66CDC4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12A-9319-4F40-B24E-31449158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62E-FB6F-4842-882F-6284D631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01E-49FE-4520-9E39-3E07830D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EB3D-3418-42B8-9956-4F99D44CA0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684360" y="3645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2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8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LEGION2</cp:lastModifiedBy>
  <dcterms:modified xsi:type="dcterms:W3CDTF">2015-12-14T11:21:54Z</dcterms:modified>
  <cp:revision>10</cp:revision>
  <dc:subject/>
  <dc:title>Slide 1</dc:title>
</cp:coreProperties>
</file>