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8779-1680-4372-A708-9288CBC07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271-B7ED-4A12-A0E8-319545C6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541-F9FF-46D2-81B2-173FC3D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495-B86D-432D-98BA-CEAEA6F6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4D9-5A1C-4C82-A6DB-B8859F23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A0D-A817-4C43-982C-A45EC0ED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004-6893-467E-B233-6B8379F1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A7D-570E-4EA8-9B1D-E3D2F95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BD5-A553-4279-B844-BFF5A7EA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030-8CB9-41D4-B9B9-54BABBF7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859-77D2-45A2-A0E9-00A33D8E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6CB-24A1-4F47-A950-9C7C97B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551-3BA8-4AA0-8370-DCE06E2E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CE35-A40B-4D2D-A601-460473C41F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684360" y="3645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2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8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LEGION2</cp:lastModifiedBy>
  <dcterms:modified xsi:type="dcterms:W3CDTF">2015-12-14T11:21:54Z</dcterms:modified>
  <cp:revision>10</cp:revision>
  <dc:subject/>
  <dc:title>Slide 1</dc:title>
</cp:coreProperties>
</file>