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AA8B-491A-42AE-A765-D6EE4E3881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in which an organism li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the kinds of food and shelter, the temperature, and the amount of moisture the organism needs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a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 caused by population growth affects many organisms, including hum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populatio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that restricts the number of individuals in a pop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living and nonliving features of the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, gradual changes in the types of species that live in an area; can be primary or second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begins in a place without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– where soil already ex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the interactions that take place among organisms and their enviro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m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oneer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rganisms, such as lichens, found in the primary stage of succession and that begin an area's soil-building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x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munity that has reached a stable stage of ecological succ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geographic areas with similar climates and eco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rain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rain forest, and grass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 of Earth that support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ortion of Earth'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waters that cover Earth'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 that surround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living in an area and the nonliving features of their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in an ecosystem that belong to the same spe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populations in an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E329-8B92-4BE4-83B5-113FC9EF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80FF-DA4F-4D9C-B536-77FF7D04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03B1-1FC4-4718-85A0-4D5534AC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139D-3E7D-4981-99B9-D1B281BE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3D3B-22C9-4AA1-A1CA-ADDBE2BE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242C-EEE5-4D0A-8967-A224A9FF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C906-1B12-417B-B895-408B3BFE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D517-31CB-4B1A-8E55-28FE71F7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B91B-49B8-41CC-B4C4-D2E11C76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C39F-1E7B-4C99-9E2B-0FD3C06E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9B5F-E38B-4E8A-AF64-F3793BE3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500-650C-43D1-ADD9-331716B6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D855-D479-4C63-9F36-DF37ED9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F8F6-C598-4CE0-AD5C-5D64A1F7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C04-B1AE-40D5-92AB-37897992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33B4-11D1-456C-89D9-348A2007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9758-A645-4269-A878-2E24D607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0EB-9665-486F-BCD1-F896A547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1AAD-E84E-4B4F-81DE-B92323E7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2303-2336-490B-8DCE-6CCB69D5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6EB-A7F8-4172-8F24-C54D9C2D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0C3D-2425-4BF4-AF22-1043DA5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175-83E3-4AED-A39E-A119EBC4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14FC-3CAF-4DB6-8581-0B4002DD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BD4B-5EA3-4DFC-A558-B6A77C513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A089-A923-477F-A0D3-584386D2BF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hizanthes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ield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desert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s35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uccession6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salieur3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6" descr="fire-crop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rimary_succession_in_shade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SuccessionPond02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iombrkcol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iosphere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weedyfield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0083443"/>
          <p:cNvPicPr/>
          <p:nvPr/>
        </p:nvPicPr>
        <p:blipFill>
          <a:blip r:embed="rId1"/>
          <a:stretch/>
        </p:blipFill>
        <p:spPr>
          <a:xfrm>
            <a:off x="196920" y="0"/>
            <a:ext cx="8982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LEGION2</cp:lastModifiedBy>
  <dcterms:modified xsi:type="dcterms:W3CDTF">2015-12-14T11:25:58Z</dcterms:modified>
  <cp:revision>38</cp:revision>
  <dc:subject/>
  <dc:title>Ecology</dc:title>
</cp:coreProperties>
</file>