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3B84-8148-455D-AEAA-96071E3345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c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in which an organism li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the kinds of food and shelter, the temperature, and the amount of moisture the organism needs to surv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pa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 caused by population growth affects many organisms, including hum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populatio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that restricts the number of individuals in a pop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living and nonliving features of the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, gradual changes in the types of species that live in an area; can be primary or seconda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– begins in a place without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ary – where soil already ex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y of the interactions that take place among organisms and their enviro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im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cond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oneer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organisms, such as lichens, found in the primary stage of succession and that begin an area's soil-building proc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x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munity that has reached a stable stage of ecological succ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geographic areas with similar climates and eco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rain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opical rain forest, and grass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rt of Earth that support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portion of Earth's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waters that cover Earth'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e that surround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living in an area and the nonliving features of their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in an ecosystem that belong to the same spec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populations in an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8F5-350E-453E-BAF8-D527E87A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5F3-432B-4FE9-B29F-478E0E33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8C7-DE6F-4A94-A109-EDA63435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860-E9A4-4BB0-97DB-107FC127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E70B-47A3-4EA5-AAAD-3DF26E82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4E6B-9424-4631-8C0B-CA458FDA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5728-7B97-40B5-8C4B-A47CFF3F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5C35-DA3F-4CD0-8184-9E48BB09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D249-EFBF-43A3-85AB-7CC3D686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DB2E-0B9A-4AFB-8990-1A4F1DF3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3796-F1C4-4751-B80F-4072B1D4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C62-A269-4FB5-A0A6-1071784D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80BD-19B3-4747-81EC-33946B45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A9DA-5D17-440E-BD3D-9ADF766F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B79C-3A16-4D22-A111-F3BEC40D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9778-8FBA-4260-8590-BF7D3A2E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D034-A18F-437A-90D8-C2978795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EB2-7BEC-400F-9389-BEF5A91E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CFC-8221-4165-81D4-AFB3D7FC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D68-4D38-456B-BEA3-01A0D8AF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11A-6B4E-4A2C-A60A-C6FEF692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040-7242-4C03-AE7E-6DA720E1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EEC-4184-42E0-BA61-4F7A1C6A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873-21A0-4459-B337-2E9D73E0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F4D3-9765-42FA-A064-B93944648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DE1A-D327-4726-8593-E9CAB295B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c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bita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lace in which an organism liv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the kinds of food and shelter, the temperature, and the amount of moisture the organism needs to surv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Rhizanthes"/>
          <p:cNvPicPr/>
          <p:nvPr/>
        </p:nvPicPr>
        <p:blipFill>
          <a:blip r:embed="rId1"/>
          <a:stretch/>
        </p:blipFill>
        <p:spPr>
          <a:xfrm>
            <a:off x="2057400" y="380880"/>
            <a:ext cx="504684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etition caused by population growth affects many organisms, including huma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s population siz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ield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600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ing Fact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thing that restricts the number of individuals in a popul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es living and nonliving features of the ecosyste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desert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9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ural, gradual changes in the types of species that live in an area; can be primary or seconda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– begins in a place without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– where soil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s35"/>
          <p:cNvPicPr/>
          <p:nvPr/>
        </p:nvPicPr>
        <p:blipFill>
          <a:blip r:embed="rId1"/>
          <a:stretch/>
        </p:blipFill>
        <p:spPr>
          <a:xfrm>
            <a:off x="762120" y="1122480"/>
            <a:ext cx="7924680" cy="4797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uccession6"/>
          <p:cNvPicPr/>
          <p:nvPr/>
        </p:nvPicPr>
        <p:blipFill>
          <a:blip r:embed="rId1"/>
          <a:stretch/>
        </p:blipFill>
        <p:spPr>
          <a:xfrm>
            <a:off x="457200" y="960480"/>
            <a:ext cx="8077320" cy="48466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study of the interactions that take place among organisms and their environment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4" descr="salieur3"/>
          <p:cNvPicPr/>
          <p:nvPr/>
        </p:nvPicPr>
        <p:blipFill>
          <a:blip r:embed="rId1"/>
          <a:stretch/>
        </p:blipFill>
        <p:spPr>
          <a:xfrm>
            <a:off x="3035160" y="1371600"/>
            <a:ext cx="3770280" cy="54864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Picture 6" descr="fire-crop"/>
          <p:cNvPicPr/>
          <p:nvPr/>
        </p:nvPicPr>
        <p:blipFill>
          <a:blip r:embed="rId1"/>
          <a:stretch/>
        </p:blipFill>
        <p:spPr>
          <a:xfrm>
            <a:off x="2438280" y="1905120"/>
            <a:ext cx="4684680" cy="4597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oneer spec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oup of organisms, such as lichens, found in the primary stage of succession and that begin an area's soil-building proce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primary_succession_in_shade"/>
          <p:cNvPicPr/>
          <p:nvPr/>
        </p:nvPicPr>
        <p:blipFill>
          <a:blip r:embed="rId1"/>
          <a:stretch/>
        </p:blipFill>
        <p:spPr>
          <a:xfrm>
            <a:off x="1066680" y="836640"/>
            <a:ext cx="7315200" cy="5487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max 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mmunity that has reached a stable stage of ecological succes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SuccessionPond02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164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geographic areas with similar climates and eco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biombrkcol"/>
          <p:cNvPicPr/>
          <p:nvPr/>
        </p:nvPicPr>
        <p:blipFill>
          <a:blip r:embed="rId1"/>
          <a:stretch/>
        </p:blipFill>
        <p:spPr>
          <a:xfrm>
            <a:off x="380880" y="560520"/>
            <a:ext cx="8382240" cy="57355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lu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deciduous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opical rain forest, and grassl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sphe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rt of Earth that supports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p portion of Earth's cr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waters that cover Earth's su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mosphere that surrounds Ear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biosphere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5838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living in an area and the nonliving features of their enviro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pul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in an ecosystem that belong to the same spec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weedyfield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populations in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00083443"/>
          <p:cNvPicPr/>
          <p:nvPr/>
        </p:nvPicPr>
        <p:blipFill>
          <a:blip r:embed="rId1"/>
          <a:stretch/>
        </p:blipFill>
        <p:spPr>
          <a:xfrm>
            <a:off x="196920" y="0"/>
            <a:ext cx="8982000" cy="6095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8:12:26Z</dcterms:created>
  <dc:creator>TMLDR_POARCH</dc:creator>
  <dc:description/>
  <dc:language>en-US</dc:language>
  <cp:lastModifiedBy>LEGION2</cp:lastModifiedBy>
  <dcterms:modified xsi:type="dcterms:W3CDTF">2015-12-14T11:25:58Z</dcterms:modified>
  <cp:revision>38</cp:revision>
  <dc:subject/>
  <dc:title>Ecology</dc:title>
</cp:coreProperties>
</file>