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11.jpeg" ContentType="image/jpeg"/>
  <Override PartName="/ppt/media/image13.png" ContentType="image/pn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move the slid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F8970-D328-4F3D-B9BD-CA30C5C177D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colo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bita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lace in which an organism live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vides the kinds of food and shelter, the temperature, and the amount of moisture the organism needs to surviv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ompet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oo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pace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et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etition caused by population growth affects many organisms, including human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mits population siz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miting Facto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ything that restricts the number of individuals in a populatio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cludes living and nonliving features of the ecosystem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cces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tural, gradual changes in the types of species that live in an area; can be primary or secondary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imary – begins in a place without soi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condary – where soil already exis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tudy of the interactions that take place among organisms and their environmen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rimary Succes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econdary Succes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ioneer spec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group of organisms, such as lichens, found in the primary stage of succession and that begin an area's soil-building proces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max commun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community that has reached a stable stage of ecological successio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o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rge geographic areas with similar climates and ecosyste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clud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undr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aig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ser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erate deciduous for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erate rain for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opical rain forest, and grasslan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ospher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art of Earth that supports lif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p portion of Earth's cru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 the waters that cover Earth's surf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mosphere that surrounds Eart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cosyst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 the organisms living in an area and the nonliving features of their environ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pul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 the organisms in an ecosystem that belong to the same specie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mun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 the populations in an ecosystem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B90F7-10EA-4D10-A5E5-5A687F34C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C4072-C2DD-4D75-B204-2923641BB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36225-C55B-4899-A171-908F45454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C5DC7-8477-4017-AEFD-78D6E0BFD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65523-3C1F-45FB-BD7F-AD216F1A8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F2C4A-64D7-49B7-B9BF-BB1056C0D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4AE97-F624-487A-9FA6-73B58D934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E8221-7E08-402F-893F-7EA85A992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57460-C16E-4B4D-9C48-E54DBB942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0DCB1-1D8C-4784-81B0-D424EAF79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42C78-B63B-46DD-991F-A7CC6104A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6A958-36CA-452E-A5E9-98835EB8F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C9C5D-E11A-4344-BCC9-CD5C24384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736E4-505E-4D39-9AFE-325E83855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E07F7-6617-49DF-9FF9-8A66A5463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E79EA-5911-4085-8CD9-8295C7B78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29144-A66A-4D71-9F53-6F4210D12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DE073-C8A8-4C96-B119-E452CDE4C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4858F-A8A2-43BE-B7F8-8039512A7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D3797-E2D5-49FC-B088-10ADD91E0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6A64A-F342-44D8-8D73-0394E318A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FCFE0-90FE-4F67-AD9C-872FEA16A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65271-4A6F-4518-9BFB-D342C590F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425DB-312E-4DE8-979D-E9F8B6F6B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F8418-6E15-4637-A3BF-E0C019733F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8FD5E-BC09-400F-B709-B85F2D55740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Ecology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6" name="Місце для нижнього колонтитула 1"/>
          <p:cNvSpPr/>
          <p:nvPr/>
        </p:nvSpPr>
        <p:spPr>
          <a:xfrm>
            <a:off x="346860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Habitat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The place in which an organism lives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rovides the kinds of food and shelter, the temperature, and the amount of moisture the organism needs to survive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5" descr="Rhizanthes"/>
          <p:cNvPicPr/>
          <p:nvPr/>
        </p:nvPicPr>
        <p:blipFill>
          <a:blip r:embed="rId1"/>
          <a:stretch/>
        </p:blipFill>
        <p:spPr>
          <a:xfrm>
            <a:off x="2057400" y="380880"/>
            <a:ext cx="5046840" cy="6172200"/>
          </a:xfrm>
          <a:prstGeom prst="rect">
            <a:avLst/>
          </a:prstGeom>
          <a:ln w="0">
            <a:noFill/>
          </a:ln>
        </p:spPr>
      </p:pic>
      <p:sp>
        <p:nvSpPr>
          <p:cNvPr id="131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ompetition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ace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ompetition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mpetition caused by population growth affects many organisms, including humans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imits population size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5" descr="field"/>
          <p:cNvPicPr/>
          <p:nvPr/>
        </p:nvPicPr>
        <p:blipFill>
          <a:blip r:embed="rId1"/>
          <a:stretch/>
        </p:blipFill>
        <p:spPr>
          <a:xfrm>
            <a:off x="914400" y="685800"/>
            <a:ext cx="7467480" cy="5600880"/>
          </a:xfrm>
          <a:prstGeom prst="rect">
            <a:avLst/>
          </a:prstGeom>
          <a:ln w="0">
            <a:noFill/>
          </a:ln>
        </p:spPr>
      </p:pic>
      <p:sp>
        <p:nvSpPr>
          <p:cNvPr id="139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Limiting Factor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ything that restricts the number of individuals in a population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cludes living and nonliving features of the ecosystem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5" descr="desert"/>
          <p:cNvPicPr/>
          <p:nvPr/>
        </p:nvPicPr>
        <p:blipFill>
          <a:blip r:embed="rId1"/>
          <a:stretch/>
        </p:blipFill>
        <p:spPr>
          <a:xfrm>
            <a:off x="914400" y="762120"/>
            <a:ext cx="7391520" cy="5259240"/>
          </a:xfrm>
          <a:prstGeom prst="rect">
            <a:avLst/>
          </a:prstGeom>
          <a:ln w="0">
            <a:noFill/>
          </a:ln>
        </p:spPr>
      </p:pic>
      <p:sp>
        <p:nvSpPr>
          <p:cNvPr id="144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Succession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Natural, gradual changes in the types of species that live in an area; can be primary or secondary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imary – begins in a place without so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ary – where soil already exi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6" descr="s35"/>
          <p:cNvPicPr/>
          <p:nvPr/>
        </p:nvPicPr>
        <p:blipFill>
          <a:blip r:embed="rId1"/>
          <a:stretch/>
        </p:blipFill>
        <p:spPr>
          <a:xfrm>
            <a:off x="762120" y="1122480"/>
            <a:ext cx="7924680" cy="4797360"/>
          </a:xfrm>
          <a:prstGeom prst="rect">
            <a:avLst/>
          </a:prstGeom>
          <a:ln w="0">
            <a:noFill/>
          </a:ln>
        </p:spPr>
      </p:pic>
      <p:sp>
        <p:nvSpPr>
          <p:cNvPr id="149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5" descr="succession6"/>
          <p:cNvPicPr/>
          <p:nvPr/>
        </p:nvPicPr>
        <p:blipFill>
          <a:blip r:embed="rId1"/>
          <a:stretch/>
        </p:blipFill>
        <p:spPr>
          <a:xfrm>
            <a:off x="457200" y="960480"/>
            <a:ext cx="8077320" cy="4846680"/>
          </a:xfrm>
          <a:prstGeom prst="rect">
            <a:avLst/>
          </a:prstGeom>
          <a:ln w="0">
            <a:noFill/>
          </a:ln>
        </p:spPr>
      </p:pic>
      <p:sp>
        <p:nvSpPr>
          <p:cNvPr id="151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b7"/>
                </a:solidFill>
                <a:latin typeface="Arial Black"/>
              </a:rPr>
              <a:t>The study of the interactions that take place among organisms and their environment 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8" name="Місце для нижнього колонтитула 1"/>
          <p:cNvSpPr/>
          <p:nvPr/>
        </p:nvSpPr>
        <p:spPr>
          <a:xfrm>
            <a:off x="346860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rimary Succession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53" name="Picture 4" descr="salieur3"/>
          <p:cNvPicPr/>
          <p:nvPr/>
        </p:nvPicPr>
        <p:blipFill>
          <a:blip r:embed="rId1"/>
          <a:stretch/>
        </p:blipFill>
        <p:spPr>
          <a:xfrm>
            <a:off x="3035160" y="1371600"/>
            <a:ext cx="3770280" cy="5486400"/>
          </a:xfrm>
          <a:prstGeom prst="rect">
            <a:avLst/>
          </a:prstGeom>
          <a:ln w="0">
            <a:noFill/>
          </a:ln>
        </p:spPr>
      </p:pic>
      <p:sp>
        <p:nvSpPr>
          <p:cNvPr id="154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Secondary Succession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56" name="Picture 6" descr="fire-crop"/>
          <p:cNvPicPr/>
          <p:nvPr/>
        </p:nvPicPr>
        <p:blipFill>
          <a:blip r:embed="rId1"/>
          <a:stretch/>
        </p:blipFill>
        <p:spPr>
          <a:xfrm>
            <a:off x="2438280" y="1905120"/>
            <a:ext cx="4684680" cy="4597200"/>
          </a:xfrm>
          <a:prstGeom prst="rect">
            <a:avLst/>
          </a:prstGeom>
          <a:ln w="0">
            <a:noFill/>
          </a:ln>
        </p:spPr>
      </p:pic>
      <p:sp>
        <p:nvSpPr>
          <p:cNvPr id="157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ioneer specie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 group of organisms, such as lichens, found in the primary stage of succession and that begin an area's soil-building process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6" descr="primary_succession_in_shade"/>
          <p:cNvPicPr/>
          <p:nvPr/>
        </p:nvPicPr>
        <p:blipFill>
          <a:blip r:embed="rId1"/>
          <a:stretch/>
        </p:blipFill>
        <p:spPr>
          <a:xfrm>
            <a:off x="1066680" y="836640"/>
            <a:ext cx="7315200" cy="5487840"/>
          </a:xfrm>
          <a:prstGeom prst="rect">
            <a:avLst/>
          </a:prstGeom>
          <a:ln w="0">
            <a:noFill/>
          </a:ln>
        </p:spPr>
      </p:pic>
      <p:sp>
        <p:nvSpPr>
          <p:cNvPr id="162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max community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 community that has reached a stable stage of ecological succession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6" descr="SuccessionPond02"/>
          <p:cNvPicPr/>
          <p:nvPr/>
        </p:nvPicPr>
        <p:blipFill>
          <a:blip r:embed="rId1"/>
          <a:stretch/>
        </p:blipFill>
        <p:spPr>
          <a:xfrm>
            <a:off x="533520" y="762120"/>
            <a:ext cx="7924680" cy="5216400"/>
          </a:xfrm>
          <a:prstGeom prst="rect">
            <a:avLst/>
          </a:prstGeom>
          <a:ln w="0">
            <a:noFill/>
          </a:ln>
        </p:spPr>
      </p:pic>
      <p:sp>
        <p:nvSpPr>
          <p:cNvPr id="167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Biom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arge geographic areas with similar climates and ecosystem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5" descr="biombrkcol"/>
          <p:cNvPicPr/>
          <p:nvPr/>
        </p:nvPicPr>
        <p:blipFill>
          <a:blip r:embed="rId1"/>
          <a:stretch/>
        </p:blipFill>
        <p:spPr>
          <a:xfrm>
            <a:off x="380880" y="560520"/>
            <a:ext cx="8382240" cy="5735520"/>
          </a:xfrm>
          <a:prstGeom prst="rect">
            <a:avLst/>
          </a:prstGeom>
          <a:ln w="0">
            <a:noFill/>
          </a:ln>
        </p:spPr>
      </p:pic>
      <p:sp>
        <p:nvSpPr>
          <p:cNvPr id="172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Include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80520" y="1904760"/>
            <a:ext cx="84646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undr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aig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eser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emperate deciduous fores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emperate rain fores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opical rain forest, and grassland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Biosphere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part of Earth that supports lif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op portion of Earth's cru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ll the waters that cover Earth's surfac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tmosphere that surrounds Earth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5" descr="biosphere"/>
          <p:cNvPicPr/>
          <p:nvPr/>
        </p:nvPicPr>
        <p:blipFill>
          <a:blip r:embed="rId1"/>
          <a:stretch/>
        </p:blipFill>
        <p:spPr>
          <a:xfrm>
            <a:off x="1295280" y="457200"/>
            <a:ext cx="6782040" cy="5838840"/>
          </a:xfrm>
          <a:prstGeom prst="rect">
            <a:avLst/>
          </a:prstGeom>
          <a:ln w="0">
            <a:noFill/>
          </a:ln>
        </p:spPr>
      </p:pic>
      <p:sp>
        <p:nvSpPr>
          <p:cNvPr id="113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Ecosystem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ll the organisms living in an area and the nonliving features of their environ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opulation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ll the organisms in an ecosystem that belong to the same species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5" descr="weedyfield"/>
          <p:cNvPicPr/>
          <p:nvPr/>
        </p:nvPicPr>
        <p:blipFill>
          <a:blip r:embed="rId1"/>
          <a:stretch/>
        </p:blipFill>
        <p:spPr>
          <a:xfrm>
            <a:off x="762120" y="880920"/>
            <a:ext cx="7619760" cy="5096160"/>
          </a:xfrm>
          <a:prstGeom prst="rect">
            <a:avLst/>
          </a:prstGeom>
          <a:ln w="0">
            <a:noFill/>
          </a:ln>
        </p:spPr>
      </p:pic>
      <p:sp>
        <p:nvSpPr>
          <p:cNvPr id="121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ommunity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ll the populations in an ecosyste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7" descr="00083443"/>
          <p:cNvPicPr/>
          <p:nvPr/>
        </p:nvPicPr>
        <p:blipFill>
          <a:blip r:embed="rId1"/>
          <a:stretch/>
        </p:blipFill>
        <p:spPr>
          <a:xfrm>
            <a:off x="196920" y="0"/>
            <a:ext cx="8982000" cy="6095880"/>
          </a:xfrm>
          <a:prstGeom prst="rect">
            <a:avLst/>
          </a:prstGeom>
          <a:ln w="0">
            <a:noFill/>
          </a:ln>
        </p:spPr>
      </p:pic>
      <p:sp>
        <p:nvSpPr>
          <p:cNvPr id="126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5T18:12:26Z</dcterms:created>
  <dc:creator>TMLDR_POARCH</dc:creator>
  <dc:description/>
  <dc:language>en-US</dc:language>
  <cp:lastModifiedBy>LEGION2</cp:lastModifiedBy>
  <dcterms:modified xsi:type="dcterms:W3CDTF">2015-12-14T11:25:58Z</dcterms:modified>
  <cp:revision>38</cp:revision>
  <dc:subject/>
  <dc:title>Ecology</dc:title>
</cp:coreProperties>
</file>