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0D5C-3854-4595-82FA-5F1F84EF47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in which an organism li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the kinds of food and shelter, the temperature, and the amount of moisture the organism needs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a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 caused by population growth affects many organisms, including hum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populatio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that restricts the number of individuals in a pop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living and nonliving features of the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, gradual changes in the types of species that live in an area; can be primary or second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– begins in a place without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ary – where soil already ex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the interactions that take place among organisms and their enviro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im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cond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oneer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rganisms, such as lichens, found in the primary stage of succession and that begin an area's soil-building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x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munity that has reached a stable stage of ecological succ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geographic areas with similar climates and eco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rain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rain forest, and grass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rt of Earth that support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ortion of Earth's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waters that cover Earth'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 that surround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living in an area and the nonliving features of their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in an ecosystem that belong to the same spe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populations in an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AD3-908E-4B50-8904-71C7AD4A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226-6D7C-4304-A73A-E4F4506C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CA6-88EE-4505-9933-A5DD35FD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06A-175F-4DB6-B30B-2BEDFF96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120F-604D-40E0-9078-C971CFE1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C0FE-16D9-43F1-8088-0373D8BA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EACD-AC3B-45F5-B586-51644CCE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C6A4-4028-4D6B-A629-63D41CE6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A4B9-5E1C-44BD-8ABC-FA523642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2A23-AC29-44FD-8886-1DE96AFD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0FAD-462F-4980-AD62-E47E80E9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654-4664-489C-943B-F4F90063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9C6D-6FD2-49F0-AE25-DB37B40E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1E09-F35D-4068-901B-8B7BB0DC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E037-00FA-4E12-9F33-8F12BE25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E62C-54F1-4BBC-B4EB-33AEAB35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0B3E-3F37-4882-B5C2-F724A222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C44-2920-4790-94C8-6442764D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7A5-52B0-4BFC-8BE2-32E4C028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4C9-E130-4050-AE63-F03521A1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321-7CD4-4C2C-8B49-67DD1848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297-1752-48CA-9F10-562EE233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0B4-892E-43B6-B56D-86D7629F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1DF-960C-4498-8ADE-17924EE2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5307-4B79-4BD9-AEAD-B626CCBDC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7DD7-2D9E-4F8A-B19E-5CAB9B9BC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Rhizanthes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ield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desert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s35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uccession6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4" descr="salieur3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6" descr="fire-crop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primary_succession_in_shade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SuccessionPond02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biombrkcol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biosphere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weedyfield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00083443"/>
          <p:cNvPicPr/>
          <p:nvPr/>
        </p:nvPicPr>
        <p:blipFill>
          <a:blip r:embed="rId1"/>
          <a:stretch/>
        </p:blipFill>
        <p:spPr>
          <a:xfrm>
            <a:off x="196920" y="0"/>
            <a:ext cx="89820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LEGION2</cp:lastModifiedBy>
  <dcterms:modified xsi:type="dcterms:W3CDTF">2015-12-14T11:25:58Z</dcterms:modified>
  <cp:revision>38</cp:revision>
  <dc:subject/>
  <dc:title>Ecology</dc:title>
</cp:coreProperties>
</file>