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CA6B-5083-497D-A8BD-2595634DA3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c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in which an organism liv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the kinds of food and shelter, the temperature, and the amount of moisture the organism needs to surv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pac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 caused by population growth affects many organisms, including hum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population siz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ing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thing that restricts the number of individuals in a popul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living and nonliving features of the eco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, gradual changes in the types of species that live in an area; can be primary or seconda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– begins in a place without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ary – where soil already exi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udy of the interactions that take place among organisms and their environ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imary Succ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condary Succ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oneer spe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organisms, such as lichens, found in the primary stage of succession and that begin an area's soil-building proc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x 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munity that has reached a stable stage of ecological succes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geographic areas with similar climates and eco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deciduous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rain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opical rain forest, and grass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rt of Earth that support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portion of Earth's cr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waters that cover Earth'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e that surrounds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o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rganisms living in an area and the nonliving features of their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rganisms in an ecosystem that belong to the same spec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populations in an eco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D8E9-894B-417E-B70F-5BE07ACF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E938-0BA5-4C98-B70E-7AF101B1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CDDF-42C4-482E-A7BE-8EC43D71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C5A8-EDD9-41C7-A778-1E38A8FB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C520-0668-42F0-B98E-0777B538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CD4A-0DA4-41A1-B8D4-9BC26939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4393-6043-4E86-8D2E-7143A84C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BDF3-7C10-45CB-A516-48849CAA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64C1-B4D5-493D-AE36-D684B230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B1BA-F254-48EB-AF6E-CDBC681A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FE94-4EAA-4097-8ED5-6E55B7F4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CB7-78A9-482D-BF1D-351EB368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5713-ADB4-4583-A9AE-D2A29468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C504-F1F3-46C2-BA5E-153D13E3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DDBC-9C7E-4084-B9E0-83885A8D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E9C9-FB61-4C3A-8CB7-D4B79A75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807B-0139-41A9-8643-74237182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B33D-268F-45B2-9896-3DC6A804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C67B-5191-48F1-AF20-051E3F2C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46E8-98C2-4C76-BACD-21F4AD17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0DD4-6D67-4961-9A55-7E0B1740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964E-F6D0-4217-9CB7-F7D124B7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1BAB-8C24-4981-89D6-36BB6735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2D7-50BC-48EC-9815-78C9B0CA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85B6-E2D3-45A8-8C25-99F7A13D7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1141-3ACC-44E1-8AF5-0909603F1B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colo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abita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place in which an organism liv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des the kinds of food and shelter, the temperature, and the amount of moisture the organism needs to survi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Rhizanthes"/>
          <p:cNvPicPr/>
          <p:nvPr/>
        </p:nvPicPr>
        <p:blipFill>
          <a:blip r:embed="rId1"/>
          <a:stretch/>
        </p:blipFill>
        <p:spPr>
          <a:xfrm>
            <a:off x="2057400" y="380880"/>
            <a:ext cx="504684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etition caused by population growth affects many organisms, including huma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s population siz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field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6008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miting Facto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thing that restricts the number of individuals in a populatio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ludes living and nonliving features of the ecosystem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desert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2592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ural, gradual changes in the types of species that live in an area; can be primary or secondar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– begins in a place without s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– where soil already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s35"/>
          <p:cNvPicPr/>
          <p:nvPr/>
        </p:nvPicPr>
        <p:blipFill>
          <a:blip r:embed="rId1"/>
          <a:stretch/>
        </p:blipFill>
        <p:spPr>
          <a:xfrm>
            <a:off x="762120" y="1122480"/>
            <a:ext cx="7924680" cy="479736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succession6"/>
          <p:cNvPicPr/>
          <p:nvPr/>
        </p:nvPicPr>
        <p:blipFill>
          <a:blip r:embed="rId1"/>
          <a:stretch/>
        </p:blipFill>
        <p:spPr>
          <a:xfrm>
            <a:off x="457200" y="960480"/>
            <a:ext cx="8077320" cy="484668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he study of the interactions that take place among organisms and their environment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m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Picture 4" descr="salieur3"/>
          <p:cNvPicPr/>
          <p:nvPr/>
        </p:nvPicPr>
        <p:blipFill>
          <a:blip r:embed="rId1"/>
          <a:stretch/>
        </p:blipFill>
        <p:spPr>
          <a:xfrm>
            <a:off x="3035160" y="1371600"/>
            <a:ext cx="3770280" cy="54864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cond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6" name="Picture 6" descr="fire-crop"/>
          <p:cNvPicPr/>
          <p:nvPr/>
        </p:nvPicPr>
        <p:blipFill>
          <a:blip r:embed="rId1"/>
          <a:stretch/>
        </p:blipFill>
        <p:spPr>
          <a:xfrm>
            <a:off x="2438280" y="1905120"/>
            <a:ext cx="4684680" cy="45972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oneer spec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roup of organisms, such as lichens, found in the primary stage of succession and that begin an area's soil-building proces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primary_succession_in_shade"/>
          <p:cNvPicPr/>
          <p:nvPr/>
        </p:nvPicPr>
        <p:blipFill>
          <a:blip r:embed="rId1"/>
          <a:stretch/>
        </p:blipFill>
        <p:spPr>
          <a:xfrm>
            <a:off x="1066680" y="836640"/>
            <a:ext cx="7315200" cy="54878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max 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mmunity that has reached a stable stage of ecological success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SuccessionPond02"/>
          <p:cNvPicPr/>
          <p:nvPr/>
        </p:nvPicPr>
        <p:blipFill>
          <a:blip r:embed="rId1"/>
          <a:stretch/>
        </p:blipFill>
        <p:spPr>
          <a:xfrm>
            <a:off x="533520" y="762120"/>
            <a:ext cx="7924680" cy="52164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 geographic areas with similar climates and eco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biombrkcol"/>
          <p:cNvPicPr/>
          <p:nvPr/>
        </p:nvPicPr>
        <p:blipFill>
          <a:blip r:embed="rId1"/>
          <a:stretch/>
        </p:blipFill>
        <p:spPr>
          <a:xfrm>
            <a:off x="380880" y="560520"/>
            <a:ext cx="8382240" cy="57355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clud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deciduous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rain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opical rain forest, and grassl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spher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rt of Earth that supports lif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p portion of Earth's cru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waters that cover Earth's su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mosphere that surrounds Ear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biosphere"/>
          <p:cNvPicPr/>
          <p:nvPr/>
        </p:nvPicPr>
        <p:blipFill>
          <a:blip r:embed="rId1"/>
          <a:stretch/>
        </p:blipFill>
        <p:spPr>
          <a:xfrm>
            <a:off x="1295280" y="457200"/>
            <a:ext cx="6782040" cy="58388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cosyst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living in an area and the nonliving features of their enviro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pul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in an ecosystem that belong to the same speci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weedyfield"/>
          <p:cNvPicPr/>
          <p:nvPr/>
        </p:nvPicPr>
        <p:blipFill>
          <a:blip r:embed="rId1"/>
          <a:stretch/>
        </p:blipFill>
        <p:spPr>
          <a:xfrm>
            <a:off x="762120" y="880920"/>
            <a:ext cx="7619760" cy="50961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populations in an ecosyst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00083443"/>
          <p:cNvPicPr/>
          <p:nvPr/>
        </p:nvPicPr>
        <p:blipFill>
          <a:blip r:embed="rId1"/>
          <a:stretch/>
        </p:blipFill>
        <p:spPr>
          <a:xfrm>
            <a:off x="196920" y="0"/>
            <a:ext cx="8982000" cy="60958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8:12:26Z</dcterms:created>
  <dc:creator>TMLDR_POARCH</dc:creator>
  <dc:description/>
  <dc:language>en-US</dc:language>
  <cp:lastModifiedBy>LEGION2</cp:lastModifiedBy>
  <dcterms:modified xsi:type="dcterms:W3CDTF">2015-12-14T11:25:58Z</dcterms:modified>
  <cp:revision>38</cp:revision>
  <dc:subject/>
  <dc:title>Ecology</dc:title>
</cp:coreProperties>
</file>