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C705-53F5-4BE1-8D6E-20351C6F62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l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s will fail if they do not remain in bala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community can carry more organisms than its food, water and shelter can accommod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s will fail if they do not rem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ommunity can carry more organisms than its food, water and shelter can accommo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they stay balanc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) Chamele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ar B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think of more examples of adapt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stay balan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) Chame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think of more examples of adap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Ecolo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colo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eco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iome is a collection of related ecosyst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co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ome is a collection of related eco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in Ecosystem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ainfor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parr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mperate Forr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 Ecosyst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a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e For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……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cosystem can be as large as the Sahara Desert, or as small as a puddle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cosystem can be as large as the Sahara Desert, or as small as a puddl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otic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nonliving physical factors of an environme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ot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nonliving physical factors of an enviro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TRY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three more examples of Abiotic Factor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R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ree more examples of Abiotic Fa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tic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living, physical factors of an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Biotic Factors are parasitism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ease and pred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living, physical factors of an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Biotic Factors are parasitis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 and pred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372-ACDE-4A6F-8EF7-0B4C5E6C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83FF-618F-459D-9308-05C61B61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1AED4-0C45-4B18-AA7D-C89D80F3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B26CE-ABFF-40C6-A03C-636EEBF6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9C1CD-41BF-4EF3-81C3-87B34D69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9370E-3232-4ACE-AF41-A172EEEC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B8B39-8429-4C0E-AEAE-0EF0D412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ED239-7C0F-4ADC-9EFA-9767E67C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EE906-D2B7-44B5-922B-0D38FA6C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E14F9-5AC5-4CDE-920E-E7BFF28F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EE986-08AA-4D57-8A16-0520EFDB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D293D-6CF7-4D62-81F7-1B87200D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0C46-14D4-456A-9806-E329EDF6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D18AE-6BAE-4672-84B6-22B29929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F6ADD-C877-4053-B004-3383E6C1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0AFB8-713F-48AC-984B-2A6D27AE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2DA0D-5C51-4704-851F-1411224D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2A868-E8FE-4FCA-96B2-3B91867F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B0952-3568-4346-9F36-104B144A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18B1A-07C5-4115-A60D-C65230B2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776AF-85B6-4308-BC14-40C5B476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A7279-9651-4DE1-9433-AAEFB3D3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B57A1-BC1E-4253-9C6E-9F47B572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82C3-96DB-4FB1-B9F1-4571F411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EDA86-DBC3-430B-B41F-440EF0ED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3D3B7-C4A0-4B98-86E9-3B151513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569B8-8C44-4C80-97D0-2FDADB76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77C05-18E0-4302-8DEF-A0D549A7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B18C4-3C0E-481C-A134-35F5279B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8FF5C-8CEB-4922-8249-3061EC68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7A75A-88ED-4098-B0C3-9C5A22F2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84D20-56DC-4B01-8D2E-570A3C64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9DFD9-FBD7-421E-92F4-12824C4F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756ED-F497-4134-B362-53E2E776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890E-9CA9-4F5E-B03B-706BC58C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9239D-84A5-4CBA-9679-4FA1672C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5FA7E-2166-470D-A97C-DDB7B876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FA033-B846-41E5-B0F2-1A037B7D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8A69-B1E6-43D5-913D-7F73C2AD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09C7-355F-4712-A197-401D4902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54D2-E1C9-4667-A084-BED250DE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6F19-DB50-4A13-BCEF-1F386445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D9D0-9D90-48EB-9946-F81FC2D2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0A0C-1E6F-463A-97BF-5739DA03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65BE-361B-472B-BB96-5C47E314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8FF9-9C30-4260-817B-51259580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A702-E0BA-407F-A284-B83B5AA1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9620-901C-498F-B37C-65338BF1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E320-E51A-4706-A57C-2409F5A4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B6B5-3397-4913-9479-CAE9ADCE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1789D-6F83-4015-862E-0323B998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E1B5D-43B1-4049-BC0D-D9E8560A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1FAD5-A5AE-4C22-8655-BE853B52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70520-0601-4179-B0A7-7B31CEAA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CCF1B-403E-4519-906D-5A87F25A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6047-C6B9-4AC1-8FFD-7E701D1F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75BFB-3201-4B2E-97D3-55651E3C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BD354-DC30-460C-8335-90DF1100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27F22-844D-4150-AB0A-DFFE7F6F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C2216-B6D3-4027-8616-53546579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FBF5B-E4AA-47DF-9195-722A5BE8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E1F77-865B-4895-9F6B-4AC8DD36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4F9A5-7F4F-4DA8-8AB1-03FB4FD5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8FBD5-8BBC-480B-B076-64764794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BDCAD-D466-41C9-A408-5DBC8B71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7284B-522C-4836-A847-C1E9C01B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EDE1-7103-426B-8661-70936EB8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1FC44-1516-443F-BE01-8E98ADC7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41F2E-CD5C-460A-972B-7A589348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6BEDF-09B7-4276-9895-A5662050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9F4C9-6F17-4C73-A0B4-A80D6901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18843-C81C-40C9-B92B-60825978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112C8-09C8-4DB7-8493-2B306A1B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BC458-9964-403A-AF15-D7990379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1ACB2-88D3-4555-878E-41F30229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95033-C846-4DAF-AB6B-06533DED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DB706-3F90-4F89-A0C2-81E94995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5B0E-2445-4B92-80E0-95D8BD48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052E9-7802-4F8D-A640-48DA5123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931C8-AE19-47B6-8488-517FCF52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1E719-A76D-4006-9F74-2248F4A9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6CEF9-B518-4C68-B9FF-FC37674E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CFA69-2236-488F-A6D9-9F3B8D5B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F09FC-1333-4E6F-9684-C97CD4A2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288C7-DC4F-4288-A9E8-159D9C5A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D4E1A-1A7F-4CBF-AE4C-C5D16765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15F3B-BDF9-47CB-8F16-40D93DCA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A5BA6-9250-49D1-ACA3-36A98132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7D2E-0F08-4055-95CA-12ABBB20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7B7E6-2B90-48E9-AA70-675E2F03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D17F2-B691-4D73-A88C-EE76F523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F69EE-A897-47C6-BEF8-2FB27578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876E6-BFDB-4933-94F7-1EAF3809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3026E-4D4D-47E1-8D9E-D9CA2B18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EC09D-FA8B-4EF8-A201-72E20AD7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09DDA-865E-44D5-8492-25F7FAED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20AA8-71D8-4D3A-90AB-69B0B3F0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24D60-9019-4094-8B77-F9BCB6C1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C1A4A-28FF-4708-BF78-04636445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2597-3D41-4768-A1AC-BC79BA04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1F1E9-BB12-42CF-921A-9B7A3A8A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A343A-4365-4C12-9741-4648C830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5BE02-7D3B-4CC6-8CFB-9C452E62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0E3EAB-58EF-4B4F-B982-DA5669C5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6AECD7-DC04-48E1-9FEE-034D3C23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E4CD79-C0B0-49D7-B09F-9A7B444F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91695C-BCCE-4CE9-8B9F-C3B1125F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4A1EE8-8C55-4ED4-B338-DAD22A76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DC1E64-EB59-4E2A-89E9-0D847085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41F9A6-E962-4D5F-B259-E1F55BA3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FC24-F595-4488-BA4D-C4C29550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6D68C1-2529-4C36-8525-C6F34F47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5F2030-57B6-46B6-9753-8EE5A3A4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EC7F01-ADC7-46BE-AA99-163157E8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283871-6F40-4606-83BD-396DFBA0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D8F73E-E029-49C2-9E37-1F770C32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31FA4-94C9-4D74-BDBB-BFCF9437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7AA4D-72FA-4FF1-B2F8-54A1982C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0A748-445C-4A02-92B5-3EC73104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F5325-0349-4AC1-A809-D37A1895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6198F-4165-4A70-A2A1-B6620C10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9D4F-6AFB-4EFA-95FF-414B5465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A1242-CBD2-4724-83BC-6E1353B2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61BCD-861A-41E8-AA6A-4C80EF1F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BF333-B35E-429B-8EEF-0961AFF9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14FDE-B1B6-4076-9723-2918373E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A17B5-966D-484A-9FD1-5C58ADB0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D5870-2E07-4706-ADE7-7804E161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D43F4-3EB7-4A48-BFD7-CE70B44D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EE20A-B38D-424E-A8F9-D68473F6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BA60A-1A4B-44D6-AC8D-B7D3435E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FEB6F-CAF0-4598-B0F2-AAF58DA3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F928-FCC8-48A6-B0D6-C03100230D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49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B5D4-7FD8-4621-9063-95552811684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93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1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2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3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4204-5087-4F35-9CDF-166BD5923B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6AF7-CF32-42FA-AEBC-74A7EAED6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1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429E-9812-46AB-AF37-330A2972A5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6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9AFE-E73F-4968-96A9-6420EC5890A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6C0A-67CA-418F-9CC3-F06299090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4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4531-F5B0-49BC-9DE1-A635CA1B19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9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9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9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0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4B91-3504-4625-AA78-E9406359C1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5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A134-0F72-4D3A-8FA1-614DFC216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0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1DD3-3D15-44F3-8F17-42AE2E4BC7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indows.ucar.edu/tour/link=/earth/images/biomes_map_big_jpg_image.html&amp;edu=ele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3e3ff"/>
                </a:solidFill>
                <a:latin typeface="Arial"/>
              </a:rPr>
              <a:t>Ecosystem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66"/>
                </a:solidFill>
                <a:latin typeface="Tahoma"/>
              </a:rPr>
              <a:t>Balanc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Ecosystems will fail if they do not remain in balanc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No community can carry more organisms than its food, water and shelter can accommodat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9" name="Picture 4" descr="MCj03798970000[1]"/>
          <p:cNvPicPr/>
          <p:nvPr/>
        </p:nvPicPr>
        <p:blipFill>
          <a:blip r:embed="rId1"/>
          <a:stretch/>
        </p:blipFill>
        <p:spPr>
          <a:xfrm>
            <a:off x="5334120" y="4648320"/>
            <a:ext cx="2590560" cy="175248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imes New Roman"/>
              </a:rPr>
              <a:t>How do they stay balanc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Ex) Chamele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         </a:t>
            </a: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Polar Bea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you think of more examples of adaptation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Ecology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an ecosystem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iome is a collection of related ecosystem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4" descr="j0332364"/>
          <p:cNvPicPr/>
          <p:nvPr/>
        </p:nvPicPr>
        <p:blipFill>
          <a:blip r:embed="rId1"/>
          <a:stretch/>
        </p:blipFill>
        <p:spPr>
          <a:xfrm>
            <a:off x="4267080" y="4952880"/>
            <a:ext cx="2971800" cy="1474920"/>
          </a:xfrm>
          <a:prstGeom prst="rect">
            <a:avLst/>
          </a:prstGeom>
          <a:ln w="0">
            <a:noFill/>
          </a:ln>
        </p:spPr>
      </p:pic>
      <p:sp>
        <p:nvSpPr>
          <p:cNvPr id="5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Ecosystem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se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ainfo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ce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ai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apar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rassl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mperate For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5" descr="Click for full siz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911240"/>
            <a:ext cx="7162920" cy="4946760"/>
          </a:xfrm>
          <a:prstGeom prst="rect">
            <a:avLst/>
          </a:prstGeom>
          <a:ln w="0">
            <a:noFill/>
          </a:ln>
        </p:spPr>
      </p:pic>
      <p:sp>
        <p:nvSpPr>
          <p:cNvPr id="5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However……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An ecosystem can be as large as the Sahara Desert, or as small as a puddle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Picture 4" descr="j0293828"/>
          <p:cNvPicPr/>
          <p:nvPr/>
        </p:nvPicPr>
        <p:blipFill>
          <a:blip r:embed="rId1"/>
          <a:stretch/>
        </p:blipFill>
        <p:spPr>
          <a:xfrm>
            <a:off x="6781680" y="0"/>
            <a:ext cx="1744920" cy="1836720"/>
          </a:xfrm>
          <a:prstGeom prst="rect">
            <a:avLst/>
          </a:prstGeom>
          <a:ln w="0">
            <a:noFill/>
          </a:ln>
        </p:spPr>
      </p:pic>
      <p:sp>
        <p:nvSpPr>
          <p:cNvPr id="5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biotic Factor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re nonliving physical factors of an environment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j0335112"/>
          <p:cNvPicPr/>
          <p:nvPr/>
        </p:nvPicPr>
        <p:blipFill>
          <a:blip r:embed="rId1"/>
          <a:stretch/>
        </p:blipFill>
        <p:spPr>
          <a:xfrm>
            <a:off x="701028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YOU TRY!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7c80"/>
                </a:solidFill>
                <a:latin typeface="Arial"/>
              </a:rPr>
              <a:t>List three more examples of Abiotic Factors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Picture 4" descr="MPj04331600000[1]"/>
          <p:cNvPicPr/>
          <p:nvPr/>
        </p:nvPicPr>
        <p:blipFill>
          <a:blip r:embed="rId1"/>
          <a:stretch/>
        </p:blipFill>
        <p:spPr>
          <a:xfrm>
            <a:off x="5410080" y="39625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5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Biotic Factor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re the living, physical factors of an environmen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Biotic Factors are parasitism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 and pred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23:21:58Z</dcterms:created>
  <dc:creator>lbc</dc:creator>
  <dc:description/>
  <dc:language>en-US</dc:language>
  <cp:lastModifiedBy>LEGION2</cp:lastModifiedBy>
  <dcterms:modified xsi:type="dcterms:W3CDTF">2015-12-14T11:34:06Z</dcterms:modified>
  <cp:revision>8</cp:revision>
  <dc:subject/>
  <dc:title>Ecosystems</dc:title>
</cp:coreProperties>
</file>