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wmf" ContentType="image/x-wmf"/>
  <Override PartName="/ppt/media/image4.wmf" ContentType="image/x-wmf"/>
  <Override PartName="/ppt/media/image5.jpeg" ContentType="image/jpeg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dt" idx="3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 type="ftr" idx="3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6"/>
          <p:cNvSpPr>
            <a:spLocks noGrp="1"/>
          </p:cNvSpPr>
          <p:nvPr>
            <p:ph type="sldNum" idx="3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C5258-1F59-45B7-89E6-DB9B8F13FF3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Ecosystem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ala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cosystems will fail if they do not remain in balanc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 community can carry more organisms than its food, water and shelter can accommodat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l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cosystems will fail if they do not remain in bala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community can carry more organisms than its food, water and shelter can accommoda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do they stay balanced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o succeed in an ecosystem, plants and animals have special structures and behaviors called adaptation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) Chamele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lar Bea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n you think of more examples of adaptation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they stay balanc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succeed in an ecosystem, plants and animals have special structures and behaviors called adapt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) Chamele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ar B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you think of more examples of adapta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Ecology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cology is the study of relationships between living things and between living things and their environmen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Ecolog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cology is the study of relationships between living things and between living things and their environ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an ecosystem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cosystem is a system of living things that interact with each other and with the physical world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Biome is a collection of related ecosystem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an ecosyste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cosystem is a system of living things that interact with each other and with the physical worl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iome is a collection of related ecosyste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Main Ecosystems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Deser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Rainfores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Ocea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aig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undr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haparr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Grasslan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emperate Forres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in Ecosystem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s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ainfor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ce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aig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und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apar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rass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emperate Forr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reen:Grassland  Purple: Taiga  Orange:Tundra  Black:Temperate Forrest  Yellow:Desert  Brown:Chapparal White:Ocea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en:Grassland  Purple: Taiga  Orange:Tundra  Black:Temperate Forrest  Yellow:Desert  Brown:Chapparal White:Oce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ever…….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 ecosystem can be as large as the Sahara Desert, or as small as a puddle!!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cosystems are more than just the organisms they contain. Geography,weather,climate and geologic factors also influence the interactions within an ecosystem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ever……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cosystem can be as large as the Sahara Desert, or as small as a puddle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cosystems are more than just the organisms they contain. Geography,weather,climate and geologic factors also influence the interactions within an eco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biotic Facto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re nonliving physical factors of an environment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biotoic Factors include amount of water and oxygen, temperature, amount of sunlight and water pressur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iotic Fa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nonliving physical factors of an environmen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iotoic Factors include amount of water and oxygen, temperature, amount of sunlight and water press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YOU TRY!!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st three more examples of Abiotic Factors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TRY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st three more examples of Abiotic Factor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iotic Facto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re the living, physical factors of an environmen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amples of Biotic Factors are parasitism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sease and predation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otic Fa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the living, physical factors of an environ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 of Biotic Factors are parasitism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ease and preda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FC321-8CC7-4752-A282-5EAC8B49F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FFE83-4990-4517-8F80-86CDA55D3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C59B33-8A1D-407C-B6F4-800C7BEEF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192480-7ED0-4748-965D-84A72E5CF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901F96-286A-471B-BC20-CBFC1639F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2BEF6E-7CC5-4225-A679-2C9B0DF6F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3D009F-8F66-4C83-B412-AD6799A0F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CCE5F0-0A95-4240-808D-B95C698E8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DD2F9C-8C10-4BF2-A20C-E777C2FD0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EC64F6-586D-4473-903E-8C615185B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22E4DA-8297-439E-B013-BFF1F2D9E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6AF987-7494-4B22-8844-D1EAAD764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97B81-9CB4-4585-AD08-D7F35B66C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954F99-A2BD-4160-BA2B-87C8D1208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5FEDE7-802D-414B-8F81-461BDBC82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77E3DC-245D-482C-86BD-348C0DB6E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FE1863-E1F7-4CD3-98AA-3DCCAD47A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D78869-2C5C-4D30-B5C0-5CF8D1096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87F3FA-1F36-46C8-964E-1814B7545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280617-AF55-4383-81DD-FAC77ADA8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E428CD-6F2A-4ADD-84F4-3383037E5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54C307-ED9D-4243-B3E9-1B23A4897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02CAEE-D216-43EE-96A0-3655410E2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21BBC-9C54-4E22-A0A2-1CD376EB5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69A4CE-3011-4EE1-B0F2-6B618A784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D3DE73-5FDA-495C-9077-D7A857902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AD25E2-F345-417B-9FFD-39C9E3D2E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3F2335-6ED3-4588-AAD5-777E25933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8952B8-EDDF-4BBF-85FF-024067440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72C774-9D39-4F0C-9846-0FDB42792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44F8BD-B519-4A1D-AF58-62B79FDB6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28EF4F-6E3F-467F-B700-49F957919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F82FDB-F010-46E5-A8BA-B7A4BF3CC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D6D5C9-BC27-4ADC-98DB-58AE39BC6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1EEF7-5482-4834-B11D-617A64710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1D0FAF-0B53-4AEE-A67C-C53A174C8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AADBEF-3B19-4CCA-BB1B-F9350D08A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CF1721-2B0F-4A0C-AB19-4003CADBD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A54C8-74D2-445D-8044-04D72005B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721FA-A66F-4270-A77A-BC33B22F4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23147-A989-45AB-AC50-A7EC70FB8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D420B-6D87-4A32-8781-938AE57FC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F3FF7-A8B5-4F97-B602-BF4F4AA6F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C7AB2-B332-481F-9FCB-3332CEBB2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6346E-1A09-4EA6-A272-C45EBEADB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C1055-3141-4D4A-B14A-F3A35E5D2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DAEF8-866B-4688-8358-57A9431A6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18B03-CCC3-43EF-BFF7-8E40EA759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DCDF5-77F7-42A7-A64D-4D74FC5B1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40921-76C9-4CA4-AD81-3CB638570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9BA262-C53F-4C1D-9EF1-BA60FF1CF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B5C903-9C54-464D-9959-9DAA3E284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6F9869-43E3-4741-BEA6-F35556111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C59FBF-B9BD-48CB-9DDD-B1624BCE7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233B8D-DAB2-4A5E-8F94-F3F473645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B382A-F337-4E5B-9BB7-B57109E29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4F0694-1F82-42EC-A5E8-CD2FB46BE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5F128C-BB46-4C20-8D25-E1690DBE8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A2E75F-B7B0-4731-9E3D-06BAA198D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683E32-8EE5-4415-87BF-4F661AE33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06DDDA-CF7A-405B-9DA5-0DFFE1A72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BE6F35-BC9F-427C-98BF-9A72CE82E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07A5A5-9EBC-4D68-A106-F3FDEB065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D67D78-0CB1-4D46-B5F4-266CAC7E6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7A8054-6143-4269-B2A6-0BE170628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87ED8C-5022-4328-99E1-C30328614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1B9CF-2D65-4BC1-A724-B8322E9BE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E63CC8-EC13-402E-83E2-48C419DE9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237E58-E583-4B5B-B8EC-C75942BCA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44F823-2D8D-47B3-8A60-8CA5E4327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B4050C-5DF8-48ED-99A8-4E1A2CEB9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69C699-4220-4FA3-8D00-798CE0ECA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640206-E586-4FC0-9890-A8B9845BC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0694EA-DCB9-4B0E-A57A-89635B376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1925F8-9BF1-4BCE-A3C9-C18962519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EA6D1C-84F1-47B8-88B1-9328155F8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000F93-FC69-4EE7-B499-84AAC2AAA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3991D-788A-42DC-AB93-940A7DE2D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062948-B294-477B-A574-FBB8AC543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65E558-CCBF-46E1-971A-C6BFAAB3D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BA6CFA-3951-459C-A224-E8C296D4A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37E988-27C5-4AB0-877D-38F2355E4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1DD8CC-053F-4645-8A47-F57E1E8EA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7B6E87-D901-4D32-967E-02027C2D2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9F2F2D-6C87-49DC-904A-CE0194918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AFADBF-081E-4D5D-953A-3C9B6C8E8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185922-B298-4ACA-82D7-9C9A4DDFC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10EB03-4AD0-4E08-9E1A-4C64E52D1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D7FC1-5E31-440B-A79D-B2F357A5E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B93165-690D-4C21-B21E-F558CF4B6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BF65CE-1790-4462-B357-AD5766860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26BFF9-86E5-4828-BB89-4C5A82A04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77F7C2-6BA0-4401-B724-621560F4C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5DA426-BB43-4552-A699-6DE5C5504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E7EFB0-B8BF-4C88-8716-A06066C40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AFDA3F-1FA5-40C5-83E0-065F0F6EE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1AA58C-7412-4AAD-85B4-93AAB40C5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73EF23-9031-4410-9D06-1B6E80893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8AB1FD-E79B-4761-AFB6-CEB9DEE62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83519-0F26-46CE-8696-6DACC488F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F65533-D9F3-4EE7-9EE3-5859F7276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019504-9A20-4EB1-BD5F-30E50A5FD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AFEF2E-C472-44DD-BEBE-AA29EA5C6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A087277-1707-4833-A9CC-924179C40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5A3622C-9B63-4EF2-B531-05540DA4D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CD19CD2-9E38-4C1F-B696-5BBC9B511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F5C28FD-7104-47FF-B474-AD15AFEE0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276A5DD-4A96-4B47-86A9-5CC757EEB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3BF48DA-933B-4F77-83F7-212DBA309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F8BE998-0399-4DF1-ADB3-B2977AF4A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5B751-2406-4650-B5DA-C4F04F22C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4308FC4-05F6-4465-9260-D427D776E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229913E-9B50-447E-BFF2-35A9C3988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44C8448-8B94-4952-8DAE-0424B810E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0C6E108-4F30-4AD7-B2D9-8B33FE338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4901A3E-0721-4D13-BF6F-ECD2204A0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E7248B-8849-466C-8A35-A2267CAF7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B5A4CF-E13D-49AA-A901-29D62AA78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BF93FE-1516-426D-B4CA-BA45E80DD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ABA8D8-4ADB-403F-970C-1D2F96A2A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D820A8-DD6D-49DE-BBAA-4FB025A9C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A1640-DD7B-4B32-BEE8-48D754198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5306A8-50F0-4F38-A37A-1FB2B1ADD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5F2C92-6E9C-45B7-A0BB-FA570CCB2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7236B3-980C-4DD0-9117-D65E7A21C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F8B888-EA95-452D-863B-B8CECB90C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9AA460-5384-48AD-93D2-818321517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E67C62-142E-46DD-8736-7DA6CBE21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C8F674-57D0-4B90-82A4-6C5F4DDB5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F1AC1E-8B6E-4376-B9D2-C28A7E482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458BC7-C1C1-42DE-B164-72DDDB631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2D908D-A5CA-4E15-8F26-A3D9B8E81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E428C-EDBA-4412-B95B-8455E8D2F6B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49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32B51-C06D-4462-BCEB-A4B15083A3CD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2" name="Group 2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493" name="Rectangle 3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4" name="Rectangle 4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Line 5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 type="dt" idx="31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 type="ftr" idx="32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 type="sldNum" idx="33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AE69A-E647-42DB-A6B4-A51A96F22CA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62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0" name="PlaceHolder 1"/>
          <p:cNvSpPr>
            <a:spLocks noGrp="1"/>
          </p:cNvSpPr>
          <p:nvPr>
            <p:ph type="dt" idx="4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ftr" idx="5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94C16-E895-463D-B17A-0B4DC261C9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12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7AEA4-1212-4AB3-BEFA-B83F93A9F9F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6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B2C26-D7AA-47C4-A1E3-104C2A77D6F0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ED799-9E18-4242-8839-7FF074047E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5" name="Group 2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246" name="Rectangle 3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Rectangle 4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Line 5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16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17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18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912E2-D5A9-45A2-929D-59A208591E3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0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291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3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4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295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6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297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02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0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30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B1141-8736-4006-8582-EB810F8AD56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1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352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2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3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4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5E58C-918A-4E4F-8F42-9B95FD8165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400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48051-32E5-4675-A2D8-CAF19110544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windows.ucar.edu/tour/link=/earth/images/biomes_map_big_jpg_image.html&amp;edu=elem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e3e3ff"/>
                </a:solidFill>
                <a:latin typeface="Arial"/>
              </a:rPr>
              <a:t>Ecosystems</a:t>
            </a:r>
            <a:endParaRPr b="0" lang="en-US" sz="6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9966"/>
                </a:solidFill>
                <a:latin typeface="Tahoma"/>
              </a:rPr>
              <a:t>Balance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00"/>
                </a:solidFill>
                <a:latin typeface="Tahoma"/>
              </a:rPr>
              <a:t>Ecosystems will fail if they do not remain in balance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00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00ff00"/>
                </a:solidFill>
                <a:latin typeface="Tahoma"/>
              </a:rPr>
              <a:t>No community can carry more organisms than its food, water and shelter can accommodate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79" name="Picture 4" descr="MCj03798970000[1]"/>
          <p:cNvPicPr/>
          <p:nvPr/>
        </p:nvPicPr>
        <p:blipFill>
          <a:blip r:embed="rId1"/>
          <a:stretch/>
        </p:blipFill>
        <p:spPr>
          <a:xfrm>
            <a:off x="5334120" y="4648320"/>
            <a:ext cx="2590560" cy="1752480"/>
          </a:xfrm>
          <a:prstGeom prst="rect">
            <a:avLst/>
          </a:prstGeom>
          <a:ln w="0">
            <a:noFill/>
          </a:ln>
        </p:spPr>
      </p:pic>
      <p:sp>
        <p:nvSpPr>
          <p:cNvPr id="5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ff"/>
                </a:solidFill>
                <a:latin typeface="Times New Roman"/>
              </a:rPr>
              <a:t>How do they stay balanced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o succeed in an ecosystem, plants and animals have special structures and behaviors called adaptation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ff00"/>
                </a:solidFill>
                <a:latin typeface="Arial"/>
              </a:rPr>
              <a:t>Ex) Chamele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ff00"/>
                </a:solidFill>
                <a:latin typeface="Arial"/>
              </a:rPr>
              <a:t>         </a:t>
            </a:r>
            <a:r>
              <a:rPr b="0" lang="en-US" sz="3100" spc="-1" strike="noStrike">
                <a:solidFill>
                  <a:srgbClr val="00ff00"/>
                </a:solidFill>
                <a:latin typeface="Arial"/>
              </a:rPr>
              <a:t>Polar Bear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you think of more examples of adaptation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Місце для нижнього колонтитула 1"/>
          <p:cNvSpPr/>
          <p:nvPr/>
        </p:nvSpPr>
        <p:spPr>
          <a:xfrm>
            <a:off x="3238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What is Ecology?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Ecology is the study of relationships between living things and between living things and their environment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What is an ecosystem?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Ecosystem is a system of living things that interact with each other and with the physical world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Biome is a collection of related ecosystem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2" name="Picture 4" descr="j0332364"/>
          <p:cNvPicPr/>
          <p:nvPr/>
        </p:nvPicPr>
        <p:blipFill>
          <a:blip r:embed="rId1"/>
          <a:stretch/>
        </p:blipFill>
        <p:spPr>
          <a:xfrm>
            <a:off x="4267080" y="4952880"/>
            <a:ext cx="2971800" cy="1474920"/>
          </a:xfrm>
          <a:prstGeom prst="rect">
            <a:avLst/>
          </a:prstGeom>
          <a:ln w="0">
            <a:noFill/>
          </a:ln>
        </p:spPr>
      </p:pic>
      <p:sp>
        <p:nvSpPr>
          <p:cNvPr id="5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Main Ecosystems: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Dese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Rainfore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Ocea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aig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und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haparra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Grassl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emperate Forre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een:Grassland  Purple: Taiga  Orange:Tundra  Black:Temperate Forrest  Yellow:Desert  Brown:Chapparal White:Oc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38188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0" name="Picture 5" descr="Click for full siz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38080" y="1911240"/>
            <a:ext cx="7162920" cy="4946760"/>
          </a:xfrm>
          <a:prstGeom prst="rect">
            <a:avLst/>
          </a:prstGeom>
          <a:ln w="0">
            <a:noFill/>
          </a:ln>
        </p:spPr>
      </p:pic>
      <p:sp>
        <p:nvSpPr>
          <p:cNvPr id="5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Arial"/>
              </a:rPr>
              <a:t>However……..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Arial"/>
              </a:rPr>
              <a:t>An ecosystem can be as large as the Sahara Desert, or as small as a puddle!!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00"/>
                </a:solidFill>
                <a:latin typeface="Arial"/>
              </a:rPr>
              <a:t>Ecosystems are more than just the organisms they contain. Geography,weather,climate and geologic factors also influence the interactions within an ecosystem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4" name="Picture 4" descr="j0293828"/>
          <p:cNvPicPr/>
          <p:nvPr/>
        </p:nvPicPr>
        <p:blipFill>
          <a:blip r:embed="rId1"/>
          <a:stretch/>
        </p:blipFill>
        <p:spPr>
          <a:xfrm>
            <a:off x="6781680" y="0"/>
            <a:ext cx="1744920" cy="1836720"/>
          </a:xfrm>
          <a:prstGeom prst="rect">
            <a:avLst/>
          </a:prstGeom>
          <a:ln w="0">
            <a:noFill/>
          </a:ln>
        </p:spPr>
      </p:pic>
      <p:sp>
        <p:nvSpPr>
          <p:cNvPr id="5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Arial"/>
              </a:rPr>
              <a:t>Abiotic Factors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914400" y="9907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Arial"/>
              </a:rPr>
              <a:t>Are nonliving physical factors of an environment.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biotoic Factors include amount of water and oxygen, temperature, amount of sunlight and water pressur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8" name="Picture 4" descr="j0335112"/>
          <p:cNvPicPr/>
          <p:nvPr/>
        </p:nvPicPr>
        <p:blipFill>
          <a:blip r:embed="rId1"/>
          <a:stretch/>
        </p:blipFill>
        <p:spPr>
          <a:xfrm>
            <a:off x="7010280" y="4648320"/>
            <a:ext cx="1676520" cy="1676160"/>
          </a:xfrm>
          <a:prstGeom prst="rect">
            <a:avLst/>
          </a:prstGeom>
          <a:ln w="0">
            <a:noFill/>
          </a:ln>
        </p:spPr>
      </p:pic>
      <p:sp>
        <p:nvSpPr>
          <p:cNvPr id="5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YOU TRY!!!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65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7c80"/>
                </a:solidFill>
                <a:latin typeface="Arial"/>
              </a:rPr>
              <a:t>List three more examples of Abiotic Factors: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2" name="Picture 4" descr="MPj04331600000[1]"/>
          <p:cNvPicPr/>
          <p:nvPr/>
        </p:nvPicPr>
        <p:blipFill>
          <a:blip r:embed="rId1"/>
          <a:stretch/>
        </p:blipFill>
        <p:spPr>
          <a:xfrm>
            <a:off x="5410080" y="3962520"/>
            <a:ext cx="1981440" cy="1981080"/>
          </a:xfrm>
          <a:prstGeom prst="rect">
            <a:avLst/>
          </a:prstGeom>
          <a:ln w="0">
            <a:noFill/>
          </a:ln>
        </p:spPr>
      </p:pic>
      <p:sp>
        <p:nvSpPr>
          <p:cNvPr id="573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Arial"/>
              </a:rPr>
              <a:t>Biotic Factors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Arial"/>
              </a:rPr>
              <a:t>Are the living, physical factors of an environment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amples of Biotic Factors are parasitism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ease and predation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9T23:21:58Z</dcterms:created>
  <dc:creator>lbc</dc:creator>
  <dc:description/>
  <dc:language>en-US</dc:language>
  <cp:lastModifiedBy>LEGION2</cp:lastModifiedBy>
  <dcterms:modified xsi:type="dcterms:W3CDTF">2015-12-14T11:34:06Z</dcterms:modified>
  <cp:revision>8</cp:revision>
  <dc:subject/>
  <dc:title>Ecosystems</dc:title>
</cp:coreProperties>
</file>