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134C-7604-48EF-85AE-7726D79C3A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F54-900C-444A-A065-B0CD048E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EB7B-0B02-44DF-97F4-7CB3C420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BB071-05FC-40D0-986B-D285DFF5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71AB2-BCB0-4E9B-B750-47D20D6E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C9034-9400-4AA9-BE20-A01469D6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B9599-987A-4EC5-BCF1-4C9AF8BA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E8F06-1A14-44A2-B9B4-8326BA60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6A15B-E1DE-44BA-910B-2B6B28A8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6C197-8DEF-4BBD-90F8-5A922378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283CD-9F2F-4A4F-A513-7907E9B6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DEA80-1094-4882-9BE2-D201F7A8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89103-FBCF-4518-9F04-CFE3FEB1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0A9-5800-422A-B690-98103C0C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59E90-1FE1-489D-A55E-7274E54E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BCD37-CA50-4025-B6F4-03A1C68D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00A81-6BF7-464D-BD1F-C5DEDDD8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07D5A-890F-4EE1-AC15-DA9FE0D8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E2BED-057A-4E73-AE6B-68A7A124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7A397-D156-491F-8001-061EEE6D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FA286-31B1-4338-BF90-3924C286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6158C-62BB-40FB-81BF-7A00B273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168CE-3134-435B-B276-65031136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D5F9A-A945-442E-B7B8-03CEEBA2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8E5-704D-465D-AADD-431FDFD4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7C746-33D3-43F5-939C-49F8B6C2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C02FC-F92B-4EAB-97AD-7C608272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72BFD-5E49-4BC4-9423-EA08D978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B2978-D2ED-4FB3-AC17-C574FEFC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B64D9-443A-45FB-89DA-C143EBC1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2A365-4094-48D3-A847-7D42A612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6E193-F6A0-4228-A4A3-CFFC90D5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88AB0-288D-496A-BF66-6E94375A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BD756-41F0-435C-984A-7F50CCB8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3E3F8-5EC3-42AB-B149-39DEC3E6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287C-E960-441D-9D5F-F66DF583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49AE5-0E86-4010-9D41-4AF02B4F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8815E-ADB8-4A79-A928-6A788493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6344D-5888-4D48-8964-DF95A9A6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4D99-F186-4EBD-A1CC-43409C2B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3FBC-5EC9-4161-9F22-5A7EA5FB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47D1-8F2B-4DF3-BA79-D043A363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088B-DF46-4BFA-85E9-079DC338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C2BE-10AA-4EA6-8700-13A7B13D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1C86-B6A2-4ED9-993A-ADA2FD39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06D-CE6B-4106-A673-A3D16628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D56E-253A-4018-ADDD-DCFE3A61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7674-F0EC-4916-AD08-E8FDA4B6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DBCB-C62B-4D15-AEA9-1AE18791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084E-2BC6-43A9-A9E9-0BFB9CEF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8CF6-0D93-4F4D-AA8E-BA58C7D2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B166C-EA41-4CDD-9D1E-54E837A5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AC845-9146-4B6A-85CC-8F10C42B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39C31-4655-4A65-8515-A2494E50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2C458-A8FB-45A8-B3D3-23CE6B4E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E74B-2D76-4C31-86E3-9A5F370E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C293-FD57-4685-8CF0-820A824D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79D2F-3C61-4EBD-8DC5-39982858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CF12C-A346-4968-9EC2-E936B9EC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29A6F-707D-4D64-B03C-F0EDA73C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81897-CAB4-463B-B248-EC284B7C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6EDB7-2F18-42DD-8E75-E5F1F194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69D4C-B869-427F-8767-9799DF13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67E1D-486D-4B67-89E7-F3BCD562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7C7F8-FC4F-41FA-8123-2F5BF1E3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11A13-B72B-4368-9427-127C2AB8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5543E-9D06-4546-91A8-FB0CDF03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40E-D739-410C-9DC2-732FAC63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C658A-5884-43F7-B2D2-70DE69F9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C19A6-C472-451F-812E-681DF4D9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393DF-5EC8-419E-9209-D7829BE4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C017E-E7C4-4869-98D1-ECE5ADAC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24C15-C67E-4FEA-B363-5BF9AE7F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C6B20-2B8C-4B13-BEE2-E1499DA3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B2EA6-EAFB-4538-902D-254707C2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30E0E-4A27-459C-BF38-5176AF63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88781-1E55-48B7-B4D2-2AD39F28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0C5F6-93FA-4450-8311-B6F75BDD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D53-B269-494F-8C60-FA69218F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59B4A-298C-420A-89D3-37D95E4C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25A58-54DF-4918-8A48-C1B8635C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33DBB-A206-40BE-8CB5-5289C66F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C9C92-5DBE-45E4-B02D-8D562272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3D132-55D1-47ED-8101-0A11C098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A8FA6-DAE4-4C97-9B86-120B827D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239F4-F8DB-4AF7-AA4E-66047D8C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A6752-3EE2-4090-8BCD-20A2090F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7AD34-6458-42D3-BEE0-8AD50B7F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9074C-4234-487A-A55D-618D09C7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F94-2C8E-4531-B652-607A2298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683E5-8DC0-4E78-A004-47AF3F89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C1AAA-1B9E-4673-876F-86878864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022BF-9271-4953-8B6D-805F2FD7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706E1-F036-4C2F-A9F1-A017B849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52F49-D4B3-4A3B-B1B3-EA04E0F0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4AF6E-C951-4A79-96E5-4C4A79C7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2BEC5-48D1-46D0-8488-5F049AEB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AFD1E-3881-40E6-B91B-62AE5F61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13898-13C8-4AA0-A190-27242AD3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E008E-28B2-42BD-ACCD-167B07B9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5542-8033-4A62-9921-75815E61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7C4D6-3C01-40C9-A104-1E94F23D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DA88F-3628-4C6C-B943-3BE8DEBB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16F45-11B7-4329-8026-F9EF1EBD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CE3BE8-56C2-4A2C-9DE1-1E06BEB1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B52382-F1C2-4356-A6BE-97D5D2F8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5EA53-153C-44F3-B0CA-16DF3D80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71AA07-3237-48BF-8044-126F43FB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728B2E-9E21-4F57-A2D4-971DBAB3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B4E647-2FCF-44A7-BDD3-111E1E60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54C2DB-D07D-4F67-881D-90E57635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876-8F42-4D3D-A6DB-067D7B2C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D85595-3053-42D9-817B-C864654D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F5C005-6A62-4AE5-A322-4E50303C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91BA9E-25E7-4BD2-A606-558A5870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05C62B-884C-4977-9B5E-C52486F5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1FD3ED-86BA-4A64-B87C-54E5BFA4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03ACA-B944-4409-8D64-F8523780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8290E-3903-4DD0-A87C-67DC2142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58C07-C609-4D40-BB38-996FAB4A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73FD9-D0CC-4F7D-980D-7706376C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550FA-2EED-49FB-9E39-7AE4BBF9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5905-948B-4516-8E9D-DD23975C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42FA2-F9E7-480C-A1C6-2C2677F9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9A2D9-FA3D-434D-9E38-D34DF677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3B908-F38C-473B-91BB-B2606F9A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D7E07-6E4F-4634-B70A-2A43AC4B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E87C0-CECF-455E-85FB-C5C232EA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24A24-67AD-4924-A900-9FCF1312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9698D-C610-42A4-860E-566B166B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4DFF0-9EE7-43C7-B1DE-E0FEA192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775D0-F141-4989-871F-61310DBA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18BC2-A673-4823-ABA7-01333E90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4510-9954-4B2B-A3AC-D2212D2F8F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4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56F6-AA7E-4B86-A0BF-0A86A16699F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9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2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3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C71C-FCC9-4800-8416-E6188B7155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32EE-3D94-4046-AF75-7D64E3DEC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1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52D9-E567-42BA-83BD-5635934D63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66E9-604F-49B5-B4C5-872BF95EDEC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2FF9-8441-4E2D-BE77-ED341F216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4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CEA2-FA32-4559-8C2D-C51D267CE8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B9A1-A44E-4B9E-86B9-39F0844299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231C-DB23-436C-9E91-2F0807773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0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1ED3-8659-4E81-980B-CA7FC6765F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indows.ucar.edu/tour/link=/earth/images/biomes_map_big_jpg_image.html&amp;edu=ele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Ecosystem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66"/>
                </a:solidFill>
                <a:latin typeface="Tahoma"/>
              </a:rPr>
              <a:t>Balanc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Ecosystems will fail if they do not remain in bala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No community can carry more organisms than its food, water and shelter can accommodat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9" name="Picture 4" descr="MCj03798970000[1]"/>
          <p:cNvPicPr/>
          <p:nvPr/>
        </p:nvPicPr>
        <p:blipFill>
          <a:blip r:embed="rId1"/>
          <a:stretch/>
        </p:blipFill>
        <p:spPr>
          <a:xfrm>
            <a:off x="5334120" y="4648320"/>
            <a:ext cx="2590560" cy="175248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How do they stay balanc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Ex) Chamele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Polar Bea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Ecology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an ecosystem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4" descr="j0332364"/>
          <p:cNvPicPr/>
          <p:nvPr/>
        </p:nvPicPr>
        <p:blipFill>
          <a:blip r:embed="rId1"/>
          <a:stretch/>
        </p:blipFill>
        <p:spPr>
          <a:xfrm>
            <a:off x="4267080" y="4952880"/>
            <a:ext cx="2971800" cy="147492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Ecosystem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s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info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ce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ai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ar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ssl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mperate For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5" descr="Click for full siz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911240"/>
            <a:ext cx="7162920" cy="494676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However……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An ecosystem can be as large as the Sahara Desert, or as small as a puddle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4" descr="j0293828"/>
          <p:cNvPicPr/>
          <p:nvPr/>
        </p:nvPicPr>
        <p:blipFill>
          <a:blip r:embed="rId1"/>
          <a:stretch/>
        </p:blipFill>
        <p:spPr>
          <a:xfrm>
            <a:off x="6781680" y="0"/>
            <a:ext cx="1744920" cy="1836720"/>
          </a:xfrm>
          <a:prstGeom prst="rect">
            <a:avLst/>
          </a:prstGeom>
          <a:ln w="0">
            <a:noFill/>
          </a:ln>
        </p:spPr>
      </p:pic>
      <p:sp>
        <p:nvSpPr>
          <p:cNvPr id="5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biotic Facto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nonliving physical factors of an environment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j0335112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U TRY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c80"/>
                </a:solidFill>
                <a:latin typeface="Arial"/>
              </a:rPr>
              <a:t>List three more examples of Abiotic Factors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4" descr="MPj04331600000[1]"/>
          <p:cNvPicPr/>
          <p:nvPr/>
        </p:nvPicPr>
        <p:blipFill>
          <a:blip r:embed="rId1"/>
          <a:stretch/>
        </p:blipFill>
        <p:spPr>
          <a:xfrm>
            <a:off x="5410080" y="39625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5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Biotic Factor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the living, physical factors of an environmen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3:21:58Z</dcterms:created>
  <dc:creator>lbc</dc:creator>
  <dc:description/>
  <dc:language>en-US</dc:language>
  <cp:lastModifiedBy>LEGION2</cp:lastModifiedBy>
  <dcterms:modified xsi:type="dcterms:W3CDTF">2015-12-14T11:34:06Z</dcterms:modified>
  <cp:revision>8</cp:revision>
  <dc:subject/>
  <dc:title>Ecosystems</dc:title>
</cp:coreProperties>
</file>