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39F2-3703-4924-A090-3A2417B4E0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F29-8673-490C-97B9-5330A6FC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6A7-A144-447B-B17E-83F77A13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B55-3965-43B2-B46A-99FC6640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9EFC-C705-4823-A015-9833732B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BB8F-FF37-49BC-B8E1-D41AD273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090D-104D-4A6B-B7F0-49D67229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F791-DF0B-4DC5-A273-F392C335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2967-1558-456A-A825-2730973A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69D1-CBC0-418A-9526-680EBF6F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32B3-C4D4-4FCE-A920-95B71E97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E71F-1968-41FC-A6D3-2D108416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67A-6CAF-45CD-8E63-0CFC40BF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65C0-790F-43D2-816C-17DAFEC1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D579-4D01-4206-B27A-1C1862AA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A82E-41F7-4195-BCD7-6D2A6E65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3D0F-6398-4115-8DB8-C38C3518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D98F-D5BF-4C24-BD52-23D8FCEF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91B-53F3-45C0-B76C-242B86ED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1B7-E399-472B-9988-D21A24EE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C3D-61B1-4905-BCCF-6D74B82A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983-7FD7-493E-B1E4-2BF90AB9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CDF-7FAE-4817-8105-9FCA60C4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B42-710F-4915-B635-6530A454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5515-1E86-473A-8B74-27750877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A4B1-B003-413F-AF75-4161648C012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C6B2-AFAE-47AD-AE18-D048ED22383C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owl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badger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Year 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Environment and Feeding Relationship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j0332364"/>
          <p:cNvPicPr/>
          <p:nvPr/>
        </p:nvPicPr>
        <p:blipFill>
          <a:blip r:embed="rId1"/>
          <a:stretch/>
        </p:blipFill>
        <p:spPr>
          <a:xfrm>
            <a:off x="4140360" y="2924280"/>
            <a:ext cx="3456000" cy="278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bfly2"/>
          <p:cNvPicPr/>
          <p:nvPr/>
        </p:nvPicPr>
        <p:blipFill>
          <a:blip r:embed="rId2"/>
          <a:stretch/>
        </p:blipFill>
        <p:spPr>
          <a:xfrm>
            <a:off x="7093080" y="549360"/>
            <a:ext cx="1574640" cy="1800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A frog is an amphibian because it lives in water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frog.jpg (19194 bytes)"/>
          <p:cNvPicPr/>
          <p:nvPr/>
        </p:nvPicPr>
        <p:blipFill>
          <a:blip r:embed="rId1"/>
          <a:stretch/>
        </p:blipFill>
        <p:spPr>
          <a:xfrm>
            <a:off x="1332000" y="2060640"/>
            <a:ext cx="6408720" cy="36748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Fish live and breathe in water. This is a stickleback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fish.jpg (15175 bytes)"/>
          <p:cNvPicPr/>
          <p:nvPr/>
        </p:nvPicPr>
        <p:blipFill>
          <a:blip r:embed="rId1"/>
          <a:stretch/>
        </p:blipFill>
        <p:spPr>
          <a:xfrm>
            <a:off x="539640" y="2133720"/>
            <a:ext cx="7777440" cy="280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43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Pond skaters live on the water surf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5" descr="pondskater.jpg (11137 bytes)"/>
          <p:cNvPicPr/>
          <p:nvPr/>
        </p:nvPicPr>
        <p:blipFill>
          <a:blip r:embed="rId1"/>
          <a:stretch/>
        </p:blipFill>
        <p:spPr>
          <a:xfrm>
            <a:off x="2124000" y="1881360"/>
            <a:ext cx="6624720" cy="46861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Ducks are birds that have waterproof feathers. They live on a pond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5" descr="duck.jpg (22211 bytes)"/>
          <p:cNvPicPr/>
          <p:nvPr/>
        </p:nvPicPr>
        <p:blipFill>
          <a:blip r:embed="rId1"/>
          <a:stretch/>
        </p:blipFill>
        <p:spPr>
          <a:xfrm>
            <a:off x="900000" y="1579680"/>
            <a:ext cx="6912000" cy="50972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Bir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Verdana"/>
              </a:rPr>
              <a:t>Birds, such as this robin, make their nests in trees and hedge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5" descr="robin.gif (12828 bytes)"/>
          <p:cNvPicPr/>
          <p:nvPr/>
        </p:nvPicPr>
        <p:blipFill>
          <a:blip r:embed="rId1"/>
          <a:stretch/>
        </p:blipFill>
        <p:spPr>
          <a:xfrm>
            <a:off x="4643280" y="1628640"/>
            <a:ext cx="4224600" cy="4321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 badger makes it’s home under the ground. It sleeps during the day and is awake at </a:t>
            </a:r>
            <a:r>
              <a:rPr b="0" lang="en-GB" sz="24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night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Picture 5" descr="badger.jpg (17236 bytes)"/>
          <p:cNvPicPr/>
          <p:nvPr/>
        </p:nvPicPr>
        <p:blipFill>
          <a:blip r:embed="rId2"/>
          <a:stretch/>
        </p:blipFill>
        <p:spPr>
          <a:xfrm>
            <a:off x="1042920" y="1628640"/>
            <a:ext cx="6913800" cy="48006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Ow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n Owl is a bird that sleeps during the day and is awake at </a:t>
            </a:r>
            <a:r>
              <a:rPr b="0" lang="en-GB" sz="3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night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Picture 5" descr="owl.jpg (14689 bytes)"/>
          <p:cNvPicPr/>
          <p:nvPr/>
        </p:nvPicPr>
        <p:blipFill>
          <a:blip r:embed="rId2"/>
          <a:stretch/>
        </p:blipFill>
        <p:spPr>
          <a:xfrm>
            <a:off x="468360" y="1484280"/>
            <a:ext cx="3960720" cy="4896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4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hedgehog is a prickly mammal that sleeps through the winter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43280" y="407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5" descr="hadgehog.jpg (22258 bytes)"/>
          <p:cNvPicPr/>
          <p:nvPr/>
        </p:nvPicPr>
        <p:blipFill>
          <a:blip r:embed="rId1"/>
          <a:stretch/>
        </p:blipFill>
        <p:spPr>
          <a:xfrm>
            <a:off x="1258920" y="1700280"/>
            <a:ext cx="6192720" cy="44035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In today’s lesson you will lear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different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habitat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rganisms live 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ow to describe the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environment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ifferent habita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special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adaptation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that organisms have to help them live in their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67280" y="1267920"/>
            <a:ext cx="2819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mic Sans MS"/>
              </a:rPr>
              <a:t>Mice are small furry mammal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5" descr="mouse.jpg (15329 bytes)"/>
          <p:cNvPicPr/>
          <p:nvPr/>
        </p:nvPicPr>
        <p:blipFill>
          <a:blip r:embed="rId1"/>
          <a:stretch/>
        </p:blipFill>
        <p:spPr>
          <a:xfrm>
            <a:off x="539640" y="1557360"/>
            <a:ext cx="5327640" cy="41925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rabbit burrows under the ground to make a warren to live in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Picture 5" descr="rabbit1.jpg (13833 bytes)"/>
          <p:cNvPicPr/>
          <p:nvPr/>
        </p:nvPicPr>
        <p:blipFill>
          <a:blip r:embed="rId1"/>
          <a:stretch/>
        </p:blipFill>
        <p:spPr>
          <a:xfrm>
            <a:off x="1116000" y="1833480"/>
            <a:ext cx="6264360" cy="43401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For example, a desert is dry and hot during the 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ere are some examples …………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5" name="Picture 5" descr="Dromedary camel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4824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1420200" y="549360"/>
            <a:ext cx="63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Verdana"/>
              </a:rPr>
              <a:t>Dromedary camel, Arabian camel, one-humped came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69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Habitat: They live South West Asia and North Africa desert regions. They are also live in Australia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They live for 40-50 years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Length: 2.2-3.4m, Tail length: 50cm, Height at hump: 1.9-2.3m, Weight: 450-550k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Picture 5" descr="Dromedary camels"/>
          <p:cNvPicPr/>
          <p:nvPr/>
        </p:nvPicPr>
        <p:blipFill>
          <a:blip r:embed="rId1"/>
          <a:stretch/>
        </p:blipFill>
        <p:spPr>
          <a:xfrm>
            <a:off x="1332000" y="1844640"/>
            <a:ext cx="7235640" cy="47196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4" name="Red moon desert.jpg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Picture 5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Picture 5" descr="Polar bears fighting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Micro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ed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Community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 polar bear is the largest land carnivore and has a reputation as the only animal that actively hunts human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Live up to 25 years.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Habitat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spend most of their time on Arctic ice floes, and when they are on the shore they remain near the water. Polar bears are found throughout the Arctic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Adaptations: They are strong swimmers and have many adaptations for an aquatic environment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are well insulated with fat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nostrils close and their ears are held close to their head when underwate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feet are partially webbed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a remarkable sense of smell and can detect a carcass from 3km away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large, furry feet that act as snowshoes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creamy-white fur is dense and water-repellent, enabling them to shake dry after swimming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5" descr="Polar bear and cub"/>
          <p:cNvPicPr/>
          <p:nvPr/>
        </p:nvPicPr>
        <p:blipFill>
          <a:blip r:embed="rId1"/>
          <a:stretch/>
        </p:blipFill>
        <p:spPr>
          <a:xfrm>
            <a:off x="900000" y="620640"/>
            <a:ext cx="7777440" cy="5832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Here are some examples of habitat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5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Different organisms live in different habitats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Can you name two organisms for each of the habitat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11:23Z</dcterms:created>
  <dc:creator>Bella Griffiths</dc:creator>
  <dc:description/>
  <dc:language>en-US</dc:language>
  <cp:lastModifiedBy>LEGION2</cp:lastModifiedBy>
  <dcterms:modified xsi:type="dcterms:W3CDTF">2015-12-14T11:42:08Z</dcterms:modified>
  <cp:revision>33</cp:revision>
  <dc:subject/>
  <dc:title>Slide 1</dc:title>
</cp:coreProperties>
</file>