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11.jpeg" ContentType="image/jpeg"/>
  <Override PartName="/ppt/media/image9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18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D673-2AF8-47B9-8FB1-CBDBA1E5FF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Year 7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 and Feeding Relationship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 and Feeding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frog is an amphibian because it lives in water and on l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og is an amphibian because it lives in water and on 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ish live and breathe in water. This is a stickleback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live and breathe in water. This is a stickleba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nd skaters live on the water surfac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skaters live on the water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ucks are birds that have waterproof feathers. They live on a pond and on l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cks are birds that have waterproof feathers. They live on a pond and on 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rds, such as this robin, make their nests in trees and hedg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, such as this robin, make their nests in trees and hed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badger makes it’s home under the ground. It sleeps during the day and is awake at nigh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dger makes it’s home under the ground. It sleeps during the day and is awake at n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Owl is a bird that sleeps during the day and is awake at nigh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wl is a bird that sleeps during the day and is awake at 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hedgehog is a prickly mammal that sleeps through the win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dgehog is a prickly mammal that sleeps through the win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today’s lesson you will learn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you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ce are small furry mammal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are small furry mam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rabbit burrows under the ground to make a warren to live i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bbit burrows under the ground to make a warren to live 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 example, a desert is dry and hot during the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a desert is dry and hot during the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e are some examples ……………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examples 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omedary camel, Arabian camel, one-humped came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medary camel, Arabian camel, one-humped ca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: They live South West Asia and North Africa desert regions. They are also live in Australia. 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ive for 40-50 years. 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ngth: 2.2-3.4m, Tail length: 50cm, Height at hump: 1.9-2.3m, Weight: 450-550k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: They live South West Asia and North Africa desert regions. They are also live in Australia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 for 40-50 year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2.2-3.4m, Tail length: 50cm, Height at hump: 1.9-2.3m, Weight: 450-55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cro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olar bear is the largest land carnivore and has a reputation as the only animal that actively hunts huma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ve up to 25 years.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spend most of their time on Arctic ice floes, and when they are on the shore they remain near the water. Polar bears are found throughout the Arctic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: They are strong swimmers and have many adaptations for an aquatic environment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are well insulated with fat,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nostrils close and their ears are held close to their head when underwate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feet are partially webbe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a remarkable sense of smell and can detect a carcass from 3km aw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large, furry feet that act as snowshoe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creamy-white fur is dense and water-repellent, enabling them to shake dry after swimm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ar bear is the largest land carnivore and has a reputation as the only animal that actively hunts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25 years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pend most of their time on Arctic ice floes, and when they are on the shore they remain near the water. Polar bears are found throughout the Arc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strong swimmers and have many adaptations for an aquatic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well insulated with fa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ostrils close and their ears are held close to their head when under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feet are partially webb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remarkable sense of smell and can detect a carcass from 3km a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large, furry feet that act as snowsho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reamy-white fur is dense and water-repellent, enabling them to shake dry after swi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e are some examples of habitats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examples of habit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n you name two organisms for each of the habitats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wo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7746-FC73-4CBA-9959-D0109B0F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D1F-18D4-436E-B36F-B789F714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94E-671D-48E0-AAD8-BE4F4ADD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0989-87FB-4E32-A411-72572E4A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B8DB-5F7F-4398-BBA6-6A4C6EFD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12B6-9A35-4FB7-95ED-EFD9CDB6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CC20-0EAC-4805-BE10-16C83222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C751-052E-40DA-BEF4-3B3D717A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0225-8484-4A31-AB8C-D7F0C738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1F81-B504-47FF-A21C-B7882922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8CB3-BCF0-4C59-92EF-91C79F31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F01B-EA10-45FA-BB04-CF5BEE09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33DD-B96E-41B3-9B03-68E598BC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28FF-95C4-4F22-99FD-FB72DA66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7DBF-0286-4023-A45D-49199F45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F00B-5790-4CC1-BB79-68E7015F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316F-9367-490E-9CBD-A544BAA0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0A7-454C-40B6-A224-8BD20597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2C26-7088-4833-BA07-AE86470F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C8B-0B96-4709-9AD6-4847924D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F4D6-C5C4-4F49-9D9F-57E5E232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E781-A0A0-4036-9BFB-F428C5E5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41A-A29A-4946-B568-EB48C590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1C4-3C19-41B4-8B44-7F767108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7D90-F6CB-433C-80FF-DDB73B967D63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A2CF-3494-4E38-8023-A50A4C06B809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hitchams.suffolk.sch.uk/habitats/owl.htm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hitchams.suffolk.sch.uk/habitats/badger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Year 7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mic Sans MS"/>
              </a:rPr>
              <a:t>Environment and Feeding Relationship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4" descr="j0332364"/>
          <p:cNvPicPr/>
          <p:nvPr/>
        </p:nvPicPr>
        <p:blipFill>
          <a:blip r:embed="rId1"/>
          <a:stretch/>
        </p:blipFill>
        <p:spPr>
          <a:xfrm>
            <a:off x="4140360" y="2924280"/>
            <a:ext cx="3456000" cy="2784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bfly2"/>
          <p:cNvPicPr/>
          <p:nvPr/>
        </p:nvPicPr>
        <p:blipFill>
          <a:blip r:embed="rId2"/>
          <a:stretch/>
        </p:blipFill>
        <p:spPr>
          <a:xfrm>
            <a:off x="7093080" y="549360"/>
            <a:ext cx="1574640" cy="1800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A frog is an amphibian because it lives in water and on land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5" descr="frog.jpg (19194 bytes)"/>
          <p:cNvPicPr/>
          <p:nvPr/>
        </p:nvPicPr>
        <p:blipFill>
          <a:blip r:embed="rId1"/>
          <a:stretch/>
        </p:blipFill>
        <p:spPr>
          <a:xfrm>
            <a:off x="1332000" y="2060640"/>
            <a:ext cx="6408720" cy="36748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Fish live and breathe in water. This is a stickleback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fish.jpg (15175 bytes)"/>
          <p:cNvPicPr/>
          <p:nvPr/>
        </p:nvPicPr>
        <p:blipFill>
          <a:blip r:embed="rId1"/>
          <a:stretch/>
        </p:blipFill>
        <p:spPr>
          <a:xfrm>
            <a:off x="539640" y="2133720"/>
            <a:ext cx="7777440" cy="280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43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mic Sans MS"/>
              </a:rPr>
              <a:t>Pond skaters live on the water surfa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5" descr="pondskater.jpg (11137 bytes)"/>
          <p:cNvPicPr/>
          <p:nvPr/>
        </p:nvPicPr>
        <p:blipFill>
          <a:blip r:embed="rId1"/>
          <a:stretch/>
        </p:blipFill>
        <p:spPr>
          <a:xfrm>
            <a:off x="2124000" y="1881360"/>
            <a:ext cx="6624720" cy="46861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Ducks are birds that have waterproof feathers. They live on a pond and on land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5" descr="duck.jpg (22211 bytes)"/>
          <p:cNvPicPr/>
          <p:nvPr/>
        </p:nvPicPr>
        <p:blipFill>
          <a:blip r:embed="rId1"/>
          <a:stretch/>
        </p:blipFill>
        <p:spPr>
          <a:xfrm>
            <a:off x="900000" y="1579680"/>
            <a:ext cx="6912000" cy="50972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Bird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aeaea"/>
                </a:solidFill>
                <a:latin typeface="Verdana"/>
              </a:rPr>
              <a:t>Birds, such as this robin, make their nests in trees and hedges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5" descr="robin.gif (12828 bytes)"/>
          <p:cNvPicPr/>
          <p:nvPr/>
        </p:nvPicPr>
        <p:blipFill>
          <a:blip r:embed="rId1"/>
          <a:stretch/>
        </p:blipFill>
        <p:spPr>
          <a:xfrm>
            <a:off x="4643280" y="1628640"/>
            <a:ext cx="4224600" cy="43214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 badger makes it’s home under the ground. It sleeps during the day and is awake at </a:t>
            </a:r>
            <a:r>
              <a:rPr b="0" lang="en-GB" sz="24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night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Picture 5" descr="badger.jpg (17236 bytes)"/>
          <p:cNvPicPr/>
          <p:nvPr/>
        </p:nvPicPr>
        <p:blipFill>
          <a:blip r:embed="rId2"/>
          <a:stretch/>
        </p:blipFill>
        <p:spPr>
          <a:xfrm>
            <a:off x="1042920" y="1628640"/>
            <a:ext cx="6913800" cy="48006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Ow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An Owl is a bird that sleeps during the day and is awake at </a:t>
            </a:r>
            <a:r>
              <a:rPr b="0" lang="en-GB" sz="3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night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8" name="Picture 5" descr="owl.jpg (14689 bytes)"/>
          <p:cNvPicPr/>
          <p:nvPr/>
        </p:nvPicPr>
        <p:blipFill>
          <a:blip r:embed="rId2"/>
          <a:stretch/>
        </p:blipFill>
        <p:spPr>
          <a:xfrm>
            <a:off x="468360" y="1484280"/>
            <a:ext cx="3960720" cy="4896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edge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Picture 4" descr="hadge.jpg (29408 bytes)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89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 hedgehog is a prickly mammal that sleeps through the winter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43280" y="407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5" descr="hadgehog.jpg (22258 bytes)"/>
          <p:cNvPicPr/>
          <p:nvPr/>
        </p:nvPicPr>
        <p:blipFill>
          <a:blip r:embed="rId1"/>
          <a:stretch/>
        </p:blipFill>
        <p:spPr>
          <a:xfrm>
            <a:off x="1258920" y="1700280"/>
            <a:ext cx="6192720" cy="44035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In today’s lesson you will lear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out the different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habitat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rganisms live i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ow to describe the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environment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different habita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out the special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adaptation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that organisms have to help them live in their habit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67280" y="1267920"/>
            <a:ext cx="2819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Comic Sans MS"/>
              </a:rPr>
              <a:t>Mice are small furry mammals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1" name="Picture 5" descr="mouse.jpg (15329 bytes)"/>
          <p:cNvPicPr/>
          <p:nvPr/>
        </p:nvPicPr>
        <p:blipFill>
          <a:blip r:embed="rId1"/>
          <a:stretch/>
        </p:blipFill>
        <p:spPr>
          <a:xfrm>
            <a:off x="539640" y="1557360"/>
            <a:ext cx="5327640" cy="41925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 rabbit burrows under the ground to make a warren to live in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5" name="Picture 5" descr="rabbit1.jpg (13833 bytes)"/>
          <p:cNvPicPr/>
          <p:nvPr/>
        </p:nvPicPr>
        <p:blipFill>
          <a:blip r:embed="rId1"/>
          <a:stretch/>
        </p:blipFill>
        <p:spPr>
          <a:xfrm>
            <a:off x="1116000" y="1833480"/>
            <a:ext cx="6264360" cy="43401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For example, a desert is dry and hot during the da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ere are some examples …………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4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5" name="Picture 5" descr="Dromedary camel"/>
          <p:cNvPicPr/>
          <p:nvPr/>
        </p:nvPicPr>
        <p:blipFill>
          <a:blip r:embed="rId1"/>
          <a:stretch/>
        </p:blipFill>
        <p:spPr>
          <a:xfrm>
            <a:off x="539640" y="1197000"/>
            <a:ext cx="7993080" cy="4824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1420200" y="549360"/>
            <a:ext cx="63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Verdana"/>
              </a:rPr>
              <a:t>Dromedary camel, Arabian camel, one-humped came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4920" y="260280"/>
            <a:ext cx="698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Habitat: They live South West Asia and North Africa desert regions. They are also live in Australia.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They live for 40-50 years.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Length: 2.2-3.4m, Tail length: 50cm, Height at hump: 1.9-2.3m, Weight: 450-550k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Picture 5" descr="Dromedary camels"/>
          <p:cNvPicPr/>
          <p:nvPr/>
        </p:nvPicPr>
        <p:blipFill>
          <a:blip r:embed="rId1"/>
          <a:stretch/>
        </p:blipFill>
        <p:spPr>
          <a:xfrm>
            <a:off x="1332000" y="1844640"/>
            <a:ext cx="7235640" cy="47196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4" name="Red moon desert.jpg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1" name="Picture 5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Picture 5" descr="Polar bears fighting"/>
          <p:cNvPicPr/>
          <p:nvPr/>
        </p:nvPicPr>
        <p:blipFill>
          <a:blip r:embed="rId1"/>
          <a:stretch/>
        </p:blipFill>
        <p:spPr>
          <a:xfrm>
            <a:off x="900000" y="620640"/>
            <a:ext cx="7272360" cy="545328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Habit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Microhabit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Adapted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Adaptation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Community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896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 polar bear is the largest land carnivore and has a reputation as the only animal that actively hunts human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Live up to 25 years.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Habitat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spend most of their time on Arctic ice floes, and when they are on the shore they remain near the water. Polar bears are found throughout the Arctic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Adaptations: They are strong swimmers and have many adaptations for an aquatic environment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are well insulated with fat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nostrils close and their ears are held close to their head when underwater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feet are partially webbed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have a remarkable sense of smell and can detect a carcass from 3km away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have large, furry feet that act as snowshoes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creamy-white fur is dense and water-repellent, enabling them to shake dry after swimming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Picture 5" descr="Polar bear and cub"/>
          <p:cNvPicPr/>
          <p:nvPr/>
        </p:nvPicPr>
        <p:blipFill>
          <a:blip r:embed="rId1"/>
          <a:stretch/>
        </p:blipFill>
        <p:spPr>
          <a:xfrm>
            <a:off x="900000" y="620640"/>
            <a:ext cx="7777440" cy="58327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Here are some examples of habitat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5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5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edge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5" descr="hadge.jpg (29408 bytes)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896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Different organisms live in different habitats.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Can you name two organisms for each of the habitat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8:11:23Z</dcterms:created>
  <dc:creator>Bella Griffiths</dc:creator>
  <dc:description/>
  <dc:language>en-US</dc:language>
  <cp:lastModifiedBy>LEGION2</cp:lastModifiedBy>
  <dcterms:modified xsi:type="dcterms:W3CDTF">2015-12-14T11:42:08Z</dcterms:modified>
  <cp:revision>33</cp:revision>
  <dc:subject/>
  <dc:title>Slide 1</dc:title>
</cp:coreProperties>
</file>