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wmf" ContentType="image/x-wmf"/>
  <Override PartName="/ppt/media/image3.wmf" ContentType="image/x-wmf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17A5-B10A-4983-8588-DB7775D33D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441-21EE-4233-87A6-34B1565A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CB2-843C-4D09-9983-E4BFD124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C29-0215-4B5E-9973-780DD370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D4DB-73E2-4AB0-A29F-211CDAD4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5D5-B07B-4F11-8E09-B00AB247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E077-DE8A-44AB-BBE0-CFE22291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B64D-0037-4A4E-815F-8F74AEFA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805-CE3B-4817-A04B-55FF6E4E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3C2-7760-43E9-8E1D-03770702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600-9F81-4C71-9910-3F616846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D15-2E9E-452E-A516-EDE2714A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75E4-983C-4906-8B17-F7DD881F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B92B-54D4-4CC8-8183-BF13F7555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iendsofblackwater.org/large_wall.jpg&amp;imgrefurl=http://www.friendsofblackwater.org/osprey_cam_blog/archives/2004/06/index.html&amp;h=768&amp;w=1024&amp;sz=188&amp;hl=en&amp;start=1&amp;tbnid=YItlN5aWyZVZvM:&amp;tbnh=113&amp;tbnw=150&amp;prev=/images%3Fq%3Dospreys%26svnum%3D10%26hl%3Den%26lr%3D%26ie%3DUTF-8%26sa%3D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radium.weblisher.no/institute/images/news/GreenFly.gif&amp;imgrefurl=http://radium.no/institute/index.php%3Fk%3Dinstitute%252FNews_articles%26aid%3D4358&amp;h=698&amp;w=943&amp;sz=302&amp;hl=en&amp;start=7&amp;tbnid=pVx4DdFwb3pgWM:&amp;tbnh=110&amp;tbnw=148&amp;prev=/images%3Fq%3Dgreenfly%26svnum%3D10%26hl%3Den%26lr%3D%26ie%3DUTF-8%26sa%3D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8" Type="http://schemas.openxmlformats.org/officeDocument/2006/relationships/image" Target="../media/image21.jpeg"/><Relationship Id="rId19" Type="http://schemas.openxmlformats.org/officeDocument/2006/relationships/image" Target="../media/image21.jpeg"/><Relationship Id="rId20" Type="http://schemas.openxmlformats.org/officeDocument/2006/relationships/image" Target="../media/image21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76720" y="228600"/>
            <a:ext cx="26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523880" y="198108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helps all living things to g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762120" y="3505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 energy comes originally from the su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2590920" y="4648320"/>
            <a:ext cx="3886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bitat is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rmal home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ving thing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733920" y="228600"/>
            <a:ext cx="2390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274320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95560" y="2479680"/>
            <a:ext cx="860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3124080" y="1295280"/>
            <a:ext cx="31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-156240" y="2438280"/>
            <a:ext cx="936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028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WordArt 1029"/>
          <p:cNvSpPr txBox="1"/>
          <p:nvPr/>
        </p:nvSpPr>
        <p:spPr>
          <a:xfrm>
            <a:off x="3200400" y="1066680"/>
            <a:ext cx="313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1030"/>
          <p:cNvSpPr/>
          <p:nvPr/>
        </p:nvSpPr>
        <p:spPr>
          <a:xfrm>
            <a:off x="1292400" y="255600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31"/>
          <p:cNvSpPr/>
          <p:nvPr/>
        </p:nvSpPr>
        <p:spPr>
          <a:xfrm>
            <a:off x="136080" y="3317760"/>
            <a:ext cx="76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2"/>
          <p:cNvSpPr/>
          <p:nvPr/>
        </p:nvSpPr>
        <p:spPr>
          <a:xfrm>
            <a:off x="2728080" y="46134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3"/>
          <p:cNvSpPr/>
          <p:nvPr/>
        </p:nvSpPr>
        <p:spPr>
          <a:xfrm>
            <a:off x="5546880" y="5375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4"/>
          <p:cNvSpPr/>
          <p:nvPr/>
        </p:nvSpPr>
        <p:spPr>
          <a:xfrm>
            <a:off x="2575080" y="6137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35"/>
          <p:cNvSpPr/>
          <p:nvPr/>
        </p:nvSpPr>
        <p:spPr>
          <a:xfrm>
            <a:off x="746280" y="5375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37"/>
          <p:cNvSpPr/>
          <p:nvPr/>
        </p:nvSpPr>
        <p:spPr>
          <a:xfrm rot="17959800">
            <a:off x="4647600" y="4572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38"/>
          <p:cNvSpPr/>
          <p:nvPr/>
        </p:nvSpPr>
        <p:spPr>
          <a:xfrm rot="3780000">
            <a:off x="4588560" y="5622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039"/>
          <p:cNvSpPr/>
          <p:nvPr/>
        </p:nvSpPr>
        <p:spPr>
          <a:xfrm rot="18306600">
            <a:off x="1751760" y="56390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40"/>
          <p:cNvSpPr/>
          <p:nvPr/>
        </p:nvSpPr>
        <p:spPr>
          <a:xfrm rot="4369800">
            <a:off x="1464840" y="46314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041"/>
          <p:cNvSpPr/>
          <p:nvPr/>
        </p:nvSpPr>
        <p:spPr>
          <a:xfrm>
            <a:off x="3048120" y="5334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2743200" y="1447920"/>
            <a:ext cx="313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44360" y="301320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2767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2819520" y="12952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5440" y="2057400"/>
            <a:ext cx="88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41360" y="2666880"/>
            <a:ext cx="60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2438280" y="12952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419720" y="2379600"/>
            <a:ext cx="3124080" cy="2776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65040" y="2057400"/>
            <a:ext cx="39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202120" cy="3048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4020480" y="529920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133720" y="1371600"/>
            <a:ext cx="41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85720" y="2403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5410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312408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04000" y="2403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891360" y="293688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286000" y="990720"/>
            <a:ext cx="4191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46280" y="2514600"/>
            <a:ext cx="79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6019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0492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vironme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6" descr="so01038_"/>
          <p:cNvPicPr/>
          <p:nvPr/>
        </p:nvPicPr>
        <p:blipFill>
          <a:blip r:embed="rId1"/>
          <a:stretch/>
        </p:blipFill>
        <p:spPr>
          <a:xfrm>
            <a:off x="457200" y="22096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j0160108"/>
          <p:cNvPicPr/>
          <p:nvPr/>
        </p:nvPicPr>
        <p:blipFill>
          <a:blip r:embed="rId2"/>
          <a:stretch/>
        </p:blipFill>
        <p:spPr>
          <a:xfrm>
            <a:off x="4724280" y="2209680"/>
            <a:ext cx="1814760" cy="1508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4343400" y="243828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124080" y="243828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391520" y="2362320"/>
            <a:ext cx="6858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j0187911"/>
          <p:cNvPicPr/>
          <p:nvPr/>
        </p:nvPicPr>
        <p:blipFill>
          <a:blip r:embed="rId3"/>
          <a:stretch/>
        </p:blipFill>
        <p:spPr>
          <a:xfrm>
            <a:off x="990720" y="4419720"/>
            <a:ext cx="1833480" cy="1896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6"/>
          <p:cNvSpPr/>
          <p:nvPr/>
        </p:nvSpPr>
        <p:spPr>
          <a:xfrm>
            <a:off x="3352680" y="487692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7" descr="bd08911_"/>
          <p:cNvPicPr/>
          <p:nvPr/>
        </p:nvPicPr>
        <p:blipFill>
          <a:blip r:embed="rId4"/>
          <a:stretch/>
        </p:blipFill>
        <p:spPr>
          <a:xfrm>
            <a:off x="5943600" y="41911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9"/>
          <p:cNvSpPr/>
          <p:nvPr/>
        </p:nvSpPr>
        <p:spPr>
          <a:xfrm>
            <a:off x="609480" y="38862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479840" y="3622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898560" y="632448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8006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199240" y="171756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2514600" y="1447920"/>
            <a:ext cx="4191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28600" y="236232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56400" y="331776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743040" y="2479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04920" y="350532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200400" y="38088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438280" y="152388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07240" y="2556000"/>
            <a:ext cx="82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32767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Impact"/>
              <a:ea typeface="Impact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2195640" y="1557360"/>
            <a:ext cx="46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pulation chan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095480" y="25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50920" y="258444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" descr="large_w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724280"/>
            <a:ext cx="22939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060640"/>
            <a:ext cx="2879640" cy="2047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GreenFl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21000"/>
            <a:ext cx="21592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-spot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34936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7-spot_lar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7-spot_lar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7-spot_lar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7-spot_lar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472428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7-spot_lar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472428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7-spot_lar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003640" y="393372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7-spot_larg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15636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7-spot_large"/>
          <p:cNvPicPr/>
          <p:nvPr/>
        </p:nvPicPr>
        <p:blipFill>
          <a:blip r:embed="rId19"/>
          <a:stretch/>
        </p:blipFill>
        <p:spPr>
          <a:xfrm>
            <a:off x="723600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7-spot_large"/>
          <p:cNvPicPr/>
          <p:nvPr/>
        </p:nvPicPr>
        <p:blipFill>
          <a:blip r:embed="rId20"/>
          <a:stretch/>
        </p:blipFill>
        <p:spPr>
          <a:xfrm>
            <a:off x="5003640" y="31417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7-spot_large"/>
          <p:cNvPicPr/>
          <p:nvPr/>
        </p:nvPicPr>
        <p:blipFill>
          <a:blip r:embed="rId21"/>
          <a:stretch/>
        </p:blipFill>
        <p:spPr>
          <a:xfrm>
            <a:off x="7236000" y="4724280"/>
            <a:ext cx="1152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Flu_jpg"/>
          <p:cNvPicPr/>
          <p:nvPr/>
        </p:nvPicPr>
        <p:blipFill>
          <a:blip r:embed="rId1"/>
          <a:stretch/>
        </p:blipFill>
        <p:spPr>
          <a:xfrm>
            <a:off x="5940360" y="2349360"/>
            <a:ext cx="24559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uesc_07_img0373"/>
          <p:cNvPicPr/>
          <p:nvPr/>
        </p:nvPicPr>
        <p:blipFill>
          <a:blip r:embed="rId1"/>
          <a:stretch/>
        </p:blipFill>
        <p:spPr>
          <a:xfrm>
            <a:off x="4427640" y="2421000"/>
            <a:ext cx="4537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1028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7" name="WordArt 1029"/>
          <p:cNvSpPr txBox="1"/>
          <p:nvPr/>
        </p:nvSpPr>
        <p:spPr>
          <a:xfrm>
            <a:off x="2057400" y="1295280"/>
            <a:ext cx="495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ducers and consum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Text Box 1030"/>
          <p:cNvSpPr/>
          <p:nvPr/>
        </p:nvSpPr>
        <p:spPr>
          <a:xfrm>
            <a:off x="90360" y="2327400"/>
            <a:ext cx="927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theday"/>
          <p:cNvPicPr/>
          <p:nvPr/>
        </p:nvPicPr>
        <p:blipFill>
          <a:blip r:embed="rId1"/>
          <a:stretch/>
        </p:blipFill>
        <p:spPr>
          <a:xfrm>
            <a:off x="5099040" y="1981080"/>
            <a:ext cx="331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7" descr="Hurricane%20Katrina%20Response2"/>
          <p:cNvPicPr/>
          <p:nvPr/>
        </p:nvPicPr>
        <p:blipFill>
          <a:blip r:embed="rId1"/>
          <a:stretch/>
        </p:blipFill>
        <p:spPr>
          <a:xfrm>
            <a:off x="4643280" y="2852640"/>
            <a:ext cx="3721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1002famine"/>
          <p:cNvPicPr/>
          <p:nvPr/>
        </p:nvPicPr>
        <p:blipFill>
          <a:blip r:embed="rId1"/>
          <a:stretch/>
        </p:blipFill>
        <p:spPr>
          <a:xfrm>
            <a:off x="1476360" y="2205000"/>
            <a:ext cx="2492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1403280" y="3213000"/>
            <a:ext cx="216000" cy="23036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619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1619280" y="5516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3492360" y="3212640"/>
            <a:ext cx="28764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1116000" y="285264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556000" y="2852640"/>
            <a:ext cx="143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1403280" y="321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1403280" y="3500280"/>
            <a:ext cx="230508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147636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1476360" y="4292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1547640" y="4437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1547640" y="5157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619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3564000" y="2276640"/>
            <a:ext cx="1512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3276360" y="2852640"/>
            <a:ext cx="1726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H="1">
            <a:off x="3564000" y="3789360"/>
            <a:ext cx="1295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3"/>
          <p:cNvSpPr/>
          <p:nvPr/>
        </p:nvSpPr>
        <p:spPr>
          <a:xfrm flipH="1">
            <a:off x="3492360" y="422100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3203640" y="4724280"/>
            <a:ext cx="1512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5"/>
          <p:cNvSpPr/>
          <p:nvPr/>
        </p:nvSpPr>
        <p:spPr>
          <a:xfrm flipH="1">
            <a:off x="3419640" y="522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6"/>
          <p:cNvSpPr/>
          <p:nvPr/>
        </p:nvSpPr>
        <p:spPr>
          <a:xfrm flipH="1" flipV="1">
            <a:off x="3347640" y="5444640"/>
            <a:ext cx="13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2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7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2133720" y="1447920"/>
            <a:ext cx="49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chains and 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5410080" y="4724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365760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3"/>
          <p:cNvSpPr/>
          <p:nvPr/>
        </p:nvSpPr>
        <p:spPr>
          <a:xfrm rot="2783400">
            <a:off x="3884760" y="4191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358128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7604280" y="52992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108240" y="5985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7605720" y="3317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033720" y="2784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40880" y="21747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3809880" y="152388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429000" y="228600"/>
            <a:ext cx="2752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438280" y="1295280"/>
            <a:ext cx="43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CHAINS AN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06800" y="220968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5320" y="2936880"/>
            <a:ext cx="887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5053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66688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040" y="2403360"/>
            <a:ext cx="9082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590920" y="1371600"/>
            <a:ext cx="3733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81952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1800" y="2895480"/>
            <a:ext cx="895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5:05:33Z</dcterms:created>
  <dc:creator>Physics Department</dc:creator>
  <dc:description>environments food living things energy</dc:description>
  <cp:keywords>environments food living things energy</cp:keywords>
  <dc:language>en-US</dc:language>
  <cp:lastModifiedBy>RK</cp:lastModifiedBy>
  <dcterms:modified xsi:type="dcterms:W3CDTF">2015-12-11T14:28:42Z</dcterms:modified>
  <cp:revision>47</cp:revision>
  <dc:subject>environments food living things energy</dc:subject>
  <dc:title>environments food living things energy</dc:title>
</cp:coreProperties>
</file>