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27.jpeg" ContentType="image/jpeg"/>
  <Override PartName="/ppt/media/image5.png" ContentType="image/png"/>
  <Override PartName="/ppt/media/image4.wmf" ContentType="image/x-wmf"/>
  <Override PartName="/ppt/media/image3.wmf" ContentType="image/x-wmf"/>
  <Override PartName="/ppt/media/image26.jpeg" ContentType="image/jpeg"/>
  <Override PartName="/ppt/media/image19.png" ContentType="image/png"/>
  <Override PartName="/ppt/media/image25.jpeg" ContentType="image/jpeg"/>
  <Override PartName="/ppt/media/image21.jpeg" ContentType="image/jpeg"/>
  <Override PartName="/ppt/media/image16.png" ContentType="image/png"/>
  <Override PartName="/ppt/media/image18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1.wmf" ContentType="image/x-wmf"/>
  <Override PartName="/ppt/media/image2.wmf" ContentType="image/x-wmf"/>
  <Override PartName="/ppt/media/image2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102800" cy="899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8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022280" y="0"/>
            <a:ext cx="307836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02840" y="674640"/>
            <a:ext cx="4496040" cy="337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540640"/>
            <a:ext cx="3078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02228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A782B-C67A-4391-B1CD-E11137120CB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helps all living things to gr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nergy comes originally from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bitat is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rmal home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ving th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helps all living things to gr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nergy comes originally from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bitat is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rmal home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ving th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ing food we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`S ACTIONS     The activities  of human beings aff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webs, e.g. cutting down forests can affect the anim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in these fore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`S ACTIONS     The activities of humans can also affec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ine life, e.g. fish farming in Scotland has affected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s of sea animals.Try and find out about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ASTERS      Disasters like oil pollution,radiatio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ustrial waste can affect food web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ing food we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`S ACTIONS     The activities  of human beings aff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webs, e.g. cutting down forests can affect the anim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in these fore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`S ACTIONS     The activities of humans can also affec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ine life, e.g. fish farming in Scotland has affected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s of sea animals.Try and find out about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ASTERS      Disasters like oil pollution,radiatio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ustrial waste can affect food web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ing comp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st heaps are used by gardeners to fertilize the soi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use waste products from both home and garden to do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rganic waste contains HUMUS which helps to hold w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ood web exists inside the compost consisting of decomposer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rs and consum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ing comp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st heaps are used by gardeners to fertilize the soi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use waste products from both home and garden to do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rganic waste contains HUMUS which helps to hold w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ood web exists inside the compost consisting of decomposer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rs and consum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ing comp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OMPOSERS, PRODUCERS AND CONSU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omposers break down recyclable materi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rs trap the sun`s energy and turn it into f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umers feed on producers or other consum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u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u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ompo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ing comp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OMPOSERS, PRODUCERS AND CONSU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omposers break down recyclable materi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rs trap the sun`s energy and turn it into f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umers feed on producers or other consum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u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u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ompo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ing comp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xt slide shows the procedure for making compo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ing comp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xt slide shows the procedure for making compo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mental f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llowing factors affect where animals and plants will be fou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emperature of the environ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umidity of the ai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H of the are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ight intensity of the are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low rate of the water in the are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low rate of wind in the are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mental f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llowing factors affect where animals and plants will be fou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emperature of the environ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umidity of the ai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H of the are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ight intensity of the are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low rate of the water in the are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low rate of wind in the are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al f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  :-the spr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tian is famous for 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 flowers and grows whe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emperature is l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 plant found in Arizona .Grows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height of twelve feet.Stores ever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ailable amount of w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al f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  :-the spr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tian is famous for 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 flowers and grows whe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emperature is l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 plant found in Arizona .Grows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height of twelve feet.Stores ever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ailable amount of w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al f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idity  :-  Mosses are simple plants which do not have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ility to absorb water.They are found in damp pla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al f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idity  :-  Mosses are simple plants which do not have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ility to absorb water.They are found in damp pla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al f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intensity :- this is the amount of light in the environ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measured with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meter similar to th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d with a camer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al f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intensity :- this is the amount of light in the environ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measured with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meter similar to th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d with a camer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al f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  :-  This is a measure of the acidity of the soil.It is measu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Ph paper.Acid turns pH paper red .The soil in high rainf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s tends to be acidic.Plants like rhododendrons and azale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w in this type of soi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al f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  :-  This is a measure of the acidity of the soil.It is measu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Ph paper.Acid turns pH paper red .The soil in high rainf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s tends to be acidic.Plants like rhododendrons and azale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w in this type of soi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     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L IN THE MISSING WO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     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L IN THE MISSING WO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al f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flow rate :- this tells us the flow rate of moving water.We ca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e this by using a cork and seeing how fast it flows in a stre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nimals have streamlined bodies to cope with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st moving streams.They are shown on the next slide.Take a no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ir nam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al f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flow rate :- this tells us the flow rate of moving water.We ca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e this by using a cork and seeing how fast it flows in a stre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nimals have streamlined bodies to cope with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st moving streams.They are shown on the next slide.Take a no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ir nam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al f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flow rate cont`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nimals shown on the next slide can survive in more still wat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al f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flow rate cont`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nimals shown on the next slide can survive in more still wat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al f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nd flow rate :- this tells about how fast the wind is flowing in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icular area.It is measured with a wind speed gauge.Some tre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ome windswept and indeed in windy conditions,some tre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ll not grow at 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al f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nd flow rate :- this tells about how fast the wind is flowing in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icular area.It is measured with a wind speed gauge.Some tre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ome windswept and indeed in windy conditions,some tre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ll not grow at 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in each habitat , we find populations of different living th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pulation is the number of a particular species in a certain are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 we may have a local magpie popu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mate affects populations , for example the Osprey shown be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grate to Africa in the winter to return to breed in the spr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in each habitat , we find populations of different living th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pulation is the number of a particular species in a certain are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 we may have a local magpie popu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mate affects populations , for example the Osprey shown be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grate to Africa in the winter to return to breed in the spr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CHANG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S AFFECTING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Predator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the 1970`s huge numbers of ladybirds appear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is was because of a large greenfly population incre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This made more food available for the ladybirds which grew in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CHANG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S AFFECTING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Predator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the 1970`s huge numbers of ladybirds appear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is was because of a large greenfly population incre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This made more food available for the ladybirds which grew in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S AFFECTING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etition for sp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Ladybird overcrowding was so bad that in some places they covered the gr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S AFFECTING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etition for sp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Ladybird overcrowding was so bad that in some places they covered the gr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S AFFECTING POPULATION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an spread quickly through a large dense population but not through a small 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S AFFECTING POPULATION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an spread quickly through a large dense population but not through a small 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S AFFECTING POPULATION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g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rds flying south Africa can cause a seasonal change in popu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S AFFECTING POPULATION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g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rds flying south Africa can cause a seasonal change in popu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rs and consu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 plants are called PRODUCERS because they can mak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ir own f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eat food because they cannot make their own food.Th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called CONSUM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UMERS that eat plants are called HERBIVO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that eat other animals are called CARNIVORES.The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y on other anim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umers that eat plants or animals are called OMNIVO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rs and consu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 plants are called PRODUCERS because they can mak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ir own f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eat food because they cannot make their own food.Th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called CONSUM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UMERS that eat plants are called HERBIVO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that eat other animals are called CARNIVORES.The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y on other anim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umers that eat plants or animals are called OMNIVO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S AFFECTING POPULATION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mate chan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in weather can cause change in popu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nosaurs may have disappeared due to this type of chan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S AFFECTING POPULATION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mate chan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in weather can cause change in popu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nosaurs may have disappeared due to this type of chan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S AFFECTING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ods and Fam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of these can change where people and animals will change their places of lif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atr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S AFFECTING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ods and Fam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of these can change where people and animals will change their places of lif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atr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ACTORS AFFECTING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AM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ACTORS AFFECTING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AM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YC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Was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aste in our homes includes the follow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Pl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Me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Gl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Pa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Ash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Ra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 Animal and Vegetable materi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YC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Was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aste in our homes includes the follow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Pl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Me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Gl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Pa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Ash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Ra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 Animal and Vegetable materi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YC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ycle 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scellanious  19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per and cardboard 3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stics  9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ss  9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tchen waste  22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ls   8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xtiles   3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YC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ycle 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scellanious  19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per and cardboard 3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stics  9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ss  9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tchen waste  22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ls   8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xtiles   3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ycling Types of Wa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stic   comes mainly from packaging as it is strong and lightweight.Also some comes from broken toys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l waste mainly from food and drinks cans.Also from old pots and pa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ss waste from bottles and other containers.Costs a lot to make from sand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per comes mainly from newspapers and packag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hes from coal fires but no longer a great amount of waste because most people now have central hea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gs small amount of waste from old cloth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 and vegetable waste from food main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ycling Types of Wa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stic   comes mainly from packaging as it is strong and lightweight.Also some comes from broken toys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l waste mainly from food and drinks cans.Also from old pots and pa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ss waste from bottles and other containers.Costs a lot to make from sand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per comes mainly from newspapers and packag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hes from coal fires but no longer a great amount of waste because most people now have central hea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gs small amount of waste from old cloth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 and vegetable waste from food main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chains and food we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w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r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w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chains and food we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w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r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w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xample of a food web can be seen on the next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we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xample of a food web can be seen on the next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we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CHAINS AND WE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LOSS IN FOOD CHAINS AND WE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re steps we have in a food chain ,the the less 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used for growth.Most of the energy is used for mov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o keep things wa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urther up a food chain we go,the less animals there a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webs are all the chains in a habitat put toge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webs allow us to study environmental chang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CHAINS AND WE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LOSS IN FOOD CHAINS AND WE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re steps we have in a food chain ,the the less 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used for growth.Most of the energy is used for mov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o keep things wa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urther up a food chain we go,the less animals there a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webs are all the chains in a habitat put toge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webs allow us to study environmental chang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ing food we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food webs can change for short periods e.g. when t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a shortage of rain ,a river bed may dry up but the plant 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 life will surv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conditions are changed permanently, some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be lost forever.They are said to be extin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adapt to their environments, e.g. worms like dark da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ditions.Try to think of other examp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webs can be changed in several way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ing food we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food webs can change for short periods e.g. when t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a shortage of rain ,a river bed may dry up but the plant 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 life will surv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conditions are changed permanently, some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be lost forever.They are said to be extin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adapt to their environments, e.g. worms like dark da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ditions.Try to think of other examp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webs can be changed in several way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ing food we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SONS FOR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DATIO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Predators that eat smaller animals mean th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maller animals breed more quick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EASE                Disease in an area can mean that the lack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type of animal can affect other typ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ETITION      The introduction of one type of animal ca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pulation of another type.The red squirrel population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tain has went down due to the introduction of the gr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quirr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ing food we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SONS FOR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DATIO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Predators that eat smaller animals mean th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maller animals breed more quick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EASE                Disease in an area can mean that the lack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type of animal can affect other typ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ETITION      The introduction of one type of animal ca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pulation of another type.The red squirrel population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tain has went down due to the introduction of the gr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quirr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54AD-8BB9-4E43-AF6B-B600E71A5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0AEF-BE9D-4852-8E1C-2A1184F82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8D77-5738-4F8F-90B8-2FCEE322B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C1D8-58E0-439E-B652-67A85FB10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198C-5416-4286-854C-A85131DAB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2F5B-8AB4-4701-A249-43BA8065E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977F-441A-45AE-B158-DF0895148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E9FE-835E-4328-9226-42565745B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B41C-2C7E-425B-BF4F-AFE7F4C87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0E64-05BC-4AB2-AE24-D071A9258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1949-FC91-4866-B5AC-A2FCB9A15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EB7A-2257-4250-BAD3-D2EE1A5B4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F523F-DA7F-40F2-812D-FA89481441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friendsofblackwater.org/large_wall.jpg&amp;imgrefurl=http://www.friendsofblackwater.org/osprey_cam_blog/archives/2004/06/index.html&amp;h=768&amp;w=1024&amp;sz=188&amp;hl=en&amp;start=1&amp;tbnid=YItlN5aWyZVZvM:&amp;tbnh=113&amp;tbnw=150&amp;prev=/images%3Fq%3Dospreys%26svnum%3D10%26hl%3Den%26lr%3D%26ie%3DUTF-8%26sa%3DG" TargetMode="Externa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electricinca.com/images/7-spot_large.jpg&amp;imgrefurl=http://www.electricinca.com/archive/2005_03_01_index.html&amp;h=253&amp;w=357&amp;sz=14&amp;hl=en&amp;start=4&amp;tbnid=dhduo4RN44t8cM:&amp;tbnh=86&amp;tbnw=121&amp;prev=/images%3Fq%3Dladybirds%26svnum%3D10%26hl%3Den%26lr%3D%26ie%3DUTF-8%26sa%3DG" TargetMode="External"/><Relationship Id="rId2" Type="http://schemas.openxmlformats.org/officeDocument/2006/relationships/image" Target="../media/image21.jpeg"/><Relationship Id="rId3" Type="http://schemas.openxmlformats.org/officeDocument/2006/relationships/hyperlink" Target="http://images.google.com/imgres?imgurl=http://radium.weblisher.no/institute/images/news/GreenFly.gif&amp;imgrefurl=http://radium.no/institute/index.php%3Fk%3Dinstitute%252FNews_articles%26aid%3D4358&amp;h=698&amp;w=943&amp;sz=302&amp;hl=en&amp;start=7&amp;tbnid=pVx4DdFwb3pgWM:&amp;tbnh=110&amp;tbnw=148&amp;prev=/images%3Fq%3Dgreenfly%26svnum%3D10%26hl%3Den%26lr%3D%26ie%3DUTF-8%26sa%3DG" TargetMode="External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electricinca.com/images/7-spot_large.jpg&amp;imgrefurl=http://www.electricinca.com/archive/2005_03_01_index.html&amp;h=253&amp;w=357&amp;sz=14&amp;hl=en&amp;start=4&amp;tbnid=dhduo4RN44t8cM:&amp;tbnh=86&amp;tbnw=121&amp;prev=/images%3Fq%3Dladybirds%26svnum%3D10%26hl%3Den%26lr%3D%26ie%3DUTF-8%26sa%3DG" TargetMode="External"/><Relationship Id="rId2" Type="http://schemas.openxmlformats.org/officeDocument/2006/relationships/image" Target="../media/image21.jpeg"/><Relationship Id="rId3" Type="http://schemas.openxmlformats.org/officeDocument/2006/relationships/hyperlink" Target="http://images.google.com/imgres?imgurl=http://www.electricinca.com/images/7-spot_large.jpg&amp;imgrefurl=http://www.electricinca.com/archive/2005_03_01_index.html&amp;h=253&amp;w=357&amp;sz=14&amp;hl=en&amp;start=4&amp;tbnid=dhduo4RN44t8cM:&amp;tbnh=86&amp;tbnw=121&amp;prev=/images%3Fq%3Dladybirds%26svnum%3D10%26hl%3Den%26lr%3D%26ie%3DUTF-8%26sa%3DG" TargetMode="External"/><Relationship Id="rId4" Type="http://schemas.openxmlformats.org/officeDocument/2006/relationships/image" Target="../media/image21.jpeg"/><Relationship Id="rId5" Type="http://schemas.openxmlformats.org/officeDocument/2006/relationships/hyperlink" Target="http://images.google.com/imgres?imgurl=http://www.electricinca.com/images/7-spot_large.jpg&amp;imgrefurl=http://www.electricinca.com/archive/2005_03_01_index.html&amp;h=253&amp;w=357&amp;sz=14&amp;hl=en&amp;start=4&amp;tbnid=dhduo4RN44t8cM:&amp;tbnh=86&amp;tbnw=121&amp;prev=/images%3Fq%3Dladybirds%26svnum%3D10%26hl%3Den%26lr%3D%26ie%3DUTF-8%26sa%3DG" TargetMode="External"/><Relationship Id="rId6" Type="http://schemas.openxmlformats.org/officeDocument/2006/relationships/image" Target="../media/image21.jpeg"/><Relationship Id="rId7" Type="http://schemas.openxmlformats.org/officeDocument/2006/relationships/hyperlink" Target="http://images.google.com/imgres?imgurl=http://www.electricinca.com/images/7-spot_large.jpg&amp;imgrefurl=http://www.electricinca.com/archive/2005_03_01_index.html&amp;h=253&amp;w=357&amp;sz=14&amp;hl=en&amp;start=4&amp;tbnid=dhduo4RN44t8cM:&amp;tbnh=86&amp;tbnw=121&amp;prev=/images%3Fq%3Dladybirds%26svnum%3D10%26hl%3Den%26lr%3D%26ie%3DUTF-8%26sa%3DG" TargetMode="External"/><Relationship Id="rId8" Type="http://schemas.openxmlformats.org/officeDocument/2006/relationships/image" Target="../media/image21.jpeg"/><Relationship Id="rId9" Type="http://schemas.openxmlformats.org/officeDocument/2006/relationships/hyperlink" Target="http://images.google.com/imgres?imgurl=http://www.electricinca.com/images/7-spot_large.jpg&amp;imgrefurl=http://www.electricinca.com/archive/2005_03_01_index.html&amp;h=253&amp;w=357&amp;sz=14&amp;hl=en&amp;start=4&amp;tbnid=dhduo4RN44t8cM:&amp;tbnh=86&amp;tbnw=121&amp;prev=/images%3Fq%3Dladybirds%26svnum%3D10%26hl%3Den%26lr%3D%26ie%3DUTF-8%26sa%3DG" TargetMode="External"/><Relationship Id="rId10" Type="http://schemas.openxmlformats.org/officeDocument/2006/relationships/image" Target="../media/image21.jpeg"/><Relationship Id="rId11" Type="http://schemas.openxmlformats.org/officeDocument/2006/relationships/hyperlink" Target="http://images.google.com/imgres?imgurl=http://www.electricinca.com/images/7-spot_large.jpg&amp;imgrefurl=http://www.electricinca.com/archive/2005_03_01_index.html&amp;h=253&amp;w=357&amp;sz=14&amp;hl=en&amp;start=4&amp;tbnid=dhduo4RN44t8cM:&amp;tbnh=86&amp;tbnw=121&amp;prev=/images%3Fq%3Dladybirds%26svnum%3D10%26hl%3Den%26lr%3D%26ie%3DUTF-8%26sa%3DG" TargetMode="External"/><Relationship Id="rId12" Type="http://schemas.openxmlformats.org/officeDocument/2006/relationships/image" Target="../media/image21.jpeg"/><Relationship Id="rId13" Type="http://schemas.openxmlformats.org/officeDocument/2006/relationships/hyperlink" Target="http://images.google.com/imgres?imgurl=http://www.electricinca.com/images/7-spot_large.jpg&amp;imgrefurl=http://www.electricinca.com/archive/2005_03_01_index.html&amp;h=253&amp;w=357&amp;sz=14&amp;hl=en&amp;start=4&amp;tbnid=dhduo4RN44t8cM:&amp;tbnh=86&amp;tbnw=121&amp;prev=/images%3Fq%3Dladybirds%26svnum%3D10%26hl%3Den%26lr%3D%26ie%3DUTF-8%26sa%3DG" TargetMode="External"/><Relationship Id="rId14" Type="http://schemas.openxmlformats.org/officeDocument/2006/relationships/image" Target="../media/image21.jpeg"/><Relationship Id="rId15" Type="http://schemas.openxmlformats.org/officeDocument/2006/relationships/hyperlink" Target="http://images.google.com/imgres?imgurl=http://www.electricinca.com/images/7-spot_large.jpg&amp;imgrefurl=http://www.electricinca.com/archive/2005_03_01_index.html&amp;h=253&amp;w=357&amp;sz=14&amp;hl=en&amp;start=4&amp;tbnid=dhduo4RN44t8cM:&amp;tbnh=86&amp;tbnw=121&amp;prev=/images%3Fq%3Dladybirds%26svnum%3D10%26hl%3Den%26lr%3D%26ie%3DUTF-8%26sa%3DG" TargetMode="External"/><Relationship Id="rId16" Type="http://schemas.openxmlformats.org/officeDocument/2006/relationships/image" Target="../media/image21.jpeg"/><Relationship Id="rId17" Type="http://schemas.openxmlformats.org/officeDocument/2006/relationships/hyperlink" Target="http://images.google.com/imgres?imgurl=http://www.electricinca.com/images/7-spot_large.jpg&amp;imgrefurl=http://www.electricinca.com/archive/2005_03_01_index.html&amp;h=253&amp;w=357&amp;sz=14&amp;hl=en&amp;start=4&amp;tbnid=dhduo4RN44t8cM:&amp;tbnh=86&amp;tbnw=121&amp;prev=/images%3Fq%3Dladybirds%26svnum%3D10%26hl%3Den%26lr%3D%26ie%3DUTF-8%26sa%3DG" TargetMode="External"/><Relationship Id="rId18" Type="http://schemas.openxmlformats.org/officeDocument/2006/relationships/image" Target="../media/image21.jpeg"/><Relationship Id="rId19" Type="http://schemas.openxmlformats.org/officeDocument/2006/relationships/image" Target="../media/image21.jpeg"/><Relationship Id="rId20" Type="http://schemas.openxmlformats.org/officeDocument/2006/relationships/image" Target="../media/image21.jpeg"/><Relationship Id="rId21" Type="http://schemas.openxmlformats.org/officeDocument/2006/relationships/image" Target="../media/image21.jpeg"/><Relationship Id="rId22" Type="http://schemas.openxmlformats.org/officeDocument/2006/relationships/slideLayout" Target="../slideLayouts/slideLayout1.xml"/><Relationship Id="rId2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3276720" y="228600"/>
            <a:ext cx="26287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" name="WordArt 7"/>
          <p:cNvSpPr txBox="1"/>
          <p:nvPr/>
        </p:nvSpPr>
        <p:spPr>
          <a:xfrm>
            <a:off x="1523880" y="1981080"/>
            <a:ext cx="64008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ood helps all living things to grow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" name="WordArt 8"/>
          <p:cNvSpPr txBox="1"/>
          <p:nvPr/>
        </p:nvSpPr>
        <p:spPr>
          <a:xfrm>
            <a:off x="762120" y="3505320"/>
            <a:ext cx="75438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ll energy comes originally from the sun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" name="WordArt 11"/>
          <p:cNvSpPr txBox="1"/>
          <p:nvPr/>
        </p:nvSpPr>
        <p:spPr>
          <a:xfrm>
            <a:off x="2590920" y="4648320"/>
            <a:ext cx="388620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habitat is the 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normal home of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living things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WordArt 4"/>
          <p:cNvSpPr txBox="1"/>
          <p:nvPr/>
        </p:nvSpPr>
        <p:spPr>
          <a:xfrm>
            <a:off x="3733920" y="228600"/>
            <a:ext cx="239076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98" name="WordArt 5"/>
          <p:cNvSpPr txBox="1"/>
          <p:nvPr/>
        </p:nvSpPr>
        <p:spPr>
          <a:xfrm>
            <a:off x="2743200" y="1371600"/>
            <a:ext cx="37623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changing food web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295560" y="2479680"/>
            <a:ext cx="8606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N`S ACTIONS     The activities  of human beings a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od webs, e.g. cutting down forests can affect the an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opulation in these fores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N`S ACTIONS     The activities of humans can also affec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rine life, e.g. fish farming in Scotland has affected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opulations of sea animals.Try and find out about th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ISASTERS      Disasters like oil pollution,radiatio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dustrial waste can affect food web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WordArt 4"/>
          <p:cNvSpPr txBox="1"/>
          <p:nvPr/>
        </p:nvSpPr>
        <p:spPr>
          <a:xfrm>
            <a:off x="3429000" y="304920"/>
            <a:ext cx="262908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01" name="WordArt 5"/>
          <p:cNvSpPr txBox="1"/>
          <p:nvPr/>
        </p:nvSpPr>
        <p:spPr>
          <a:xfrm>
            <a:off x="3124080" y="1295280"/>
            <a:ext cx="31338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making compos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-156240" y="2438280"/>
            <a:ext cx="93643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ost heaps are used by gardeners to fertilize the so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y use waste products from both home and garden to do th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3,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organic waste contains HUMUS which helps to hold wa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food web exists inside the compost consisting of decomposer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ducers and consum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WordArt 1028"/>
          <p:cNvSpPr txBox="1"/>
          <p:nvPr/>
        </p:nvSpPr>
        <p:spPr>
          <a:xfrm>
            <a:off x="3352680" y="228600"/>
            <a:ext cx="26290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04" name="WordArt 1029"/>
          <p:cNvSpPr txBox="1"/>
          <p:nvPr/>
        </p:nvSpPr>
        <p:spPr>
          <a:xfrm>
            <a:off x="3200400" y="1066680"/>
            <a:ext cx="31338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making compost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5" name="Text Box 1030"/>
          <p:cNvSpPr/>
          <p:nvPr/>
        </p:nvSpPr>
        <p:spPr>
          <a:xfrm>
            <a:off x="1292400" y="2556000"/>
            <a:ext cx="70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COMPOSERS, PRODUCERS AND CONSU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031"/>
          <p:cNvSpPr/>
          <p:nvPr/>
        </p:nvSpPr>
        <p:spPr>
          <a:xfrm>
            <a:off x="136080" y="3317760"/>
            <a:ext cx="768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composers break down recyclable materi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ducers trap the sun`s energy and turn it into fo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sumers feed on producers or other consum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1032"/>
          <p:cNvSpPr/>
          <p:nvPr/>
        </p:nvSpPr>
        <p:spPr>
          <a:xfrm>
            <a:off x="2728080" y="461340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duc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033"/>
          <p:cNvSpPr/>
          <p:nvPr/>
        </p:nvSpPr>
        <p:spPr>
          <a:xfrm>
            <a:off x="5546880" y="5375160"/>
            <a:ext cx="14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su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1034"/>
          <p:cNvSpPr/>
          <p:nvPr/>
        </p:nvSpPr>
        <p:spPr>
          <a:xfrm>
            <a:off x="2575080" y="6137280"/>
            <a:ext cx="14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su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1035"/>
          <p:cNvSpPr/>
          <p:nvPr/>
        </p:nvSpPr>
        <p:spPr>
          <a:xfrm>
            <a:off x="746280" y="5375160"/>
            <a:ext cx="177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compos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AutoShape 1037"/>
          <p:cNvSpPr/>
          <p:nvPr/>
        </p:nvSpPr>
        <p:spPr>
          <a:xfrm rot="17959800">
            <a:off x="4647600" y="457236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AutoShape 1038"/>
          <p:cNvSpPr/>
          <p:nvPr/>
        </p:nvSpPr>
        <p:spPr>
          <a:xfrm rot="3780000">
            <a:off x="4588560" y="562212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039"/>
          <p:cNvSpPr/>
          <p:nvPr/>
        </p:nvSpPr>
        <p:spPr>
          <a:xfrm rot="18306600">
            <a:off x="1751760" y="5639040"/>
            <a:ext cx="485640" cy="976320"/>
          </a:xfrm>
          <a:prstGeom prst="upArrow">
            <a:avLst>
              <a:gd name="adj1" fmla="val 50000"/>
              <a:gd name="adj2" fmla="val 5025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AutoShape 1040"/>
          <p:cNvSpPr/>
          <p:nvPr/>
        </p:nvSpPr>
        <p:spPr>
          <a:xfrm rot="4369800">
            <a:off x="1464840" y="4631400"/>
            <a:ext cx="485640" cy="976320"/>
          </a:xfrm>
          <a:prstGeom prst="upArrow">
            <a:avLst>
              <a:gd name="adj1" fmla="val 50000"/>
              <a:gd name="adj2" fmla="val 5025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AutoShape 1041"/>
          <p:cNvSpPr/>
          <p:nvPr/>
        </p:nvSpPr>
        <p:spPr>
          <a:xfrm>
            <a:off x="3048120" y="533412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WordArt 5"/>
          <p:cNvSpPr txBox="1"/>
          <p:nvPr/>
        </p:nvSpPr>
        <p:spPr>
          <a:xfrm>
            <a:off x="3505320" y="228600"/>
            <a:ext cx="262872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17" name="WordArt 6"/>
          <p:cNvSpPr txBox="1"/>
          <p:nvPr/>
        </p:nvSpPr>
        <p:spPr>
          <a:xfrm>
            <a:off x="2743200" y="1447920"/>
            <a:ext cx="31338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making compos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1044360" y="3013200"/>
            <a:ext cx="710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next slide shows the procedure for making compo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800100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WordArt 4"/>
          <p:cNvSpPr txBox="1"/>
          <p:nvPr/>
        </p:nvSpPr>
        <p:spPr>
          <a:xfrm>
            <a:off x="3276720" y="228600"/>
            <a:ext cx="262872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21" name="WordArt 5"/>
          <p:cNvSpPr txBox="1"/>
          <p:nvPr/>
        </p:nvSpPr>
        <p:spPr>
          <a:xfrm>
            <a:off x="2819520" y="1295280"/>
            <a:ext cx="39528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enviromental factors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325440" y="2057400"/>
            <a:ext cx="881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following factors affect where animals and plants will be fou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441360" y="2666880"/>
            <a:ext cx="60357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temperature of the environ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humidity of the ai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pH of the are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light intensity of the are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flow rate of the water in the are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flow rate of wind in the are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WordArt 4"/>
          <p:cNvSpPr txBox="1"/>
          <p:nvPr/>
        </p:nvSpPr>
        <p:spPr>
          <a:xfrm>
            <a:off x="3429000" y="228600"/>
            <a:ext cx="26290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25" name="WordArt 5"/>
          <p:cNvSpPr txBox="1"/>
          <p:nvPr/>
        </p:nvSpPr>
        <p:spPr>
          <a:xfrm>
            <a:off x="2438280" y="1295280"/>
            <a:ext cx="4191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environmental factors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6" name="Picture 6" descr=""/>
          <p:cNvPicPr/>
          <p:nvPr/>
        </p:nvPicPr>
        <p:blipFill>
          <a:blip r:embed="rId3"/>
          <a:stretch/>
        </p:blipFill>
        <p:spPr>
          <a:xfrm>
            <a:off x="4419720" y="2379600"/>
            <a:ext cx="3124080" cy="277668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7"/>
          <p:cNvSpPr/>
          <p:nvPr/>
        </p:nvSpPr>
        <p:spPr>
          <a:xfrm>
            <a:off x="365040" y="2057400"/>
            <a:ext cx="3934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mperature  :-the spr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tian is famous for 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lue flowers and grows whe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temperature is l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8" descr=""/>
          <p:cNvPicPr/>
          <p:nvPr/>
        </p:nvPicPr>
        <p:blipFill>
          <a:blip r:embed="rId4"/>
          <a:stretch/>
        </p:blipFill>
        <p:spPr>
          <a:xfrm>
            <a:off x="838080" y="3581280"/>
            <a:ext cx="2202120" cy="304812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9"/>
          <p:cNvSpPr/>
          <p:nvPr/>
        </p:nvSpPr>
        <p:spPr>
          <a:xfrm>
            <a:off x="4020480" y="5299200"/>
            <a:ext cx="513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ctus plant found in Arizona .Grows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height of twelve feet.Stores ever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vailable amount of wa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nodeType="clickEffect" fill="hold">
                      <p:stCondLst>
                        <p:cond delay="indefinite"/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nodeType="clickEffect" fill="hold">
                      <p:stCondLst>
                        <p:cond delay="indefinite"/>
                      </p:stCondLst>
                      <p:childTnLst>
                        <p:par>
                          <p:cTn id="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nodeType="clickEffect" fill="hold">
                      <p:stCondLst>
                        <p:cond delay="indefinite"/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WordArt 4"/>
          <p:cNvSpPr txBox="1"/>
          <p:nvPr/>
        </p:nvSpPr>
        <p:spPr>
          <a:xfrm>
            <a:off x="3200400" y="228600"/>
            <a:ext cx="26290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31" name="WordArt 5"/>
          <p:cNvSpPr txBox="1"/>
          <p:nvPr/>
        </p:nvSpPr>
        <p:spPr>
          <a:xfrm>
            <a:off x="2133720" y="1371600"/>
            <a:ext cx="4190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environmental factors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585720" y="2403360"/>
            <a:ext cx="7753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umidity  :-  Mosses are simple plants which do not have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bility to absorb water.They are found in damp pla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7" descr=""/>
          <p:cNvPicPr/>
          <p:nvPr/>
        </p:nvPicPr>
        <p:blipFill>
          <a:blip r:embed="rId3"/>
          <a:stretch/>
        </p:blipFill>
        <p:spPr>
          <a:xfrm>
            <a:off x="2057400" y="3352680"/>
            <a:ext cx="5410080" cy="28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2" dur="indefinite" restart="never" nodeType="tmRoot">
          <p:childTnLst>
            <p:seq>
              <p:cTn id="763" dur="indefinite" nodeType="mainSeq">
                <p:childTnLst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nodeType="clickEffect" fill="hold">
                      <p:stCondLst>
                        <p:cond delay="indefinite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WordArt 4"/>
          <p:cNvSpPr txBox="1"/>
          <p:nvPr/>
        </p:nvSpPr>
        <p:spPr>
          <a:xfrm>
            <a:off x="3124080" y="304920"/>
            <a:ext cx="262908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35" name="WordArt 5"/>
          <p:cNvSpPr txBox="1"/>
          <p:nvPr/>
        </p:nvSpPr>
        <p:spPr>
          <a:xfrm>
            <a:off x="2286000" y="1371600"/>
            <a:ext cx="419112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nvironmental factor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504000" y="2403360"/>
            <a:ext cx="790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ight intensity :- this is the amount of light in the environ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7" descr=""/>
          <p:cNvPicPr/>
          <p:nvPr/>
        </p:nvPicPr>
        <p:blipFill>
          <a:blip r:embed="rId1"/>
          <a:stretch/>
        </p:blipFill>
        <p:spPr>
          <a:xfrm>
            <a:off x="4495680" y="3276720"/>
            <a:ext cx="3048120" cy="304776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8"/>
          <p:cNvSpPr/>
          <p:nvPr/>
        </p:nvSpPr>
        <p:spPr>
          <a:xfrm>
            <a:off x="891360" y="2936880"/>
            <a:ext cx="328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t is measured with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ight meter similar to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sed with a came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4" dur="indefinite" restart="never" nodeType="tmRoot">
          <p:childTnLst>
            <p:seq>
              <p:cTn id="795" dur="indefinite" nodeType="mainSeq">
                <p:childTnLst>
                  <p:par>
                    <p:cTn id="796" nodeType="clickEffect" fill="hold">
                      <p:stCondLst>
                        <p:cond delay="indefinite"/>
                      </p:stCondLst>
                      <p:childTnLst>
                        <p:par>
                          <p:cTn id="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nodeType="clickEffect" fill="hold">
                      <p:stCondLst>
                        <p:cond delay="indefinite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nodeType="clickEffect" fill="hold">
                      <p:stCondLst>
                        <p:cond delay="indefinite"/>
                      </p:stCondLst>
                      <p:childTnLst>
                        <p:par>
                          <p:cTn id="8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nodeType="clickEffect" fill="hold">
                      <p:stCondLst>
                        <p:cond delay="indefinite"/>
                      </p:stCondLst>
                      <p:childTnLst>
                        <p:par>
                          <p:cTn id="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WordArt 4"/>
          <p:cNvSpPr txBox="1"/>
          <p:nvPr/>
        </p:nvSpPr>
        <p:spPr>
          <a:xfrm>
            <a:off x="3352680" y="228600"/>
            <a:ext cx="26290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40" name="WordArt 5"/>
          <p:cNvSpPr txBox="1"/>
          <p:nvPr/>
        </p:nvSpPr>
        <p:spPr>
          <a:xfrm>
            <a:off x="2286000" y="990720"/>
            <a:ext cx="41911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environmental factors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746280" y="2514600"/>
            <a:ext cx="7922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h  :-  This is a measure of the acidity of the soil.It is measu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ith Ph paper.Acid turns pH paper red .The soil in high rainf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reas tends to be acidic.Plants like rhododendrons and azale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row in this type of so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icture 7" descr=""/>
          <p:cNvPicPr/>
          <p:nvPr/>
        </p:nvPicPr>
        <p:blipFill>
          <a:blip r:embed="rId1"/>
          <a:stretch/>
        </p:blipFill>
        <p:spPr>
          <a:xfrm>
            <a:off x="1752480" y="4038480"/>
            <a:ext cx="6019920" cy="26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4" dur="indefinite" restart="never" nodeType="tmRoot">
          <p:childTnLst>
            <p:seq>
              <p:cTn id="825" dur="indefinite" nodeType="mainSeq">
                <p:childTnLst>
                  <p:par>
                    <p:cTn id="826" nodeType="clickEffect" fill="hold">
                      <p:stCondLst>
                        <p:cond delay="indefinite"/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nodeType="clickEffect" fill="hold">
                      <p:stCondLst>
                        <p:cond delay="indefinite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nodeType="clickEffect" fill="hold">
                      <p:stCondLst>
                        <p:cond delay="indefinite"/>
                      </p:stCondLst>
                      <p:childTnLst>
                        <p:par>
                          <p:cTn id="8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nodeType="clickEffect" fill="hold">
                      <p:stCondLst>
                        <p:cond delay="indefinite"/>
                      </p:stCondLst>
                      <p:childTnLst>
                        <p:par>
                          <p:cTn id="8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nodeType="clickEffect" fill="hold">
                      <p:stCondLst>
                        <p:cond delay="indefinite"/>
                      </p:stCondLst>
                      <p:childTnLst>
                        <p:par>
                          <p:cTn id="8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nodeType="clickEffect" fill="hold">
                      <p:stCondLst>
                        <p:cond delay="indefinite"/>
                      </p:stCondLst>
                      <p:childTnLst>
                        <p:par>
                          <p:cTn id="8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WordArt 4"/>
          <p:cNvSpPr txBox="1"/>
          <p:nvPr/>
        </p:nvSpPr>
        <p:spPr>
          <a:xfrm>
            <a:off x="3200400" y="304920"/>
            <a:ext cx="25430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environments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3" name="Picture 6" descr="so01038_"/>
          <p:cNvPicPr/>
          <p:nvPr/>
        </p:nvPicPr>
        <p:blipFill>
          <a:blip r:embed="rId1"/>
          <a:stretch/>
        </p:blipFill>
        <p:spPr>
          <a:xfrm>
            <a:off x="457200" y="2209680"/>
            <a:ext cx="1620720" cy="16304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j0160108"/>
          <p:cNvPicPr/>
          <p:nvPr/>
        </p:nvPicPr>
        <p:blipFill>
          <a:blip r:embed="rId2"/>
          <a:stretch/>
        </p:blipFill>
        <p:spPr>
          <a:xfrm>
            <a:off x="4724280" y="2209680"/>
            <a:ext cx="1814760" cy="15084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11"/>
          <p:cNvSpPr/>
          <p:nvPr/>
        </p:nvSpPr>
        <p:spPr>
          <a:xfrm>
            <a:off x="4343400" y="2438280"/>
            <a:ext cx="1843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2"/>
          <p:cNvSpPr/>
          <p:nvPr/>
        </p:nvSpPr>
        <p:spPr>
          <a:xfrm>
            <a:off x="3124080" y="2438280"/>
            <a:ext cx="776520" cy="11912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3"/>
          <p:cNvSpPr/>
          <p:nvPr/>
        </p:nvSpPr>
        <p:spPr>
          <a:xfrm>
            <a:off x="7391520" y="2362320"/>
            <a:ext cx="685800" cy="11912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14" descr="j0187911"/>
          <p:cNvPicPr/>
          <p:nvPr/>
        </p:nvPicPr>
        <p:blipFill>
          <a:blip r:embed="rId3"/>
          <a:stretch/>
        </p:blipFill>
        <p:spPr>
          <a:xfrm>
            <a:off x="990720" y="4419720"/>
            <a:ext cx="1833480" cy="1896840"/>
          </a:xfrm>
          <a:prstGeom prst="rect">
            <a:avLst/>
          </a:prstGeom>
          <a:ln w="0">
            <a:noFill/>
          </a:ln>
        </p:spPr>
      </p:pic>
      <p:sp>
        <p:nvSpPr>
          <p:cNvPr id="59" name="Text Box 16"/>
          <p:cNvSpPr/>
          <p:nvPr/>
        </p:nvSpPr>
        <p:spPr>
          <a:xfrm>
            <a:off x="3352680" y="4876920"/>
            <a:ext cx="776520" cy="11912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17" descr="bd08911_"/>
          <p:cNvPicPr/>
          <p:nvPr/>
        </p:nvPicPr>
        <p:blipFill>
          <a:blip r:embed="rId4"/>
          <a:stretch/>
        </p:blipFill>
        <p:spPr>
          <a:xfrm>
            <a:off x="5943600" y="4191120"/>
            <a:ext cx="2590920" cy="2438280"/>
          </a:xfrm>
          <a:prstGeom prst="rect">
            <a:avLst/>
          </a:prstGeom>
          <a:ln w="0">
            <a:noFill/>
          </a:ln>
        </p:spPr>
      </p:pic>
      <p:sp>
        <p:nvSpPr>
          <p:cNvPr id="61" name="Text Box 19"/>
          <p:cNvSpPr/>
          <p:nvPr/>
        </p:nvSpPr>
        <p:spPr>
          <a:xfrm>
            <a:off x="609480" y="3886200"/>
            <a:ext cx="176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-     -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20"/>
          <p:cNvSpPr/>
          <p:nvPr/>
        </p:nvSpPr>
        <p:spPr>
          <a:xfrm>
            <a:off x="4479840" y="3622680"/>
            <a:ext cx="8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---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21"/>
          <p:cNvSpPr/>
          <p:nvPr/>
        </p:nvSpPr>
        <p:spPr>
          <a:xfrm>
            <a:off x="898560" y="6324480"/>
            <a:ext cx="69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-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4800600" y="60958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199240" y="1717560"/>
            <a:ext cx="43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L IN THE MISSING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WordArt 4"/>
          <p:cNvSpPr txBox="1"/>
          <p:nvPr/>
        </p:nvSpPr>
        <p:spPr>
          <a:xfrm>
            <a:off x="3429000" y="304920"/>
            <a:ext cx="262908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44" name="WordArt 5"/>
          <p:cNvSpPr txBox="1"/>
          <p:nvPr/>
        </p:nvSpPr>
        <p:spPr>
          <a:xfrm>
            <a:off x="2514600" y="1447920"/>
            <a:ext cx="419112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nvironmental factor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228600" y="2362320"/>
            <a:ext cx="899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ater flow rate :- this tells us the flow rate of moving water.We c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easure this by using a cork and seeing how fast it flows in a stre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8"/>
          <p:cNvSpPr/>
          <p:nvPr/>
        </p:nvSpPr>
        <p:spPr>
          <a:xfrm>
            <a:off x="356400" y="3317760"/>
            <a:ext cx="8251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se animals have streamlined bodies to cope with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ast moving streams.They are shown on the next slide.Take a no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f their na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8" dur="indefinite" restart="never" nodeType="tmRoot">
          <p:childTnLst>
            <p:seq>
              <p:cTn id="869" dur="indefinite" nodeType="mainSeq">
                <p:childTnLst>
                  <p:par>
                    <p:cTn id="870" nodeType="clickEffect" fill="hold">
                      <p:stCondLst>
                        <p:cond delay="indefinite"/>
                      </p:stCondLst>
                      <p:childTnLst>
                        <p:par>
                          <p:cTn id="8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nodeType="clickEffect" fill="hold">
                      <p:stCondLst>
                        <p:cond delay="indefinite"/>
                      </p:stCondLst>
                      <p:childTnLst>
                        <p:par>
                          <p:cTn id="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nodeType="clickEffect" fill="hold">
                      <p:stCondLst>
                        <p:cond delay="indefinite"/>
                      </p:stCondLst>
                      <p:childTnLst>
                        <p:par>
                          <p:cTn id="8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nodeType="clickEffect" fill="hold">
                      <p:stCondLst>
                        <p:cond delay="indefinite"/>
                      </p:stCondLst>
                      <p:childTnLst>
                        <p:par>
                          <p:cTn id="8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nodeType="clickEffect" fill="hold">
                      <p:stCondLst>
                        <p:cond delay="indefinite"/>
                      </p:stCondLst>
                      <p:childTnLst>
                        <p:par>
                          <p:cTn id="8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nodeType="clickEffect" fill="hold">
                      <p:stCondLst>
                        <p:cond delay="indefinite"/>
                      </p:stCondLst>
                      <p:childTnLst>
                        <p:par>
                          <p:cTn id="8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nodeType="clickEffect" fill="hold">
                      <p:stCondLst>
                        <p:cond delay="indefinite"/>
                      </p:stCondLst>
                      <p:childTnLst>
                        <p:par>
                          <p:cTn id="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4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229600" cy="64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0" dur="indefinite" restart="never" nodeType="tmRoot">
          <p:childTnLst>
            <p:seq>
              <p:cTn id="911" dur="indefinite" nodeType="mainSeq">
                <p:childTnLst>
                  <p:par>
                    <p:cTn id="912" nodeType="clickEffect" fill="hold">
                      <p:stCondLst>
                        <p:cond delay="indefinite"/>
                      </p:stCondLst>
                      <p:childTnLst>
                        <p:par>
                          <p:cTn id="9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WordArt 4"/>
          <p:cNvSpPr txBox="1"/>
          <p:nvPr/>
        </p:nvSpPr>
        <p:spPr>
          <a:xfrm>
            <a:off x="3200400" y="228600"/>
            <a:ext cx="26290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49" name="WordArt 5"/>
          <p:cNvSpPr txBox="1"/>
          <p:nvPr/>
        </p:nvSpPr>
        <p:spPr>
          <a:xfrm>
            <a:off x="2286000" y="1371600"/>
            <a:ext cx="419112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nvironmental factor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0" name="Text Box 6"/>
          <p:cNvSpPr/>
          <p:nvPr/>
        </p:nvSpPr>
        <p:spPr>
          <a:xfrm>
            <a:off x="743040" y="2479680"/>
            <a:ext cx="295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ater flow rate cont`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8"/>
          <p:cNvSpPr/>
          <p:nvPr/>
        </p:nvSpPr>
        <p:spPr>
          <a:xfrm>
            <a:off x="304920" y="3505320"/>
            <a:ext cx="2627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animals shown on the next slide can survive in more still wat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nodeType="clickEffect" fill="hold">
                      <p:stCondLst>
                        <p:cond delay="indefinite"/>
                      </p:stCondLst>
                      <p:childTnLst>
                        <p:par>
                          <p:cTn id="9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nodeType="clickEffect" fill="hold">
                      <p:stCondLst>
                        <p:cond delay="indefinite"/>
                      </p:stCondLst>
                      <p:childTnLst>
                        <p:par>
                          <p:cTn id="9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nodeType="clickEffect" fill="hold">
                      <p:stCondLst>
                        <p:cond delay="indefinite"/>
                      </p:stCondLst>
                      <p:childTnLst>
                        <p:par>
                          <p:cTn id="9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nodeType="clickEffect" fill="hold">
                      <p:stCondLst>
                        <p:cond delay="indefinite"/>
                      </p:stCondLst>
                      <p:childTnLst>
                        <p:par>
                          <p:cTn id="9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4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845820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2" dur="indefinite" restart="never" nodeType="tmRoot">
          <p:childTnLst>
            <p:seq>
              <p:cTn id="943" dur="indefinite" nodeType="mainSeq">
                <p:childTnLst>
                  <p:par>
                    <p:cTn id="944" nodeType="clickEffect" fill="hold">
                      <p:stCondLst>
                        <p:cond delay="indefinite"/>
                      </p:stCondLst>
                      <p:childTnLst>
                        <p:par>
                          <p:cTn id="9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200400" y="380880"/>
            <a:ext cx="26290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54" name="WordArt 5"/>
          <p:cNvSpPr txBox="1"/>
          <p:nvPr/>
        </p:nvSpPr>
        <p:spPr>
          <a:xfrm>
            <a:off x="2438280" y="1523880"/>
            <a:ext cx="419112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nvironmental factor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5" name="Text Box 6"/>
          <p:cNvSpPr/>
          <p:nvPr/>
        </p:nvSpPr>
        <p:spPr>
          <a:xfrm>
            <a:off x="507240" y="2556000"/>
            <a:ext cx="8245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ind flow rate :- this tells about how fast the wind is flowing in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articular area.It is measured with a wind speed gauge.Some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ecome windswept and indeed in windy conditions,some tre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ill not grow at a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nodeType="clickEffect" fill="hold">
                      <p:stCondLst>
                        <p:cond delay="indefinite"/>
                      </p:stCondLst>
                      <p:childTnLst>
                        <p:par>
                          <p:cTn id="9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nodeType="clickEffect" fill="hold">
                      <p:stCondLst>
                        <p:cond delay="indefinite"/>
                      </p:stCondLst>
                      <p:childTnLst>
                        <p:par>
                          <p:cTn id="9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nodeType="clickEffect" fill="hold">
                      <p:stCondLst>
                        <p:cond delay="indefinite"/>
                      </p:stCondLst>
                      <p:childTnLst>
                        <p:par>
                          <p:cTn id="9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nodeType="clickEffect" fill="hold">
                      <p:stCondLst>
                        <p:cond delay="indefinite"/>
                      </p:stCondLst>
                      <p:childTnLst>
                        <p:par>
                          <p:cTn id="9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nodeType="clickEffect" fill="hold">
                      <p:stCondLst>
                        <p:cond delay="indefinite"/>
                      </p:stCondLst>
                      <p:childTnLst>
                        <p:par>
                          <p:cTn id="9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nodeType="clickEffect" fill="hold">
                      <p:stCondLst>
                        <p:cond delay="indefinite"/>
                      </p:stCondLst>
                      <p:childTnLst>
                        <p:par>
                          <p:cTn id="9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WordArt 4"/>
          <p:cNvSpPr txBox="1"/>
          <p:nvPr/>
        </p:nvSpPr>
        <p:spPr>
          <a:xfrm>
            <a:off x="3276720" y="304920"/>
            <a:ext cx="262872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cc"/>
                </a:soli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cc"/>
              </a:solidFill>
              <a:latin typeface="Impact"/>
              <a:ea typeface="Impact"/>
            </a:endParaRPr>
          </a:p>
        </p:txBody>
      </p:sp>
      <p:sp>
        <p:nvSpPr>
          <p:cNvPr id="157" name="WordArt 5"/>
          <p:cNvSpPr txBox="1"/>
          <p:nvPr/>
        </p:nvSpPr>
        <p:spPr>
          <a:xfrm>
            <a:off x="2195640" y="1557360"/>
            <a:ext cx="4619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population change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746280" y="2708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7"/>
          <p:cNvSpPr/>
          <p:nvPr/>
        </p:nvSpPr>
        <p:spPr>
          <a:xfrm>
            <a:off x="1095480" y="2513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8"/>
          <p:cNvSpPr/>
          <p:nvPr/>
        </p:nvSpPr>
        <p:spPr>
          <a:xfrm>
            <a:off x="250920" y="2584440"/>
            <a:ext cx="8424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ithin each habitat , we find populations of different living thin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population is the number of a particular species in a certain are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xample we may have a local magpie popul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limate affects populations , for example the Osprey shown be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igrate to Africa in the winter to return to breed in the sp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icture 10" descr="large_wal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148360" y="4724280"/>
            <a:ext cx="2293920" cy="17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nodeType="clickEffect" fill="hold">
                      <p:stCondLst>
                        <p:cond delay="indefinite"/>
                      </p:stCondLst>
                      <p:childTnLst>
                        <p:par>
                          <p:cTn id="9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2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nodeType="clickEffect" fill="hold">
                      <p:stCondLst>
                        <p:cond delay="indefinite"/>
                      </p:stCondLst>
                      <p:childTnLst>
                        <p:par>
                          <p:cTn id="9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nodeType="clickEffect" fill="hold">
                      <p:stCondLst>
                        <p:cond delay="indefinite"/>
                      </p:stCondLst>
                      <p:childTnLst>
                        <p:par>
                          <p:cTn id="10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nodeType="clickEffect" fill="hold">
                      <p:stCondLst>
                        <p:cond delay="indefinite"/>
                      </p:stCondLst>
                      <p:childTnLst>
                        <p:par>
                          <p:cTn id="10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8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POPULATION CHANGE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FACTORS AFFECTING CHAN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1. Predator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uring the 1970`s huge numbers of ladybirds appear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2. This was because of a large greenfly population increa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3. This made more food available for the ladybirds which grew in numb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Picture 9" descr="7-spot_lar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32360" y="2060640"/>
            <a:ext cx="2879640" cy="20476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1" descr="GreenFly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364000" y="4221000"/>
            <a:ext cx="2159280" cy="16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9" dur="indefinite" restart="never" nodeType="tmRoot">
          <p:childTnLst>
            <p:seq>
              <p:cTn id="1010" dur="indefinite" nodeType="mainSeq">
                <p:childTnLst>
                  <p:par>
                    <p:cTn id="1011" nodeType="clickEffect" fill="hold">
                      <p:stCondLst>
                        <p:cond delay="indefinite"/>
                      </p:stCondLst>
                      <p:childTnLst>
                        <p:par>
                          <p:cTn id="10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nodeType="clickEffect" fill="hold">
                      <p:stCondLst>
                        <p:cond delay="indefinite"/>
                      </p:stCondLst>
                      <p:childTnLst>
                        <p:par>
                          <p:cTn id="10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nodeType="clickEffect" fill="hold">
                      <p:stCondLst>
                        <p:cond delay="indefinite"/>
                      </p:stCondLst>
                      <p:childTnLst>
                        <p:par>
                          <p:cTn id="10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nodeType="clickEffect" fill="hold">
                      <p:stCondLst>
                        <p:cond delay="indefinite"/>
                      </p:stCondLst>
                      <p:childTnLst>
                        <p:par>
                          <p:cTn id="10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nodeType="clickEffect" fill="hold">
                      <p:stCondLst>
                        <p:cond delay="indefinite"/>
                      </p:stCondLst>
                      <p:childTnLst>
                        <p:par>
                          <p:cTn id="10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5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nodeType="clickEffect" fill="hold">
                      <p:stCondLst>
                        <p:cond delay="indefinite"/>
                      </p:stCondLst>
                      <p:childTnLst>
                        <p:par>
                          <p:cTn id="10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0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FACTORS AFFECTING CHAN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mpetition for sp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 Ladybird overcrowding was so bad that in some places they covered the grou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Picture 6" descr="7-spot_lar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56360" y="2349360"/>
            <a:ext cx="1152360" cy="8193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5" descr="7-spot_larg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003640" y="2349360"/>
            <a:ext cx="1152720" cy="8193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8" descr="7-spot_large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236000" y="2349360"/>
            <a:ext cx="1152360" cy="8193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0" descr="7-spot_large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156360" y="3141720"/>
            <a:ext cx="1152360" cy="8190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1" descr="7-spot_large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7236000" y="3141720"/>
            <a:ext cx="1152360" cy="8190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2" descr="7-spot_large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6156360" y="4724280"/>
            <a:ext cx="1152360" cy="8193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3" descr="7-spot_large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5003640" y="4724280"/>
            <a:ext cx="1152720" cy="8193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4" descr="7-spot_large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5003640" y="3933720"/>
            <a:ext cx="1152720" cy="8193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5" descr="7-spot_large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6156360" y="3933720"/>
            <a:ext cx="1152360" cy="8193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6" descr="7-spot_large"/>
          <p:cNvPicPr/>
          <p:nvPr/>
        </p:nvPicPr>
        <p:blipFill>
          <a:blip r:embed="rId19"/>
          <a:stretch/>
        </p:blipFill>
        <p:spPr>
          <a:xfrm>
            <a:off x="7236000" y="3933720"/>
            <a:ext cx="1152360" cy="8193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7" descr="7-spot_large"/>
          <p:cNvPicPr/>
          <p:nvPr/>
        </p:nvPicPr>
        <p:blipFill>
          <a:blip r:embed="rId20"/>
          <a:stretch/>
        </p:blipFill>
        <p:spPr>
          <a:xfrm>
            <a:off x="5003640" y="3141720"/>
            <a:ext cx="1152720" cy="8190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8" descr="7-spot_large"/>
          <p:cNvPicPr/>
          <p:nvPr/>
        </p:nvPicPr>
        <p:blipFill>
          <a:blip r:embed="rId21"/>
          <a:stretch/>
        </p:blipFill>
        <p:spPr>
          <a:xfrm>
            <a:off x="7236000" y="4724280"/>
            <a:ext cx="115236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1" dur="indefinite" restart="never" nodeType="tmRoot">
          <p:childTnLst>
            <p:seq>
              <p:cTn id="1042" dur="indefinite" nodeType="mainSeq">
                <p:childTnLst>
                  <p:par>
                    <p:cTn id="1043" nodeType="clickEffect" fill="hold">
                      <p:stCondLst>
                        <p:cond delay="indefinite"/>
                      </p:stCondLst>
                      <p:childTnLst>
                        <p:par>
                          <p:cTn id="10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nodeType="clickEffect" fill="hold">
                      <p:stCondLst>
                        <p:cond delay="indefinite"/>
                      </p:stCondLst>
                      <p:childTnLst>
                        <p:par>
                          <p:cTn id="10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2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nodeType="clickEffect" fill="hold">
                      <p:stCondLst>
                        <p:cond delay="indefinite"/>
                      </p:stCondLst>
                      <p:childTnLst>
                        <p:par>
                          <p:cTn id="10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7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nodeType="clickEffect" fill="hold">
                      <p:stCondLst>
                        <p:cond delay="indefinite"/>
                      </p:stCondLst>
                      <p:childTnLst>
                        <p:par>
                          <p:cTn id="10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nodeType="clickEffect" fill="hold">
                      <p:stCondLst>
                        <p:cond delay="indefinite"/>
                      </p:stCondLst>
                      <p:childTnLst>
                        <p:par>
                          <p:cTn id="10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nodeType="clickEffect" fill="hold">
                      <p:stCondLst>
                        <p:cond delay="indefinite"/>
                      </p:stCondLst>
                      <p:childTnLst>
                        <p:par>
                          <p:cTn id="10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nodeType="clickEffect" fill="hold">
                      <p:stCondLst>
                        <p:cond delay="indefinite"/>
                      </p:stCondLst>
                      <p:childTnLst>
                        <p:par>
                          <p:cTn id="10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nodeType="clickEffect" fill="hold">
                      <p:stCondLst>
                        <p:cond delay="indefinite"/>
                      </p:stCondLst>
                      <p:childTnLst>
                        <p:par>
                          <p:cTn id="10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nodeType="clickEffect" fill="hold">
                      <p:stCondLst>
                        <p:cond delay="indefinite"/>
                      </p:stCondLst>
                      <p:childTnLst>
                        <p:par>
                          <p:cTn id="10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nodeType="clickEffect" fill="hold">
                      <p:stCondLst>
                        <p:cond delay="indefinite"/>
                      </p:stCondLst>
                      <p:childTnLst>
                        <p:par>
                          <p:cTn id="10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nodeType="clickEffect" fill="hold">
                      <p:stCondLst>
                        <p:cond delay="indefinite"/>
                      </p:stCondLst>
                      <p:childTnLst>
                        <p:par>
                          <p:cTn id="10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nodeType="clickEffect" fill="hold">
                      <p:stCondLst>
                        <p:cond delay="indefinite"/>
                      </p:stCondLst>
                      <p:childTnLst>
                        <p:par>
                          <p:cTn id="10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nodeType="clickEffect" fill="hold">
                      <p:stCondLst>
                        <p:cond delay="indefinite"/>
                      </p:stCondLst>
                      <p:childTnLst>
                        <p:par>
                          <p:cTn id="1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nodeType="clickEffect" fill="hold">
                      <p:stCondLst>
                        <p:cond delay="indefinite"/>
                      </p:stCondLst>
                      <p:childTnLst>
                        <p:par>
                          <p:cTn id="1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nodeType="clickEffect" fill="hold">
                      <p:stCondLst>
                        <p:cond delay="indefinite"/>
                      </p:stCondLst>
                      <p:childTnLst>
                        <p:par>
                          <p:cTn id="1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FACTORS AFFECTING POPULATION CHAN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is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is can spread quickly through a large dense population but not through a small o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Picture 7" descr="Flu_jpg"/>
          <p:cNvPicPr/>
          <p:nvPr/>
        </p:nvPicPr>
        <p:blipFill>
          <a:blip r:embed="rId1"/>
          <a:stretch/>
        </p:blipFill>
        <p:spPr>
          <a:xfrm>
            <a:off x="5940360" y="2349360"/>
            <a:ext cx="2455920" cy="35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FACTORS AFFECTING POPULATION CHAN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ig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irds flying south Africa can cause a seasonal change in popul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Picture 7" descr="uesc_07_img0373"/>
          <p:cNvPicPr/>
          <p:nvPr/>
        </p:nvPicPr>
        <p:blipFill>
          <a:blip r:embed="rId1"/>
          <a:stretch/>
        </p:blipFill>
        <p:spPr>
          <a:xfrm>
            <a:off x="4427640" y="2421000"/>
            <a:ext cx="4537080" cy="26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WordArt 1028"/>
          <p:cNvSpPr txBox="1"/>
          <p:nvPr/>
        </p:nvSpPr>
        <p:spPr>
          <a:xfrm>
            <a:off x="3429000" y="228600"/>
            <a:ext cx="26290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67" name="WordArt 1029"/>
          <p:cNvSpPr txBox="1"/>
          <p:nvPr/>
        </p:nvSpPr>
        <p:spPr>
          <a:xfrm>
            <a:off x="2057400" y="1295280"/>
            <a:ext cx="495288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producers and consumer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8" name="Text Box 1030"/>
          <p:cNvSpPr/>
          <p:nvPr/>
        </p:nvSpPr>
        <p:spPr>
          <a:xfrm>
            <a:off x="90360" y="2327400"/>
            <a:ext cx="9274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reen plants are called PRODUCERS because they can mak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ir own fo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imals eat food because they cannot make their own food.Th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re called CONSUM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SUMERS that eat plants are called HERBIV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imals that eat other animals are called CARNIVORES.The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ey on other anim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sumers that eat plants or animals are called OMNIV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FACTORS AFFECTING POPULATION CHAN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limate chan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hanges in weather can cause change in popul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inosaurs may have disappeared due to this type of chan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Picture 7" descr="theday"/>
          <p:cNvPicPr/>
          <p:nvPr/>
        </p:nvPicPr>
        <p:blipFill>
          <a:blip r:embed="rId1"/>
          <a:stretch/>
        </p:blipFill>
        <p:spPr>
          <a:xfrm>
            <a:off x="5099040" y="1981080"/>
            <a:ext cx="3313080" cy="46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FACTORS AFFECTING CHAN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loods and Fam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oth of these can change where people and animals will change their places of lif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Katr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7" descr="Hurricane%20Katrina%20Response2"/>
          <p:cNvPicPr/>
          <p:nvPr/>
        </p:nvPicPr>
        <p:blipFill>
          <a:blip r:embed="rId1"/>
          <a:stretch/>
        </p:blipFill>
        <p:spPr>
          <a:xfrm>
            <a:off x="4643280" y="2852640"/>
            <a:ext cx="3721320" cy="24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FACTORS AFFECTING CHAN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AM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Picture 5" descr="1002famine"/>
          <p:cNvPicPr/>
          <p:nvPr/>
        </p:nvPicPr>
        <p:blipFill>
          <a:blip r:embed="rId1"/>
          <a:stretch/>
        </p:blipFill>
        <p:spPr>
          <a:xfrm>
            <a:off x="1476360" y="2205000"/>
            <a:ext cx="249228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CYC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ypes of Was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waste in our homes includes the follow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 Plast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2. Me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3. Gl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4. Pap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5. Ash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. Ra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7. Animal and Vegetable mater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CYC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4000" y="1989000"/>
            <a:ext cx="3809880" cy="4114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cycle b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iscellanious  19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aper and cardboard 3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lastics  9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Glass  9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Kitchen waste  22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etals   8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extiles   3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Line 4"/>
          <p:cNvSpPr/>
          <p:nvPr/>
        </p:nvSpPr>
        <p:spPr>
          <a:xfrm>
            <a:off x="1403280" y="3213000"/>
            <a:ext cx="216000" cy="2303640"/>
          </a:xfrm>
          <a:prstGeom prst="line">
            <a:avLst/>
          </a:prstGeom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5"/>
          <p:cNvSpPr/>
          <p:nvPr/>
        </p:nvSpPr>
        <p:spPr>
          <a:xfrm>
            <a:off x="1619280" y="5516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Line 6"/>
          <p:cNvSpPr/>
          <p:nvPr/>
        </p:nvSpPr>
        <p:spPr>
          <a:xfrm>
            <a:off x="1619280" y="5516640"/>
            <a:ext cx="187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Line 7"/>
          <p:cNvSpPr/>
          <p:nvPr/>
        </p:nvSpPr>
        <p:spPr>
          <a:xfrm flipV="1">
            <a:off x="3492360" y="3212640"/>
            <a:ext cx="287640" cy="230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Line 8"/>
          <p:cNvSpPr/>
          <p:nvPr/>
        </p:nvSpPr>
        <p:spPr>
          <a:xfrm flipV="1">
            <a:off x="1116000" y="2852640"/>
            <a:ext cx="144000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Line 9"/>
          <p:cNvSpPr/>
          <p:nvPr/>
        </p:nvSpPr>
        <p:spPr>
          <a:xfrm>
            <a:off x="2556000" y="2852640"/>
            <a:ext cx="143964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Line 12"/>
          <p:cNvSpPr/>
          <p:nvPr/>
        </p:nvSpPr>
        <p:spPr>
          <a:xfrm>
            <a:off x="1403280" y="3213000"/>
            <a:ext cx="23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Line 13"/>
          <p:cNvSpPr/>
          <p:nvPr/>
        </p:nvSpPr>
        <p:spPr>
          <a:xfrm>
            <a:off x="1403280" y="3500280"/>
            <a:ext cx="2305080" cy="0"/>
          </a:xfrm>
          <a:prstGeom prst="line">
            <a:avLst/>
          </a:prstGeom>
          <a:ln w="7632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Line 14"/>
          <p:cNvSpPr/>
          <p:nvPr/>
        </p:nvSpPr>
        <p:spPr>
          <a:xfrm>
            <a:off x="1476360" y="4149720"/>
            <a:ext cx="21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Line 15"/>
          <p:cNvSpPr/>
          <p:nvPr/>
        </p:nvSpPr>
        <p:spPr>
          <a:xfrm>
            <a:off x="1476360" y="4292640"/>
            <a:ext cx="21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Line 16"/>
          <p:cNvSpPr/>
          <p:nvPr/>
        </p:nvSpPr>
        <p:spPr>
          <a:xfrm>
            <a:off x="1547640" y="4437000"/>
            <a:ext cx="20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Line 17"/>
          <p:cNvSpPr/>
          <p:nvPr/>
        </p:nvSpPr>
        <p:spPr>
          <a:xfrm>
            <a:off x="1547640" y="5157720"/>
            <a:ext cx="20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Line 19"/>
          <p:cNvSpPr/>
          <p:nvPr/>
        </p:nvSpPr>
        <p:spPr>
          <a:xfrm>
            <a:off x="1619280" y="530064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Line 20"/>
          <p:cNvSpPr/>
          <p:nvPr/>
        </p:nvSpPr>
        <p:spPr>
          <a:xfrm flipH="1">
            <a:off x="3564000" y="2276640"/>
            <a:ext cx="151272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21"/>
          <p:cNvSpPr/>
          <p:nvPr/>
        </p:nvSpPr>
        <p:spPr>
          <a:xfrm flipH="1">
            <a:off x="3276360" y="2852640"/>
            <a:ext cx="172692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Line 22"/>
          <p:cNvSpPr/>
          <p:nvPr/>
        </p:nvSpPr>
        <p:spPr>
          <a:xfrm flipH="1">
            <a:off x="3564000" y="3789360"/>
            <a:ext cx="12952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Line 23"/>
          <p:cNvSpPr/>
          <p:nvPr/>
        </p:nvSpPr>
        <p:spPr>
          <a:xfrm flipH="1">
            <a:off x="3492360" y="4221000"/>
            <a:ext cx="122400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24"/>
          <p:cNvSpPr/>
          <p:nvPr/>
        </p:nvSpPr>
        <p:spPr>
          <a:xfrm flipH="1">
            <a:off x="3203640" y="4724280"/>
            <a:ext cx="151272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Line 25"/>
          <p:cNvSpPr/>
          <p:nvPr/>
        </p:nvSpPr>
        <p:spPr>
          <a:xfrm flipH="1">
            <a:off x="3419640" y="5229360"/>
            <a:ext cx="129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26"/>
          <p:cNvSpPr/>
          <p:nvPr/>
        </p:nvSpPr>
        <p:spPr>
          <a:xfrm flipH="1" flipV="1">
            <a:off x="3347640" y="5444640"/>
            <a:ext cx="136836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8" dur="indefinite" restart="never" nodeType="tmRoot">
          <p:childTnLst>
            <p:seq>
              <p:cTn id="1119" dur="indefinite" nodeType="mainSeq">
                <p:childTnLst>
                  <p:par>
                    <p:cTn id="1120" nodeType="clickEffect" fill="hold">
                      <p:stCondLst>
                        <p:cond delay="indefinite"/>
                      </p:stCondLst>
                      <p:childTnLst>
                        <p:par>
                          <p:cTn id="1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nodeType="clickEffect" fill="hold">
                      <p:stCondLst>
                        <p:cond delay="indefinite"/>
                      </p:stCondLst>
                      <p:childTnLst>
                        <p:par>
                          <p:cTn id="1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nodeType="clickEffect" fill="hold">
                      <p:stCondLst>
                        <p:cond delay="indefinite"/>
                      </p:stCondLst>
                      <p:childTnLst>
                        <p:par>
                          <p:cTn id="1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5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nodeType="clickEffect" fill="hold">
                      <p:stCondLst>
                        <p:cond delay="indefinite"/>
                      </p:stCondLst>
                      <p:childTnLst>
                        <p:par>
                          <p:cTn id="1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0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nodeType="clickEffect" fill="hold">
                      <p:stCondLst>
                        <p:cond delay="indefinite"/>
                      </p:stCondLst>
                      <p:childTnLst>
                        <p:par>
                          <p:cTn id="1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5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" nodeType="clickEffect" fill="hold">
                      <p:stCondLst>
                        <p:cond delay="indefinite"/>
                      </p:stCondLst>
                      <p:childTnLst>
                        <p:par>
                          <p:cTn id="1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0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nodeType="clickEffect" fill="hold">
                      <p:stCondLst>
                        <p:cond delay="indefinite"/>
                      </p:stCondLst>
                      <p:childTnLst>
                        <p:par>
                          <p:cTn id="1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5" dur="5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6" nodeType="clickEffect" fill="hold">
                      <p:stCondLst>
                        <p:cond delay="indefinite"/>
                      </p:stCondLst>
                      <p:childTnLst>
                        <p:par>
                          <p:cTn id="1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0" dur="500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nodeType="clickEffect" fill="hold">
                      <p:stCondLst>
                        <p:cond delay="indefinite"/>
                      </p:stCondLst>
                      <p:childTnLst>
                        <p:par>
                          <p:cTn id="1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5" dur="500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nodeType="clickEffect" fill="hold">
                      <p:stCondLst>
                        <p:cond delay="indefinite"/>
                      </p:stCondLst>
                      <p:childTnLst>
                        <p:par>
                          <p:cTn id="1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0" dur="500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cycling Types of Was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lastic   comes mainly from packaging as it is strong and lightweight.Also some comes from broken toys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etal waste mainly from food and drinks cans.Also from old pots and pa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lass waste from bottles and other containers.Costs a lot to make from sand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aper comes mainly from newspapers and packag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shes from coal fires but no longer a great amount of waste because most people now have central heat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ags small amount of waste from old cloth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imal and vegetable waste from food main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1" dur="indefinite" restart="never" nodeType="tmRoot">
          <p:childTnLst>
            <p:seq>
              <p:cTn id="1172" dur="indefinite" nodeType="mainSeq">
                <p:childTnLst>
                  <p:par>
                    <p:cTn id="1173" nodeType="clickEffect" fill="hold">
                      <p:stCondLst>
                        <p:cond delay="indefinite"/>
                      </p:stCondLst>
                      <p:childTnLst>
                        <p:par>
                          <p:cTn id="1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77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nodeType="clickEffect" fill="hold">
                      <p:stCondLst>
                        <p:cond delay="indefinite"/>
                      </p:stCondLst>
                      <p:childTnLst>
                        <p:par>
                          <p:cTn id="1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2" dur="20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nodeType="clickEffect" fill="hold">
                      <p:stCondLst>
                        <p:cond delay="indefinite"/>
                      </p:stCondLst>
                      <p:childTnLst>
                        <p:par>
                          <p:cTn id="1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7" dur="20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" nodeType="clickEffect" fill="hold">
                      <p:stCondLst>
                        <p:cond delay="indefinite"/>
                      </p:stCondLst>
                      <p:childTnLst>
                        <p:par>
                          <p:cTn id="1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2" dur="20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nodeType="clickEffect" fill="hold">
                      <p:stCondLst>
                        <p:cond delay="indefinite"/>
                      </p:stCondLst>
                      <p:childTnLst>
                        <p:par>
                          <p:cTn id="1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7" dur="2000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8" nodeType="clickEffect" fill="hold">
                      <p:stCondLst>
                        <p:cond delay="indefinite"/>
                      </p:stCondLst>
                      <p:childTnLst>
                        <p:par>
                          <p:cTn id="1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02" dur="2000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nodeType="clickEffect" fill="hold">
                      <p:stCondLst>
                        <p:cond delay="indefinite"/>
                      </p:stCondLst>
                      <p:childTnLst>
                        <p:par>
                          <p:cTn id="1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07" dur="2000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8" nodeType="clickEffect" fill="hold">
                      <p:stCondLst>
                        <p:cond delay="indefinite"/>
                      </p:stCondLst>
                      <p:childTnLst>
                        <p:par>
                          <p:cTn id="1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2" dur="2000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3" nodeType="clickEffect" fill="hold">
                      <p:stCondLst>
                        <p:cond delay="indefinite"/>
                      </p:stCondLst>
                      <p:childTnLst>
                        <p:par>
                          <p:cTn id="1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nodeType="clickEffect" fill="hold">
                      <p:stCondLst>
                        <p:cond delay="indefinite"/>
                      </p:stCondLst>
                      <p:childTnLst>
                        <p:par>
                          <p:cTn id="1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3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4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nodeType="clickEffect" fill="hold">
                      <p:stCondLst>
                        <p:cond delay="indefinite"/>
                      </p:stCondLst>
                      <p:childTnLst>
                        <p:par>
                          <p:cTn id="1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9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0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nodeType="clickEffect" fill="hold">
                      <p:stCondLst>
                        <p:cond delay="indefinite"/>
                      </p:stCondLst>
                      <p:childTnLst>
                        <p:par>
                          <p:cTn id="1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5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6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7" nodeType="clickEffect" fill="hold">
                      <p:stCondLst>
                        <p:cond delay="indefinite"/>
                      </p:stCondLst>
                      <p:childTnLst>
                        <p:par>
                          <p:cTn id="1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1" dur="5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2" dur="5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nodeType="clickEffect" fill="hold">
                      <p:stCondLst>
                        <p:cond delay="indefinite"/>
                      </p:stCondLst>
                      <p:childTnLst>
                        <p:par>
                          <p:cTn id="1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7" dur="5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8" dur="5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nodeType="clickEffect" fill="hold">
                      <p:stCondLst>
                        <p:cond delay="indefinite"/>
                      </p:stCondLst>
                      <p:childTnLst>
                        <p:par>
                          <p:cTn id="1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3" dur="500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4" dur="500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5" nodeType="clickEffect" fill="hold">
                      <p:stCondLst>
                        <p:cond delay="indefinite"/>
                      </p:stCondLst>
                      <p:childTnLst>
                        <p:par>
                          <p:cTn id="1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9" dur="500" fill="hold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0" dur="500" fill="hold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WordArt 4"/>
          <p:cNvSpPr txBox="1"/>
          <p:nvPr/>
        </p:nvSpPr>
        <p:spPr>
          <a:xfrm>
            <a:off x="3429000" y="304920"/>
            <a:ext cx="262908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70" name="WordArt 5"/>
          <p:cNvSpPr txBox="1"/>
          <p:nvPr/>
        </p:nvSpPr>
        <p:spPr>
          <a:xfrm>
            <a:off x="2133720" y="1447920"/>
            <a:ext cx="49719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ood chains and food webs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1" name="Picture 7" descr=""/>
          <p:cNvPicPr/>
          <p:nvPr/>
        </p:nvPicPr>
        <p:blipFill>
          <a:blip r:embed="rId1"/>
          <a:stretch/>
        </p:blipFill>
        <p:spPr>
          <a:xfrm>
            <a:off x="914400" y="2514600"/>
            <a:ext cx="2057400" cy="18288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9" descr=""/>
          <p:cNvPicPr/>
          <p:nvPr/>
        </p:nvPicPr>
        <p:blipFill>
          <a:blip r:embed="rId2"/>
          <a:stretch/>
        </p:blipFill>
        <p:spPr>
          <a:xfrm>
            <a:off x="5410080" y="2514600"/>
            <a:ext cx="2057400" cy="18288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0" descr=""/>
          <p:cNvPicPr/>
          <p:nvPr/>
        </p:nvPicPr>
        <p:blipFill>
          <a:blip r:embed="rId3"/>
          <a:stretch/>
        </p:blipFill>
        <p:spPr>
          <a:xfrm>
            <a:off x="990720" y="4724280"/>
            <a:ext cx="2057400" cy="18288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1" descr=""/>
          <p:cNvPicPr/>
          <p:nvPr/>
        </p:nvPicPr>
        <p:blipFill>
          <a:blip r:embed="rId4"/>
          <a:stretch/>
        </p:blipFill>
        <p:spPr>
          <a:xfrm>
            <a:off x="5410080" y="4724280"/>
            <a:ext cx="2057400" cy="182880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12"/>
          <p:cNvSpPr/>
          <p:nvPr/>
        </p:nvSpPr>
        <p:spPr>
          <a:xfrm>
            <a:off x="3657600" y="5410080"/>
            <a:ext cx="976320" cy="486000"/>
          </a:xfrm>
          <a:prstGeom prst="leftArrow">
            <a:avLst>
              <a:gd name="adj1" fmla="val 50000"/>
              <a:gd name="adj2" fmla="val 5022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13"/>
          <p:cNvSpPr/>
          <p:nvPr/>
        </p:nvSpPr>
        <p:spPr>
          <a:xfrm rot="2783400">
            <a:off x="3884760" y="4191840"/>
            <a:ext cx="486000" cy="976320"/>
          </a:xfrm>
          <a:prstGeom prst="upArrow">
            <a:avLst>
              <a:gd name="adj1" fmla="val 50000"/>
              <a:gd name="adj2" fmla="val 5022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AutoShape 14"/>
          <p:cNvSpPr/>
          <p:nvPr/>
        </p:nvSpPr>
        <p:spPr>
          <a:xfrm>
            <a:off x="3581280" y="3352680"/>
            <a:ext cx="976320" cy="486000"/>
          </a:xfrm>
          <a:prstGeom prst="leftArrow">
            <a:avLst>
              <a:gd name="adj1" fmla="val 50000"/>
              <a:gd name="adj2" fmla="val 5022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15"/>
          <p:cNvSpPr/>
          <p:nvPr/>
        </p:nvSpPr>
        <p:spPr>
          <a:xfrm>
            <a:off x="7604280" y="5299200"/>
            <a:ext cx="63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ea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16"/>
          <p:cNvSpPr/>
          <p:nvPr/>
        </p:nvSpPr>
        <p:spPr>
          <a:xfrm>
            <a:off x="3108240" y="598500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arthw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7"/>
          <p:cNvSpPr/>
          <p:nvPr/>
        </p:nvSpPr>
        <p:spPr>
          <a:xfrm>
            <a:off x="7605720" y="331776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hr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18"/>
          <p:cNvSpPr/>
          <p:nvPr/>
        </p:nvSpPr>
        <p:spPr>
          <a:xfrm>
            <a:off x="3033720" y="278460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w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WordArt 5"/>
          <p:cNvSpPr txBox="1"/>
          <p:nvPr/>
        </p:nvSpPr>
        <p:spPr>
          <a:xfrm>
            <a:off x="3505320" y="228600"/>
            <a:ext cx="262872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83" name="Text Box 10"/>
          <p:cNvSpPr/>
          <p:nvPr/>
        </p:nvSpPr>
        <p:spPr>
          <a:xfrm>
            <a:off x="740880" y="2174760"/>
            <a:ext cx="707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 example of a food web can be seen on the next sli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WordArt 11"/>
          <p:cNvSpPr txBox="1"/>
          <p:nvPr/>
        </p:nvSpPr>
        <p:spPr>
          <a:xfrm>
            <a:off x="3809880" y="1523880"/>
            <a:ext cx="19144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ood webs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838188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WordArt 4"/>
          <p:cNvSpPr txBox="1"/>
          <p:nvPr/>
        </p:nvSpPr>
        <p:spPr>
          <a:xfrm>
            <a:off x="3429000" y="228600"/>
            <a:ext cx="275256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87" name="WordArt 5"/>
          <p:cNvSpPr txBox="1"/>
          <p:nvPr/>
        </p:nvSpPr>
        <p:spPr>
          <a:xfrm>
            <a:off x="2438280" y="1295280"/>
            <a:ext cx="430560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FOOD CHAINS AND WEB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1306800" y="2209680"/>
            <a:ext cx="64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NERGY LOSS IN FOOD CHAINS AND WE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85320" y="2936880"/>
            <a:ext cx="8870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more steps we have in a food chain ,the the less  ener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s used for growth.Most of the energy is used for mov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 to keep things wa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further up a food chain we go,the less animals there 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od webs are all the chains in a habitat put toge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od webs allow us to study environmental chan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WordArt 4"/>
          <p:cNvSpPr txBox="1"/>
          <p:nvPr/>
        </p:nvSpPr>
        <p:spPr>
          <a:xfrm>
            <a:off x="3505320" y="304920"/>
            <a:ext cx="262872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91" name="WordArt 5"/>
          <p:cNvSpPr txBox="1"/>
          <p:nvPr/>
        </p:nvSpPr>
        <p:spPr>
          <a:xfrm>
            <a:off x="2666880" y="1371600"/>
            <a:ext cx="37623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changing food web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68040" y="2403360"/>
            <a:ext cx="90824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ome food webs can change for short periods e.g. when t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s a shortage of rain ,a river bed may dry up but the plant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imal life will surv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en conditions are changed permanently, some anim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n be lost forever.They are said to be extin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imals adapt to their environments, e.g. worms like dark da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ditions.Try to think of other exa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od webs can be changed in several wa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WordArt 4"/>
          <p:cNvSpPr txBox="1"/>
          <p:nvPr/>
        </p:nvSpPr>
        <p:spPr>
          <a:xfrm>
            <a:off x="3429000" y="304920"/>
            <a:ext cx="262908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94" name="WordArt 5"/>
          <p:cNvSpPr txBox="1"/>
          <p:nvPr/>
        </p:nvSpPr>
        <p:spPr>
          <a:xfrm>
            <a:off x="2590920" y="1371600"/>
            <a:ext cx="3733560" cy="80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changing food web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2819520" y="243828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ASONS FOR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91800" y="2895480"/>
            <a:ext cx="8956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EDATION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Predators that eat smaller animals mean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se smaller animals breed more quick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ISEASE                Disease in an area can mean that the lack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ne type of animal can affect other typ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ETITION      The introduction of one type of animal c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population of another type.The red squirrel population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ritain has went down due to the introduction of the gr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quirr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4T15:05:33Z</dcterms:created>
  <dc:creator>Physics Department</dc:creator>
  <dc:description>environments food living things energy</dc:description>
  <cp:keywords>environments food living things energy</cp:keywords>
  <dc:language>en-US</dc:language>
  <cp:lastModifiedBy>RK</cp:lastModifiedBy>
  <dcterms:modified xsi:type="dcterms:W3CDTF">2015-12-11T14:28:42Z</dcterms:modified>
  <cp:revision>47</cp:revision>
  <dc:subject>environments food living things energy</dc:subject>
  <dc:title>environments food living things energy</dc:title>
</cp:coreProperties>
</file>