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wmf" ContentType="image/x-wmf"/>
  <Override PartName="/ppt/media/image3.wmf" ContentType="image/x-wmf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4DD5-62AB-41AB-A184-63ED684D0E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4C8-2563-44CA-9A81-B79EDD12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6C6-53CD-45EE-BE9F-37E674C4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61E-6CFE-4096-85B0-6739DE21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05F-C02E-427F-945C-C167AC73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046-B53C-4E70-8B9B-DF7217CE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3D4-E46F-4D2A-BC7A-F55568A8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BAE-5B8A-49C9-983F-113B8007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0FE-05AA-4D48-B8FD-7AE2E67E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BD0-CAE5-458E-A3D0-EAB5AEE6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681-57D6-4388-B263-6F513C1F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4F0-E030-40D0-9EFE-F0DB1669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080-104D-4F51-8B65-11E99B02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6264-A2F4-4211-AD74-D139F0E4A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ndsofblackwater.org/large_wall.jpg&amp;imgrefurl=http://www.friendsofblackwater.org/osprey_cam_blog/archives/2004/06/index.html&amp;h=768&amp;w=1024&amp;sz=188&amp;hl=en&amp;start=1&amp;tbnid=YItlN5aWyZVZvM:&amp;tbnh=113&amp;tbnw=150&amp;prev=/images%3Fq%3Dospreys%26svnum%3D10%26hl%3Den%26lr%3D%26ie%3DUTF-8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radium.weblisher.no/institute/images/news/GreenFly.gif&amp;imgrefurl=http://radium.no/institute/index.php%3Fk%3Dinstitute%252FNews_articles%26aid%3D4358&amp;h=698&amp;w=943&amp;sz=302&amp;hl=en&amp;start=7&amp;tbnid=pVx4DdFwb3pgWM:&amp;tbnh=110&amp;tbnw=148&amp;prev=/images%3Fq%3Dgreenfly%26svnum%3D10%26hl%3Den%26lr%3D%26ie%3DUTF-8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028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WordArt 1029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3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4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37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38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39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40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41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6" descr="so01038_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0160108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j0187911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bd08911_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195640" y="1557360"/>
            <a:ext cx="46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9548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50920" y="25844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large_w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724280"/>
            <a:ext cx="2293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060640"/>
            <a:ext cx="2879640" cy="2047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GreenFl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21000"/>
            <a:ext cx="21592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-spot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349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7-spot_lar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7-spot_lar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7-spot_lar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7-spot_lar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72428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7-spot_lar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472428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7-spot_lar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03640" y="393372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7-spot_larg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5636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7-spot_large"/>
          <p:cNvPicPr/>
          <p:nvPr/>
        </p:nvPicPr>
        <p:blipFill>
          <a:blip r:embed="rId19"/>
          <a:stretch/>
        </p:blipFill>
        <p:spPr>
          <a:xfrm>
            <a:off x="723600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7-spot_large"/>
          <p:cNvPicPr/>
          <p:nvPr/>
        </p:nvPicPr>
        <p:blipFill>
          <a:blip r:embed="rId20"/>
          <a:stretch/>
        </p:blipFill>
        <p:spPr>
          <a:xfrm>
            <a:off x="5003640" y="31417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7-spot_large"/>
          <p:cNvPicPr/>
          <p:nvPr/>
        </p:nvPicPr>
        <p:blipFill>
          <a:blip r:embed="rId21"/>
          <a:stretch/>
        </p:blipFill>
        <p:spPr>
          <a:xfrm>
            <a:off x="7236000" y="4724280"/>
            <a:ext cx="1152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Flu_jpg"/>
          <p:cNvPicPr/>
          <p:nvPr/>
        </p:nvPicPr>
        <p:blipFill>
          <a:blip r:embed="rId1"/>
          <a:stretch/>
        </p:blipFill>
        <p:spPr>
          <a:xfrm>
            <a:off x="5940360" y="2349360"/>
            <a:ext cx="2455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uesc_07_img0373"/>
          <p:cNvPicPr/>
          <p:nvPr/>
        </p:nvPicPr>
        <p:blipFill>
          <a:blip r:embed="rId1"/>
          <a:stretch/>
        </p:blipFill>
        <p:spPr>
          <a:xfrm>
            <a:off x="4427640" y="2421000"/>
            <a:ext cx="453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1028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WordArt 1029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Text Box 1030"/>
          <p:cNvSpPr/>
          <p:nvPr/>
        </p:nvSpPr>
        <p:spPr>
          <a:xfrm>
            <a:off x="90360" y="2327400"/>
            <a:ext cx="92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theday"/>
          <p:cNvPicPr/>
          <p:nvPr/>
        </p:nvPicPr>
        <p:blipFill>
          <a:blip r:embed="rId1"/>
          <a:stretch/>
        </p:blipFill>
        <p:spPr>
          <a:xfrm>
            <a:off x="5099040" y="1981080"/>
            <a:ext cx="331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Hurricane%20Katrina%20Response2"/>
          <p:cNvPicPr/>
          <p:nvPr/>
        </p:nvPicPr>
        <p:blipFill>
          <a:blip r:embed="rId1"/>
          <a:stretch/>
        </p:blipFill>
        <p:spPr>
          <a:xfrm>
            <a:off x="4643280" y="2852640"/>
            <a:ext cx="3721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1002famine"/>
          <p:cNvPicPr/>
          <p:nvPr/>
        </p:nvPicPr>
        <p:blipFill>
          <a:blip r:embed="rId1"/>
          <a:stretch/>
        </p:blipFill>
        <p:spPr>
          <a:xfrm>
            <a:off x="1476360" y="2205000"/>
            <a:ext cx="2492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1403280" y="3213000"/>
            <a:ext cx="216000" cy="2303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619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1619280" y="5516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3492360" y="3212640"/>
            <a:ext cx="28764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1116000" y="285264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556000" y="2852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1403280" y="321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1403280" y="3500280"/>
            <a:ext cx="230508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476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1476360" y="4292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1547640" y="443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1547640" y="5157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619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3564000" y="2276640"/>
            <a:ext cx="1512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3276360" y="2852640"/>
            <a:ext cx="1726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564000" y="378936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 flipH="1">
            <a:off x="3492360" y="422100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3203640" y="4724280"/>
            <a:ext cx="1512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 flipH="1">
            <a:off x="3419640" y="522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 flipH="1" flipV="1">
            <a:off x="3347640" y="544464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5320" y="2936880"/>
            <a:ext cx="887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040" y="2403360"/>
            <a:ext cx="908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1800" y="2895480"/>
            <a:ext cx="895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>environments food living things energy</dc:description>
  <cp:keywords>environments food living things energy</cp:keywords>
  <dc:language>en-US</dc:language>
  <cp:lastModifiedBy>RK</cp:lastModifiedBy>
  <dcterms:modified xsi:type="dcterms:W3CDTF">2015-12-11T14:28:42Z</dcterms:modified>
  <cp:revision>47</cp:revision>
  <dc:subject>environments food living things energy</dc:subject>
  <dc:title>environments food living things energy</dc:title>
</cp:coreProperties>
</file>