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70EA-2A6E-4295-87A8-488ECA1D52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C4E6-B5F6-4795-BDBF-D22FEF5DA4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63A7-3200-41F8-863F-8BE8BCCCBA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E773-818D-4149-B5A6-5DEBEC5BDA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ACF7-6E28-4861-923C-A6248675F3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B488-12D1-4815-B1CB-4EF9F1661B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A553-AEF9-40B1-8146-865FD468FF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995B-CBCA-41F6-9493-4C70FD33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8FD8-2CF1-4271-8F2D-09074980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589B-B934-4D9F-90AE-1E4291D6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54AB-A714-4B4B-AF6F-74A644FA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8A5-6FC4-4254-B46A-EE4ACA06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83FF-4C77-41B3-BE82-9A1F38B9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F889-307E-4C07-9C6B-FFB9C516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929B-FBB4-41FE-86CC-8C753CDC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8897-87DA-4BF5-93EA-93A46132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A74-DA8D-42CC-921F-E3CB0B6C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518-8824-4D15-943C-16DE70DD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46DA-2499-425D-B8C8-2AD4E373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F912-AAB5-46C7-8731-A69BE41D6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Fish, Amphibians, Reptiles, </a:t>
            </a:r>
            <a:br>
              <a:rPr sz="3500"/>
            </a:b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irds, &amp; Mammal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8680" y="2743200"/>
            <a:ext cx="2438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B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Mrs. Meredith Sa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an02542_"/>
          <p:cNvPicPr/>
          <p:nvPr/>
        </p:nvPicPr>
        <p:blipFill>
          <a:blip r:embed="rId1"/>
          <a:stretch/>
        </p:blipFill>
        <p:spPr>
          <a:xfrm>
            <a:off x="2057400" y="5029200"/>
            <a:ext cx="1676520" cy="16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an02097_"/>
          <p:cNvPicPr/>
          <p:nvPr/>
        </p:nvPicPr>
        <p:blipFill>
          <a:blip r:embed="rId2"/>
          <a:stretch/>
        </p:blipFill>
        <p:spPr>
          <a:xfrm>
            <a:off x="152280" y="2666880"/>
            <a:ext cx="1938600" cy="22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an01124_"/>
          <p:cNvPicPr/>
          <p:nvPr/>
        </p:nvPicPr>
        <p:blipFill>
          <a:blip r:embed="rId3"/>
          <a:stretch/>
        </p:blipFill>
        <p:spPr>
          <a:xfrm>
            <a:off x="4419720" y="5141880"/>
            <a:ext cx="1409760" cy="1716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62889"/>
          <p:cNvPicPr/>
          <p:nvPr/>
        </p:nvPicPr>
        <p:blipFill>
          <a:blip r:embed="rId4"/>
          <a:stretch/>
        </p:blipFill>
        <p:spPr>
          <a:xfrm>
            <a:off x="7696080" y="4952880"/>
            <a:ext cx="127008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pe02661_"/>
          <p:cNvPicPr/>
          <p:nvPr/>
        </p:nvPicPr>
        <p:blipFill>
          <a:blip r:embed="rId5"/>
          <a:stretch/>
        </p:blipFill>
        <p:spPr>
          <a:xfrm>
            <a:off x="0" y="5059440"/>
            <a:ext cx="1593720" cy="179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an00682_"/>
          <p:cNvPicPr/>
          <p:nvPr/>
        </p:nvPicPr>
        <p:blipFill>
          <a:blip r:embed="rId6"/>
          <a:stretch/>
        </p:blipFill>
        <p:spPr>
          <a:xfrm>
            <a:off x="2514600" y="2971800"/>
            <a:ext cx="2444760" cy="17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762120" y="152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imes New Roman"/>
              </a:rPr>
              <a:t>Vertebr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mbers in their heart: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s for movement: F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oduction: Lay eggs in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 that keeps them afloat: Swim b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 temperature:  Cold-bloo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the: Through g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j0405036"/>
          <p:cNvPicPr/>
          <p:nvPr/>
        </p:nvPicPr>
        <p:blipFill>
          <a:blip r:embed="rId1"/>
          <a:stretch/>
        </p:blipFill>
        <p:spPr>
          <a:xfrm>
            <a:off x="5715000" y="457200"/>
            <a:ext cx="2579760" cy="1725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j0403911"/>
          <p:cNvPicPr/>
          <p:nvPr/>
        </p:nvPicPr>
        <p:blipFill>
          <a:blip r:embed="rId2"/>
          <a:stretch/>
        </p:blipFill>
        <p:spPr>
          <a:xfrm>
            <a:off x="6781680" y="4800600"/>
            <a:ext cx="1619280" cy="1676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j0406858"/>
          <p:cNvPicPr/>
          <p:nvPr/>
        </p:nvPicPr>
        <p:blipFill>
          <a:blip r:embed="rId3"/>
          <a:stretch/>
        </p:blipFill>
        <p:spPr>
          <a:xfrm>
            <a:off x="914400" y="380880"/>
            <a:ext cx="22860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Amphib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 part of their lives in water and part on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have scales or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have tails throughout life and some lose their tail (Salamanders have tail throughout life; frogs lose their tails when they get to be ad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ecilians have no lim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gs have smooth, moist skin; Toads have rough, dry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ts have tails throughout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ans use color as camouflage and also to warn others of their d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ans burrow in the mud during winter and absorb oxygen through their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bd08718_"/>
          <p:cNvPicPr/>
          <p:nvPr/>
        </p:nvPicPr>
        <p:blipFill>
          <a:blip r:embed="rId1"/>
          <a:stretch/>
        </p:blipFill>
        <p:spPr>
          <a:xfrm>
            <a:off x="5943600" y="0"/>
            <a:ext cx="76032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j0150339"/>
          <p:cNvPicPr/>
          <p:nvPr/>
        </p:nvPicPr>
        <p:blipFill>
          <a:blip r:embed="rId2"/>
          <a:stretch/>
        </p:blipFill>
        <p:spPr>
          <a:xfrm>
            <a:off x="7475400" y="5719680"/>
            <a:ext cx="1668600" cy="113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j0406963"/>
          <p:cNvPicPr/>
          <p:nvPr/>
        </p:nvPicPr>
        <p:blipFill>
          <a:blip r:embed="rId3"/>
          <a:stretch/>
        </p:blipFill>
        <p:spPr>
          <a:xfrm>
            <a:off x="7010280" y="22860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j0409215"/>
          <p:cNvPicPr/>
          <p:nvPr/>
        </p:nvPicPr>
        <p:blipFill>
          <a:blip r:embed="rId4"/>
          <a:stretch/>
        </p:blipFill>
        <p:spPr>
          <a:xfrm>
            <a:off x="380880" y="30492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ing:Dry protective scales or 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limbs with clawed 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tles that live in water have flippers instead of clawed 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reptiles:crocodiles and allig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gs are leath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j0313902"/>
          <p:cNvPicPr/>
          <p:nvPr/>
        </p:nvPicPr>
        <p:blipFill>
          <a:blip r:embed="rId1"/>
          <a:stretch/>
        </p:blipFill>
        <p:spPr>
          <a:xfrm>
            <a:off x="5715000" y="380880"/>
            <a:ext cx="1752480" cy="139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j0314286"/>
          <p:cNvPicPr/>
          <p:nvPr/>
        </p:nvPicPr>
        <p:blipFill>
          <a:blip r:embed="rId2"/>
          <a:stretch/>
        </p:blipFill>
        <p:spPr>
          <a:xfrm>
            <a:off x="4343400" y="5105520"/>
            <a:ext cx="1752480" cy="76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0262753"/>
          <p:cNvPicPr/>
          <p:nvPr/>
        </p:nvPicPr>
        <p:blipFill>
          <a:blip r:embed="rId3"/>
          <a:stretch/>
        </p:blipFill>
        <p:spPr>
          <a:xfrm>
            <a:off x="6477120" y="5181480"/>
            <a:ext cx="2209680" cy="147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406730"/>
          <p:cNvPicPr/>
          <p:nvPr/>
        </p:nvPicPr>
        <p:blipFill>
          <a:blip r:embed="rId4"/>
          <a:stretch/>
        </p:blipFill>
        <p:spPr>
          <a:xfrm>
            <a:off x="7848720" y="0"/>
            <a:ext cx="1295280" cy="1941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H02096J"/>
          <p:cNvPicPr/>
          <p:nvPr/>
        </p:nvPicPr>
        <p:blipFill>
          <a:blip r:embed="rId5"/>
          <a:stretch/>
        </p:blipFill>
        <p:spPr>
          <a:xfrm>
            <a:off x="457200" y="304920"/>
            <a:ext cx="190512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ody Temperature: warm-blood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own feathers to keep wa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tour feathers to f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etting oxygen: though lungs and air sac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scles used to fly: Chest musc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ree ways that flying is useful: escape predators, find food, and migra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daptations for flight: tiny holes in bones to make them lighter, streamlined shape, lightweight beak, &amp; no tee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j0406520"/>
          <p:cNvPicPr/>
          <p:nvPr/>
        </p:nvPicPr>
        <p:blipFill>
          <a:blip r:embed="rId1"/>
          <a:stretch/>
        </p:blipFill>
        <p:spPr>
          <a:xfrm>
            <a:off x="5943600" y="22860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j0406517"/>
          <p:cNvPicPr/>
          <p:nvPr/>
        </p:nvPicPr>
        <p:blipFill>
          <a:blip r:embed="rId2"/>
          <a:stretch/>
        </p:blipFill>
        <p:spPr>
          <a:xfrm>
            <a:off x="1600200" y="0"/>
            <a:ext cx="1270080" cy="190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j0406859"/>
          <p:cNvPicPr/>
          <p:nvPr/>
        </p:nvPicPr>
        <p:blipFill>
          <a:blip r:embed="rId3"/>
          <a:stretch/>
        </p:blipFill>
        <p:spPr>
          <a:xfrm>
            <a:off x="6781680" y="2362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Mam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mbers in heart: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mmary glands to give milk to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live bi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otremes: lay eg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supials:pouched mammals that give live birth and babies crawl into pouches until mat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ntals: give live birth; baby attached with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8:04:23Z</dcterms:created>
  <dc:creator>Pam Tucker</dc:creator>
  <dc:description/>
  <dc:language>en-US</dc:language>
  <cp:lastModifiedBy>RK</cp:lastModifiedBy>
  <dcterms:modified xsi:type="dcterms:W3CDTF">2015-12-11T14:28:59Z</dcterms:modified>
  <cp:revision>11</cp:revision>
  <dc:subject/>
  <dc:title>Fish, Amphibians, Reptiles,  Birds, &amp; Mammals</dc:title>
</cp:coreProperties>
</file>