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chimes.wav" ContentType="audio/x-wav"/>
  <Override PartName="/ppt/media/image8.png" ContentType="image/png"/>
  <Override PartName="/ppt/media/image14.jpeg" ContentType="image/jpeg"/>
  <Override PartName="/ppt/media/image16.wmf" ContentType="image/x-wmf"/>
  <Override PartName="/ppt/media/image22.png" ContentType="image/png"/>
  <Override PartName="/ppt/media/image5.png" ContentType="image/png"/>
  <Override PartName="/ppt/media/image6.jpeg" ContentType="image/jpeg"/>
  <Override PartName="/ppt/media/image10.png" ContentType="image/png"/>
  <Override PartName="/ppt/media/image20.png" ContentType="image/png"/>
  <Override PartName="/ppt/media/image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7D8E-7FC0-4064-9CAA-82215DEAE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2025-EFFF-4394-8A31-6ADEF6E3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70F4-2286-4564-A1AD-AC9BDF507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B7C3-1854-4278-B005-45543C020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952A-88C1-41FB-92F8-CEDBEACF1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E345-5EAD-44DB-8B8D-24BF14CE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0933-12F0-47C7-AB4F-E4B4536A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0AF9-F5D8-489A-A558-DD2A5C8E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367D-FFDA-4C11-B26F-3239D31A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1DC9B-B0E5-4D1A-A055-309583A6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FF73-FA6B-4CA5-8A1B-4BE730B1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8BB3-3737-42B7-ACF6-D32A2377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2DC2-034D-4437-9224-04BD9C30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F8C3-5422-4AC0-A8A9-9C5664DD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B2FB-5AF7-4A5B-AE8E-FBBE7FF7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39EB5-8729-4567-AE5A-7ADA77979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4DED-E573-4DF4-A6E6-84A2CB67E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2A22-F40C-45DF-8EF1-71D599BA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BDAC-2F43-4DBB-A5A9-E7654E54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5F8B-A53B-4D9A-B5FD-EC6E6268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B1D7-8420-4CB2-8414-D2EFDFE0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339C-EF3E-49FA-9ACA-B3588806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BE87-26C7-4B54-9333-B5F9723C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5ED7-7692-439B-91BB-F7847B94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amboo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9A08-B20C-4D90-BFE9-4297EDE4D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bamboo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79CA-77E2-49E8-BD59-392A0803C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1828440"/>
            <a:ext cx="62481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Food Produc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Action in Pla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104400"/>
            <a:ext cx="746748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00"/>
                </a:solidFill>
                <a:latin typeface="Arial Black"/>
              </a:rPr>
              <a:t>How does the water get into plants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114800" y="152388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er is absorbed through root hair cells by </a:t>
            </a: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osm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osmosis </a:t>
            </a:r>
            <a:r>
              <a:rPr b="0" lang="en-GB" sz="2800" spc="-1" strike="noStrike">
                <a:solidFill>
                  <a:srgbClr val="66ccff"/>
                </a:solidFill>
                <a:latin typeface="Arial"/>
              </a:rPr>
              <a:t>water moves from an area of </a:t>
            </a:r>
            <a:r>
              <a:rPr b="0" lang="en-GB" sz="2800" spc="-1" strike="noStrike" u="sng">
                <a:solidFill>
                  <a:srgbClr val="3333ff"/>
                </a:solidFill>
                <a:uFillTx/>
                <a:latin typeface="Arial"/>
              </a:rPr>
              <a:t>high</a:t>
            </a:r>
            <a:r>
              <a:rPr b="0" lang="en-GB" sz="2800" spc="-1" strike="noStrike">
                <a:solidFill>
                  <a:srgbClr val="66ccff"/>
                </a:solidFill>
                <a:latin typeface="Arial"/>
              </a:rPr>
              <a:t> water concentration to a region of </a:t>
            </a:r>
            <a:r>
              <a:rPr b="0" lang="en-GB" sz="2800" spc="-1" strike="noStrike" u="sng">
                <a:solidFill>
                  <a:srgbClr val="3333ff"/>
                </a:solidFill>
                <a:uFillTx/>
                <a:latin typeface="Arial"/>
              </a:rPr>
              <a:t>low</a:t>
            </a:r>
            <a:r>
              <a:rPr b="0" lang="en-GB" sz="2800" spc="-1" strike="noStrike">
                <a:solidFill>
                  <a:srgbClr val="66ccff"/>
                </a:solidFill>
                <a:latin typeface="Arial"/>
              </a:rPr>
              <a:t> water concentr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11"/>
          <p:cNvGraphicFramePr/>
          <p:nvPr/>
        </p:nvGraphicFramePr>
        <p:xfrm>
          <a:off x="0" y="1676520"/>
          <a:ext cx="4419720" cy="38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4419720" cy="38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Text Box 12"/>
          <p:cNvSpPr/>
          <p:nvPr/>
        </p:nvSpPr>
        <p:spPr>
          <a:xfrm>
            <a:off x="380880" y="5638680"/>
            <a:ext cx="7162920" cy="825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root hair cell has a large surface area and thin walls to help water upt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Osmosi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123" name="Object 11"/>
          <p:cNvGraphicFramePr/>
          <p:nvPr/>
        </p:nvGraphicFramePr>
        <p:xfrm>
          <a:off x="304920" y="1066680"/>
          <a:ext cx="6933960" cy="529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6933960" cy="52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12"/>
          <p:cNvGraphicFramePr/>
          <p:nvPr/>
        </p:nvGraphicFramePr>
        <p:xfrm>
          <a:off x="4876920" y="3124080"/>
          <a:ext cx="2512800" cy="284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3124080"/>
                    <a:ext cx="251280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Line 13"/>
          <p:cNvSpPr/>
          <p:nvPr/>
        </p:nvSpPr>
        <p:spPr>
          <a:xfrm>
            <a:off x="3505320" y="32004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4"/>
          <p:cNvSpPr/>
          <p:nvPr/>
        </p:nvSpPr>
        <p:spPr>
          <a:xfrm>
            <a:off x="3505320" y="40384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5"/>
          <p:cNvSpPr/>
          <p:nvPr/>
        </p:nvSpPr>
        <p:spPr>
          <a:xfrm>
            <a:off x="3581280" y="510552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1676520" y="60199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lectively permeable memb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319680"/>
            <a:ext cx="746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Why is water needed in plants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ater is required for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ater is needed to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maintain turgidity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i.e. to keep plants cells rigid and to stop them from losing their shape and going flaccid (flopp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vaporation of water through stomata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cool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the plant down on a hot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7467480" cy="4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00"/>
                </a:solidFill>
                <a:latin typeface="Arial Black"/>
              </a:rPr>
              <a:t>Transporting substances inside the plant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266720" y="990360"/>
            <a:ext cx="3505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Xy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Xylem tissue is made up of </a:t>
            </a:r>
            <a:r>
              <a:rPr b="1" lang="en-GB" sz="2400" spc="-1" strike="noStrike" u="sng">
                <a:solidFill>
                  <a:srgbClr val="ff3300"/>
                </a:solidFill>
                <a:uFillTx/>
                <a:latin typeface="Arial"/>
              </a:rPr>
              <a:t>dead cell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joined end to end (with no ‘end walls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Xylem tubes contain </a:t>
            </a:r>
            <a:r>
              <a:rPr b="1" lang="en-GB" sz="2400" spc="-1" strike="noStrike" u="sng">
                <a:solidFill>
                  <a:srgbClr val="008000"/>
                </a:solidFill>
                <a:uFillTx/>
                <a:latin typeface="Arial"/>
              </a:rPr>
              <a:t>lignin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which makes them strong and sti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Xylem tubes take </a:t>
            </a:r>
            <a:r>
              <a:rPr b="1" lang="en-GB" sz="2400" spc="-1" strike="noStrike" u="sng">
                <a:solidFill>
                  <a:srgbClr val="800080"/>
                </a:solidFill>
                <a:uFillTx/>
                <a:latin typeface="Arial"/>
              </a:rPr>
              <a:t>water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up the plant, along with </a:t>
            </a:r>
            <a:r>
              <a:rPr b="1" lang="en-GB" sz="2400" spc="-1" strike="noStrike" u="sng">
                <a:solidFill>
                  <a:srgbClr val="800080"/>
                </a:solidFill>
                <a:uFillTx/>
                <a:latin typeface="Arial"/>
              </a:rPr>
              <a:t>mineral salt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dissolved in the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7"/>
          <p:cNvGraphicFramePr/>
          <p:nvPr/>
        </p:nvGraphicFramePr>
        <p:xfrm>
          <a:off x="0" y="1905120"/>
          <a:ext cx="4191120" cy="331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4191120" cy="33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334800"/>
            <a:ext cx="746748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 Black"/>
              </a:rPr>
              <a:t>Phloem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hloem tubes are made of </a:t>
            </a:r>
            <a:r>
              <a:rPr b="1" lang="en-GB" sz="2400" spc="-1" strike="noStrike" u="sng">
                <a:solidFill>
                  <a:srgbClr val="ff3300"/>
                </a:solidFill>
                <a:uFillTx/>
                <a:latin typeface="Arial"/>
              </a:rPr>
              <a:t>living cell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with </a:t>
            </a:r>
            <a:r>
              <a:rPr b="1" lang="en-GB" sz="2400" spc="-1" strike="noStrike">
                <a:solidFill>
                  <a:srgbClr val="009900"/>
                </a:solidFill>
                <a:latin typeface="Arial"/>
              </a:rPr>
              <a:t>perforated end-plate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(to let substances pass throug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hloem tubes transport </a:t>
            </a:r>
            <a:r>
              <a:rPr b="1" lang="en-GB" sz="2400" spc="-1" strike="noStrike">
                <a:solidFill>
                  <a:srgbClr val="009900"/>
                </a:solidFill>
                <a:latin typeface="Arial"/>
              </a:rPr>
              <a:t>food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made in the leaves to all other parts of the p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ubstances such as </a:t>
            </a:r>
            <a:r>
              <a:rPr b="1" lang="en-GB" sz="2400" spc="-1" strike="noStrike">
                <a:solidFill>
                  <a:srgbClr val="009900"/>
                </a:solidFill>
                <a:latin typeface="Arial"/>
              </a:rPr>
              <a:t>starch, fats and protein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are carried by phloem to the growing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shoot tip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root tip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, and to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storage organ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in the 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hloem can transport food in </a:t>
            </a:r>
            <a:r>
              <a:rPr b="1" lang="en-GB" sz="2400" spc="-1" strike="noStrike">
                <a:solidFill>
                  <a:srgbClr val="009900"/>
                </a:solidFill>
                <a:latin typeface="Arial"/>
              </a:rPr>
              <a:t>both di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72880"/>
            <a:ext cx="746748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00"/>
                </a:solidFill>
                <a:latin typeface="Arial Black"/>
              </a:rPr>
              <a:t>Phloem tubes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140" name="Object 4"/>
          <p:cNvGraphicFramePr/>
          <p:nvPr/>
        </p:nvGraphicFramePr>
        <p:xfrm>
          <a:off x="2666880" y="990720"/>
          <a:ext cx="2324160" cy="52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990720"/>
                    <a:ext cx="2324160" cy="52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929160"/>
            <a:ext cx="7467480" cy="82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Arial Black"/>
              </a:rPr>
              <a:t>A cross-section through a stem, stained to show the phloem and xylem vessel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828800" y="2335320"/>
          <a:ext cx="4419720" cy="29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335320"/>
                    <a:ext cx="4419720" cy="29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 Black"/>
              </a:rPr>
              <a:t>What else can get out of leaves through the stomata?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9112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er is lost through the stomata during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tran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8"/>
          <p:cNvGraphicFramePr/>
          <p:nvPr/>
        </p:nvGraphicFramePr>
        <p:xfrm>
          <a:off x="228600" y="1965240"/>
          <a:ext cx="3962520" cy="37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65240"/>
                    <a:ext cx="3962520" cy="37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What is transpiration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piration is the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constant flow of water up the p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caused by the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evaporation of wat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rom the plant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through the 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creates a slight shortage of water in the leaf, which causes more water to be drawn up into the leaf from the rest of the p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in turn results in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more water being drawn in through the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Why is transpiration useful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transports mineral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from the 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cool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the pla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transpiration"/>
          <p:cNvPicPr/>
          <p:nvPr/>
        </p:nvPicPr>
        <p:blipFill>
          <a:blip r:embed="rId1"/>
          <a:stretch/>
        </p:blipFill>
        <p:spPr>
          <a:xfrm>
            <a:off x="228600" y="2190600"/>
            <a:ext cx="36957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Plant cell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4038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t cells contain a jelly-like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ytopl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y all have a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y usually have a sap-filled vacu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cell is surrounded by a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ell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round the cell membrane there is a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ellulose cell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t cells in green parts of a plant like leaves also contain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hloropl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plant cells"/>
          <p:cNvPicPr/>
          <p:nvPr/>
        </p:nvPicPr>
        <p:blipFill>
          <a:blip r:embed="rId1"/>
          <a:stretch/>
        </p:blipFill>
        <p:spPr>
          <a:xfrm>
            <a:off x="4191120" y="1295280"/>
            <a:ext cx="350496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548280"/>
            <a:ext cx="7467480" cy="82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Arial Black"/>
              </a:rPr>
              <a:t>What factors can affect the rate of water loss through stomata?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66880" y="198108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r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umi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bd05670_"/>
          <p:cNvPicPr/>
          <p:nvPr/>
        </p:nvPicPr>
        <p:blipFill>
          <a:blip r:embed="rId1"/>
          <a:stretch/>
        </p:blipFill>
        <p:spPr>
          <a:xfrm>
            <a:off x="4876920" y="2133720"/>
            <a:ext cx="2819160" cy="1649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bd05214_"/>
          <p:cNvPicPr/>
          <p:nvPr/>
        </p:nvPicPr>
        <p:blipFill>
          <a:blip r:embed="rId2"/>
          <a:stretch/>
        </p:blipFill>
        <p:spPr>
          <a:xfrm>
            <a:off x="228600" y="2438280"/>
            <a:ext cx="2209680" cy="2173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na01682_"/>
          <p:cNvPicPr/>
          <p:nvPr/>
        </p:nvPicPr>
        <p:blipFill>
          <a:blip r:embed="rId3"/>
          <a:stretch/>
        </p:blipFill>
        <p:spPr>
          <a:xfrm>
            <a:off x="5029200" y="4267080"/>
            <a:ext cx="275904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240" y="319680"/>
            <a:ext cx="746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Why do plants need minerals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ts need minerals for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healthy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rge amounts of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nitrat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re needed for making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prote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maller amounts of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iro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magnesium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re needed to make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hlorophy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nitrogen deficiency &amp; chlorosis"/>
          <p:cNvPicPr/>
          <p:nvPr/>
        </p:nvPicPr>
        <p:blipFill>
          <a:blip r:embed="rId1"/>
          <a:stretch/>
        </p:blipFill>
        <p:spPr>
          <a:xfrm>
            <a:off x="3429000" y="1752480"/>
            <a:ext cx="4267080" cy="27640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8"/>
          <p:cNvSpPr/>
          <p:nvPr/>
        </p:nvSpPr>
        <p:spPr>
          <a:xfrm>
            <a:off x="3505320" y="472428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eaves showing varying amounts of magnesium de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240" y="-47880"/>
            <a:ext cx="746748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00"/>
                </a:solidFill>
                <a:latin typeface="Arial Black"/>
              </a:rPr>
              <a:t>How do plants get their minerals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lants take up some </a:t>
            </a: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dissolved mineral salt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dif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ever, diffusion will not happen if the concentration of minerals in the soil is greater inside the root (which is usually the c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f the concentration of minerals outside the root is lower than inside, then the root will take up mineral ions by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activ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se minerals are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essential for a plants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240" y="425160"/>
            <a:ext cx="746748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00"/>
                </a:solidFill>
                <a:latin typeface="Arial Black"/>
              </a:rPr>
              <a:t>What is active transport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7543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tive transport allows the plant to absorb minerals 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against a concentration grad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Energ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needed for activ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lant gets this energy from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respiration</a:t>
            </a: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4"/>
          <p:cNvGraphicFramePr/>
          <p:nvPr/>
        </p:nvGraphicFramePr>
        <p:xfrm>
          <a:off x="1295280" y="2149560"/>
          <a:ext cx="525780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149560"/>
                    <a:ext cx="525780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272880"/>
            <a:ext cx="746748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00"/>
                </a:solidFill>
                <a:latin typeface="Arial Black"/>
              </a:rPr>
              <a:t>What are plant hormones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3695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are chemicals known as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ux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xins are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plant growth horm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control the growing parts of the plant, I.e. the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tips of shoots and 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xins are made in the tips, they diffuse backwards are lilttle way, and cause cells to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longat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st behind the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Object 4"/>
          <p:cNvGraphicFramePr/>
          <p:nvPr/>
        </p:nvGraphicFramePr>
        <p:xfrm>
          <a:off x="4807080" y="1295280"/>
          <a:ext cx="22334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7080" y="1295280"/>
                    <a:ext cx="22334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4674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 Black"/>
              </a:rPr>
              <a:t>How can we use plant hormones commercially?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can put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rooting growth horm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nto the end of a cutting to make new roots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enables farmers to make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clon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desirable plants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very quic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Object 8"/>
          <p:cNvGraphicFramePr/>
          <p:nvPr/>
        </p:nvGraphicFramePr>
        <p:xfrm>
          <a:off x="3809880" y="2666880"/>
          <a:ext cx="152424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152424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9"/>
          <p:cNvGraphicFramePr/>
          <p:nvPr/>
        </p:nvGraphicFramePr>
        <p:xfrm>
          <a:off x="4076640" y="2190600"/>
          <a:ext cx="3695760" cy="369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76640" y="2190600"/>
                    <a:ext cx="3695760" cy="36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11"/>
          <p:cNvGraphicFramePr/>
          <p:nvPr/>
        </p:nvGraphicFramePr>
        <p:xfrm>
          <a:off x="4267080" y="2743200"/>
          <a:ext cx="2971800" cy="2343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2743200"/>
                    <a:ext cx="297180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240" y="218880"/>
            <a:ext cx="7467480" cy="57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 Black"/>
              </a:rPr>
              <a:t>Other uses for plant hormones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342900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Killing w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ive weedkillers have been developed using plant 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se weedkillers will broad-leaved plants (which are usually wee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038480" y="837720"/>
            <a:ext cx="3733920" cy="5334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Producing seedless fr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hormones can be applied to unpollinated fl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hormones will cause the fruit to develop and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ever, as the flower was not pollinated, no seeds will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Plant tissue cultur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9520" y="14475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rmones are added to the agar jelly that is used for culturing 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hormones will cause unspecialised cells to grow into specialised shoot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other hormone is used to cause roots to g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is an important method for agriculture and for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plant tissue culture"/>
          <p:cNvPicPr/>
          <p:nvPr/>
        </p:nvPicPr>
        <p:blipFill>
          <a:blip r:embed="rId1"/>
          <a:stretch/>
        </p:blipFill>
        <p:spPr>
          <a:xfrm>
            <a:off x="228600" y="2300400"/>
            <a:ext cx="358128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1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6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1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Animal cell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076640" y="1523880"/>
            <a:ext cx="3695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imal cells conta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nucleus,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ytopl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ell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t unlike plant cells they do not have cellulose cell walls or chloropl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1031"/>
          <p:cNvGraphicFramePr/>
          <p:nvPr/>
        </p:nvGraphicFramePr>
        <p:xfrm>
          <a:off x="228600" y="2602080"/>
          <a:ext cx="3695760" cy="28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10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602080"/>
                    <a:ext cx="3695760" cy="28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Photosynthesi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6782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This is the process by which plants produce their own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Photosynthesis occurs in the 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chloroplasts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 found in cells in le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Carbon dioxide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 is reacted with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water 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to produce 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glucose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 and 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Chlorophyll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 and </a:t>
            </a: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sunlight energy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 is required for this reaction to take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Chloroplast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cells found in leaves have lots of chloroplasts for photosynthesis to take place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photosynthesis2"/>
          <p:cNvPicPr/>
          <p:nvPr/>
        </p:nvPicPr>
        <p:blipFill>
          <a:blip r:embed="rId1"/>
          <a:stretch/>
        </p:blipFill>
        <p:spPr>
          <a:xfrm>
            <a:off x="228600" y="2762280"/>
            <a:ext cx="369576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0" y="20574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76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76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3"/>
          <p:cNvSpPr/>
          <p:nvPr/>
        </p:nvSpPr>
        <p:spPr>
          <a:xfrm>
            <a:off x="2590920" y="121932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457200"/>
            <a:ext cx="914400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</a:t>
            </a:r>
            <a:r>
              <a:rPr b="0" lang="en-GB" sz="14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Sunlight</a:t>
            </a:r>
            <a:r>
              <a:rPr b="0" lang="en-GB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&amp; </a:t>
            </a:r>
            <a:r>
              <a:rPr b="0" lang="en-GB" sz="1400" spc="-1" strike="noStrike">
                <a:solidFill>
                  <a:srgbClr val="00ff00"/>
                </a:solidFill>
                <a:latin typeface="Arial Black"/>
                <a:ea typeface="Times New Roman"/>
              </a:rPr>
              <a:t>chlorophy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O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+ H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O                 C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H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12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O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+ O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7"/>
          <p:cNvGraphicFramePr/>
          <p:nvPr/>
        </p:nvGraphicFramePr>
        <p:xfrm>
          <a:off x="876240" y="1828800"/>
          <a:ext cx="6515280" cy="44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6240" y="1828800"/>
                    <a:ext cx="651528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196920"/>
            <a:ext cx="7467480" cy="94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Arial Black"/>
              </a:rPr>
              <a:t>What factors can affect the rate of photosynthesis?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1800" spc="-1" strike="noStrike" u="sng">
                <a:solidFill>
                  <a:srgbClr val="00ff00"/>
                </a:solidFill>
                <a:uFillTx/>
                <a:latin typeface="Arial"/>
              </a:rPr>
              <a:t>concentration of carbon dioxid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will affect the rate of 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s sunlight is needed for photosynthesis, the </a:t>
            </a:r>
            <a:r>
              <a:rPr b="1" lang="en-GB" sz="1800" spc="-1" strike="noStrike" u="sng">
                <a:solidFill>
                  <a:srgbClr val="00ff00"/>
                </a:solidFill>
                <a:uFillTx/>
                <a:latin typeface="Arial"/>
              </a:rPr>
              <a:t>light intensit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will also affect the rate of 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so, the </a:t>
            </a:r>
            <a:r>
              <a:rPr b="1" lang="en-GB" sz="1800" spc="-1" strike="noStrike" u="sng">
                <a:solidFill>
                  <a:srgbClr val="00ff00"/>
                </a:solidFill>
                <a:uFillTx/>
                <a:latin typeface="Arial"/>
              </a:rPr>
              <a:t>temperatur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will also affect the rate of this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om the equation for photosynthesis we can see that the amount of water available would also affect the rate of 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3581280" y="14479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3429000" y="18288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533520" y="1219320"/>
            <a:ext cx="6400800" cy="109548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ater    +    carbon dioxide           glucose   +  oxyg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   +  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 C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+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 Black"/>
              </a:rPr>
              <a:t>The interdependance between plants and animals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Plants need to have a supply of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carbon dioxide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 in the air so they can use it fir 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Plants will give out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oxygen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 produced from photosynthesis into the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Animals need this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oxygen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 for respiration to mak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Animals produce waste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carbon dioxide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 from respiration which is put into the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 Black"/>
              </a:rPr>
              <a:t>How does carbon dioxide enter and oxygen go out of the leaves ?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 the under-side of leaves there are tiny holes called 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pecial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guard cell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are responsible for opening and closing 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2" descr="stomata6"/>
          <p:cNvPicPr/>
          <p:nvPr/>
        </p:nvPicPr>
        <p:blipFill>
          <a:blip r:embed="rId1"/>
          <a:stretch/>
        </p:blipFill>
        <p:spPr>
          <a:xfrm>
            <a:off x="228600" y="2749680"/>
            <a:ext cx="3695760" cy="2577960"/>
          </a:xfrm>
          <a:prstGeom prst="rect">
            <a:avLst/>
          </a:prstGeom>
          <a:ln w="0">
            <a:noFill/>
          </a:ln>
        </p:spPr>
      </p:pic>
      <p:sp>
        <p:nvSpPr>
          <p:cNvPr id="113" name="Line 13"/>
          <p:cNvSpPr/>
          <p:nvPr/>
        </p:nvSpPr>
        <p:spPr>
          <a:xfrm flipV="1">
            <a:off x="1447920" y="4114440"/>
            <a:ext cx="838080" cy="1600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762120" y="5638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st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5"/>
          <p:cNvSpPr/>
          <p:nvPr/>
        </p:nvSpPr>
        <p:spPr>
          <a:xfrm flipV="1">
            <a:off x="2819520" y="4723920"/>
            <a:ext cx="685800" cy="1143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2209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Guar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11:02:50Z</dcterms:created>
  <dc:creator> </dc:creator>
  <dc:description/>
  <dc:language>en-US</dc:language>
  <cp:lastModifiedBy>RK</cp:lastModifiedBy>
  <dcterms:modified xsi:type="dcterms:W3CDTF">2015-12-11T14:29:07Z</dcterms:modified>
  <cp:revision>10</cp:revision>
  <dc:subject/>
  <dc:title>Food Production &amp; the environment</dc:title>
</cp:coreProperties>
</file>