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284400" cy="69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5258880" y="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2905200" y="520200"/>
            <a:ext cx="3473280" cy="260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6597720"/>
            <a:ext cx="402264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525888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8BFA-0A4F-4039-A11A-A045A50926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0F3B-4F5F-4CE6-B4B0-900E4E4A5B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650C-A10E-4BC3-A62D-DFC1F5092C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EAD4-1ABF-4841-A496-1F5028EE05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650-383E-4B0E-B64A-1AD93A255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EE6E-84BB-492F-8A26-4C07A811FE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E8A9-1F61-4788-9E34-58A4E7E5F2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775C-67EC-4F89-BA45-959B46A117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932E-4074-4117-B13E-A5FC6807A4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B0C0-C4BD-45DF-8839-42587BC7DA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78EB-23BD-4ACD-A4BA-B56042650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EA4A-8A84-47C6-BEC7-43BBEB804B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271C-FD35-41CB-99D9-F44D4A5AD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B595-9F2F-4945-BD7B-6642E85B16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05200" y="520560"/>
            <a:ext cx="3473280" cy="26053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8800" y="3300120"/>
            <a:ext cx="7426080" cy="312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259240" y="6597720"/>
            <a:ext cx="4023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DAD2-E411-4C9C-B973-F3A41256E2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Arial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eat and Bea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o lean on protei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eats and beans give you protein to grow strong muscles and improve brain functi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Limit your meats to lean beef, chicken, and pork – you can get a lot of fat with me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5 ounces of protein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cretionary Calori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xtras for luxury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are discretionary calories?  Foods you would like to have that don’t fit in any of the other categories, or are above the recommended amounts – like birthday cake, ice cream, or cand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these foods to NO MORE than 150 calories a meal or snack – make wise choic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hysical Activity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per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at is physical activity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moderate vs. vigorous activit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licit class feedback for examples of moderate and vigorous activitie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Encourage children to use the MyPyramid Worksheet, for a week, and to eat their favorite foods in each group to meet their daily requirements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ownload the worksheet here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MyPyramid Worksheet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Discuss their findings at the end of the week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How might each child eat more healthfully?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7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ummarize the health benefits of each food group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Research on any new finding about food and health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inue keeping a food diary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trive for 60 minutes or more of physical activity every day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e will be learning about the relationship between good nutrition and health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9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rmAutofit fontScale="88000"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Arial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hart 3" descr=""/>
          <p:cNvPicPr/>
          <p:nvPr/>
        </p:nvPicPr>
        <p:blipFill>
          <a:blip r:embed="rId1"/>
          <a:stretch/>
        </p:blipFill>
        <p:spPr>
          <a:xfrm>
            <a:off x="1292400" y="1146240"/>
            <a:ext cx="6327720" cy="4565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Grain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half of your grains who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ome examples of grains are: oatmeal, wheat, rye, and barle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ole grain wheat bread is better for you than white bread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ereals are grains, like Cheerios, Mini-Wheats, and Bran Flak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should have  6 servings of grain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getables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ary your veggi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Vegetables include carrots, broccoli, beans, peppers, lettuce, and tomato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need green, orange, and red – vary your colors for the best balance of vitamins and nutrien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2½ cups of vegetable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ruit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cus on frui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contain a wide variety of vitamin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uits like pineapples, apples, oranges, peaches, apricots, and pears are readily availab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resh is best, but canned or frozen are fine out of season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1½ cups of fruit every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ils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now your fat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Oils and fats include fried food, butter or margarine, salad dressings, and milkfat in milk and chee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You should limit your fat intake, as it is linked to blood vessel disease and heart attacks, and builds up in your body over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no more than 3 servings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ilk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Get your calcium rich food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rich foods include milk and chees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alcium builds strong bones and teeth, and helps your muscles become stronge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hildren need 3 cups of milk or cheese a day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1T15:18:51Z</dcterms:created>
  <dc:creator>Ector County ISD Employee</dc:creator>
  <dc:description/>
  <dc:language>en-US</dc:language>
  <cp:lastModifiedBy>RK</cp:lastModifiedBy>
  <dcterms:modified xsi:type="dcterms:W3CDTF">2015-12-11T14:27:39Z</dcterms:modified>
  <cp:revision>44</cp:revision>
  <dc:subject/>
  <dc:title>th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8041033</vt:lpwstr>
  </property>
</Properties>
</file>